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009-C691-4BC0-A155-B7C7F3E6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497-1A13-4BC1-A770-C6A9E5B3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229-CEE6-48A8-B2AC-D19B2A6AC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6D78-AB62-4E27-9E17-6FD6298C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457-717A-4EDF-94B9-D3CAE5AF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10D-1ACA-4DDE-A5C0-72CCF8D1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585-B527-4F9A-BAAF-97F8C3B9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72A-E586-4C0C-AE4C-B4C89995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D04-FEA8-4E4C-8E33-D7128D01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1BD1-268A-48BD-86B9-EC285F93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239-CBCA-44F7-80DC-5D40FFA3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1C7-B5DB-4E6F-91C4-E24BC009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A00D-F0B5-452B-A763-4074E246B16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0"/>
            <a:ext cx="8713440" cy="6857640"/>
            <a:chOff x="179280" y="0"/>
            <a:chExt cx="8713440" cy="6857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0" t="6371" r="1909" b="24160"/>
            <a:stretch/>
          </p:blipFill>
          <p:spPr>
            <a:xfrm>
              <a:off x="179280" y="0"/>
              <a:ext cx="8713440" cy="68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918000" y="943560"/>
              <a:ext cx="3322080" cy="11235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2680" y="196200"/>
              <a:ext cx="3470040" cy="149616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240440" y="5585400"/>
              <a:ext cx="3543840" cy="127224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95280" y="189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附件</a:t>
            </a:r>
            <a:r>
              <a:rPr b="1" lang="zh-TW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05:28:51Z</dcterms:created>
  <dc:creator>user</dc:creator>
  <dc:description/>
  <dc:language>en-US</dc:language>
  <cp:lastModifiedBy>user</cp:lastModifiedBy>
  <dcterms:modified xsi:type="dcterms:W3CDTF">2011-05-20T05:59:27Z</dcterms:modified>
  <cp:revision>4</cp:revision>
  <dc:subject/>
  <dc:title>投影片 1</dc:title>
</cp:coreProperties>
</file>