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A71-0E49-44CF-9FA8-C949B646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A11-38B0-4F3B-A16E-DAB1A1E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4E0-E354-4C83-B02E-B9AF9DD9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75A-64F4-4180-B23D-ECEEC286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EF9-294C-456C-BC24-265D389A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D90-5120-453B-87AA-6EB3B30A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E73-2849-4327-B1BF-EDE673F5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0AA-4673-4320-B4E9-4C92F3D3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A57-ED70-4AF8-9CA9-6A3CE911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1A2-1CBF-444B-A6E0-3D6E880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73B-2543-407F-85E2-F3DDD87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95C-7F6D-4EAC-801A-4923B3F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3907-0497-4535-9430-925044FA559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0"/>
            <a:ext cx="8713440" cy="6857640"/>
            <a:chOff x="179280" y="0"/>
            <a:chExt cx="8713440" cy="6857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6371" r="1909" b="24160"/>
            <a:stretch/>
          </p:blipFill>
          <p:spPr>
            <a:xfrm>
              <a:off x="179280" y="0"/>
              <a:ext cx="8713440" cy="68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18000" y="943560"/>
              <a:ext cx="3322080" cy="11235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2680" y="196200"/>
              <a:ext cx="3470040" cy="1496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40440" y="5585400"/>
              <a:ext cx="3543840" cy="1272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95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附件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5:28:51Z</dcterms:created>
  <dc:creator>user</dc:creator>
  <dc:description/>
  <dc:language>en-US</dc:language>
  <cp:lastModifiedBy>user</cp:lastModifiedBy>
  <dcterms:modified xsi:type="dcterms:W3CDTF">2011-05-20T05:59:27Z</dcterms:modified>
  <cp:revision>4</cp:revision>
  <dc:subject/>
  <dc:title>投影片 1</dc:title>
</cp:coreProperties>
</file>