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DRUMROLL.WAV" ContentType="audio/x-wav"/>
  <Override PartName="/ppt/media/image7.png" ContentType="image/png"/>
  <Override PartName="/ppt/media/image6.png" ContentType="image/png"/>
  <Override PartName="/ppt/media/LASER.WAV" ContentType="audio/x-wav"/>
  <Override PartName="/ppt/media/image4.png" ContentType="image/png"/>
  <Override PartName="/ppt/media/TYPE.WAV" ContentType="audio/x-wav"/>
  <Override PartName="/ppt/media/image15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image5.png" ContentType="image/png"/>
  <Override PartName="/ppt/media/image1.png" ContentType="image/png"/>
  <Override PartName="/ppt/media/image2.png" ContentType="image/png"/>
  <Override PartName="/ppt/media/DRIVEBY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B3B-97C6-4803-B0F5-A69AB895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19C-A007-44DD-A888-516064E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FA4-2B71-43BE-A070-C66F5345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024-F567-4506-B658-F5F184D1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9B37-D471-4C51-892C-944C8B32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FC4-DEF8-4335-8853-998680F5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CBC4-E1C9-4DD3-8A3F-F212CB9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070-A049-4ADE-B504-11B29734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E151-5B63-4E33-A981-467F3383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585B-8134-4EA1-9FF0-9979F6A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EA8D-1259-4A0A-AF7B-0015B36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95D-5726-4BAA-9E44-62C3747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ABE-8BA7-4BA2-AA3D-AD99B8A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351D-61C9-4907-8F49-0D15528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7759-A9AC-47AC-A9BD-33C9F5F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8F2-494B-4252-8E0F-643C1ECC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B217-EBC9-4A2D-B90A-D7C0755D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BB4-9B06-4FC0-AF47-2C31B51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192-EFA4-4BA5-B55C-7789F2C3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3A1-86DD-4F6C-92DE-6BF390A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13C-5B28-4C01-BE4B-A787366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D6B-90CE-40E9-86B6-8D39D1B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4FA-0B4F-4B82-B525-2C0E5B91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574-B01C-4D51-83A6-660EC3F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FD33-26A9-4BD3-BD6E-A2253762536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703-752E-424C-8D83-5BB51C6A107B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Tahoma"/>
                <a:ea typeface="標楷體"/>
              </a:rPr>
              <a:t>垃圾分類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為地球盡一份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4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保麗龍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保麗龍製的便當盒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碗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匙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泡麵碗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生鮮食品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264480" y="4114800"/>
            <a:ext cx="29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竹筷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衛生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食物殘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514600" cy="129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5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一般類資源垃圾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十類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瓶罐容器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塑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玻璃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飲料紙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箔包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紙餐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塑膠餐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玩具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小家電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他廢塑膠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銅等材質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各種乾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鉛蓄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燈泡及日光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瓶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瓦斯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殺蟲劑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銅等製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機車廢輪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圈算在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4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514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這六種可以混在一起打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6.</a:t>
            </a: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其他大型家電及可回收物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大型家電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影印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音響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抽油煙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彈簧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手推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瓦斯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大型飲水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四機一腦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視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冰箱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洗衣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冷氣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廢棄車輛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廢棄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廢機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大原則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一清潔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二乾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三減少體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垃圾分好往哪兒送</a:t>
            </a: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除了第六類資源垃圾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他都可送環保局回收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舊衣類還可投舊衣回收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種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容器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鐵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鋁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塑膠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玻璃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飲料紙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鋁箔包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紙餐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塑膠餐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回收標幟還可送便利商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超商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電池類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回收標幟還可送便利商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超商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第六類垃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型家電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區清潔隊約定時間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機一腦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聯絡區清潔隊約定時間回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聯絡環保署基管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080-085-71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回收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得回饋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廢棄機車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環保署基管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080-085-71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回收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得回饋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垃圾分類要做好 ，四要不可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一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清洗乾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二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保持乾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三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減少體積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四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分類清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只要大家都做  垃圾就會減少  地球就會更漂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一份心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.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幾分鐘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.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球因你更美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玩具類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57400" y="2057400"/>
            <a:ext cx="4000680" cy="3019680"/>
            <a:chOff x="2057400" y="2057400"/>
            <a:chExt cx="4000680" cy="30196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057400" y="2590920"/>
              <a:ext cx="15922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467800" y="4495680"/>
              <a:ext cx="32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布偶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絨毛玩具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木製玩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352680" y="2590920"/>
              <a:ext cx="23907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4952880" y="2209680"/>
              <a:ext cx="11052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438280" y="2057400"/>
              <a:ext cx="312444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7924680" y="58672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小家電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70320" y="2703600"/>
            <a:ext cx="2752200" cy="2449800"/>
            <a:chOff x="3370320" y="2703600"/>
            <a:chExt cx="2752200" cy="24498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3505320" y="2703600"/>
              <a:ext cx="2057400" cy="17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9814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370320" y="4572000"/>
              <a:ext cx="27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電話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大哥大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傳真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848720" y="60199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其它廢塑膠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00160" y="2133720"/>
            <a:ext cx="5619600" cy="4179960"/>
            <a:chOff x="2000160" y="2133720"/>
            <a:chExt cx="5619600" cy="417996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514600" y="2681280"/>
              <a:ext cx="190512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104760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038480" y="3352680"/>
              <a:ext cx="129564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3124080" y="213372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000160" y="4495680"/>
              <a:ext cx="561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安全帽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塑膠軟管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塑膠地板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壓克力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腳踏墊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鞋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筆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光碟片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磁片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錄影帶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錄音帶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泡棉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旅行袋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球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花盆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機車外殼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電腦電視外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為什麼要做垃圾分類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為了減少垃圾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,</a:t>
            </a:r>
            <a:br>
              <a:rPr sz="5400"/>
            </a:b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將可用的資源再利用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垃圾丟垃圾桶就對了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Tahoma"/>
                <a:ea typeface="標楷體"/>
              </a:rPr>
              <a:t>錯</a:t>
            </a:r>
            <a:r>
              <a:rPr b="0" lang="zh-TW" sz="6000" spc="-1" strike="noStrike">
                <a:solidFill>
                  <a:srgbClr val="ff3300"/>
                </a:solidFill>
                <a:latin typeface="Tahoma"/>
                <a:ea typeface="標楷體"/>
              </a:rPr>
              <a:t>!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垃圾還分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--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可以回收的資源垃圾—清理乾淨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成六類準備回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不可以回收的垃圾—丟在垃圾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資源垃圾分六類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1" action="ppaction://hlinksldjump"/>
              </a:rPr>
              <a:t>1.舊衣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2" action="ppaction://hlinksldjump"/>
              </a:rPr>
              <a:t>2.廢紙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3" action="ppaction://hlinksldjump"/>
              </a:rPr>
              <a:t>3.乾淨塑膠袋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4" action="ppaction://hlinksldjump"/>
              </a:rPr>
              <a:t>4.保麗龍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5" action="ppaction://hlinksldjump"/>
              </a:rPr>
              <a:t>5.一般類資源垃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其他大型家電及可回收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1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舊衣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身上穿的各種舊衣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19320" y="3581280"/>
            <a:ext cx="1752480" cy="2333880"/>
            <a:chOff x="1219320" y="3581280"/>
            <a:chExt cx="1752480" cy="23338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175248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219320" y="373356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683720" y="53337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內衣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81280" y="3733920"/>
            <a:ext cx="2095560" cy="2105280"/>
            <a:chOff x="3581280" y="3733920"/>
            <a:chExt cx="2095560" cy="210528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3581280" y="3886200"/>
              <a:ext cx="2095560" cy="12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3809880" y="373392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64920" y="5257800"/>
              <a:ext cx="97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鞋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3505320"/>
            <a:ext cx="1942920" cy="2409840"/>
            <a:chOff x="6324480" y="3505320"/>
            <a:chExt cx="1942920" cy="2409840"/>
          </a:xfrm>
        </p:grpSpPr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6324480" y="3505320"/>
              <a:ext cx="194292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6400440" y="3809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947280" y="5333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帽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0773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2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廢紙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各種紙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2362320" cy="145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49080" y="4876920"/>
            <a:ext cx="24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塑膠光面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複寫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2124000" cy="18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8120" y="487692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衛生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紙尿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96080" y="58672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3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乾淨塑膠袋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各種乾淨塑膠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38920" y="3581280"/>
            <a:ext cx="25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水份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油脂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1676520" cy="129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6:10:08Z</dcterms:created>
  <dc:creator>USER</dc:creator>
  <dc:description/>
  <dc:language>en-US</dc:language>
  <cp:lastModifiedBy>USER</cp:lastModifiedBy>
  <dcterms:modified xsi:type="dcterms:W3CDTF">2012-05-20T08:50:54Z</dcterms:modified>
  <cp:revision>53</cp:revision>
  <dc:subject/>
  <dc:title>垃圾分類</dc:title>
</cp:coreProperties>
</file>