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42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9DA-9CE3-4522-BA10-0426A2FA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28B-B1C5-4D39-91FB-E0F37F04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B21-8F35-4D99-B798-681A5B11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205-E3DC-4E13-93F1-E1EDA1C8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5B5-0569-4B27-A912-D915221B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CB8-CAE9-41DD-B0C5-21216B29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BAB-B762-4697-902E-D5850D8F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DB8-03B5-43C4-9C32-3879F7D4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5E0D-D5B2-48D4-A434-7E6DDFD0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B65-03BE-477B-AB37-EE676744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BFC-403C-41C6-BD71-63AA204A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614-D677-4E5E-9AFB-DBBF0C6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88D0-2B7E-4876-B8A5-DD78E520A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"/>
          <p:cNvPicPr/>
          <p:nvPr/>
        </p:nvPicPr>
        <p:blipFill>
          <a:blip r:embed="rId2"/>
          <a:stretch/>
        </p:blipFill>
        <p:spPr>
          <a:xfrm>
            <a:off x="1187280" y="0"/>
            <a:ext cx="554364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080" y="350640"/>
            <a:ext cx="90313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如果我們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不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回收、不善加利用舊東西，那麼地球上的資源將會被用光光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"/>
          <p:cNvPicPr/>
          <p:nvPr/>
        </p:nvPicPr>
        <p:blipFill>
          <a:blip r:embed="rId2"/>
          <a:stretch/>
        </p:blipFill>
        <p:spPr>
          <a:xfrm>
            <a:off x="2408400" y="1546200"/>
            <a:ext cx="4619520" cy="49672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4"/>
          <p:cNvGrpSpPr/>
          <p:nvPr/>
        </p:nvGrpSpPr>
        <p:grpSpPr>
          <a:xfrm>
            <a:off x="2700360" y="2505240"/>
            <a:ext cx="3960720" cy="934920"/>
            <a:chOff x="2700360" y="2505240"/>
            <a:chExt cx="3960720" cy="934920"/>
          </a:xfrm>
        </p:grpSpPr>
        <p:grpSp>
          <p:nvGrpSpPr>
            <p:cNvPr id="83" name="Group 5"/>
            <p:cNvGrpSpPr/>
            <p:nvPr/>
          </p:nvGrpSpPr>
          <p:grpSpPr>
            <a:xfrm>
              <a:off x="2700360" y="2576520"/>
              <a:ext cx="2376360" cy="863640"/>
              <a:chOff x="2700360" y="2576520"/>
              <a:chExt cx="2376360" cy="863640"/>
            </a:xfrm>
          </p:grpSpPr>
          <p:pic>
            <p:nvPicPr>
              <p:cNvPr id="84" name="Picture 6" descr="tree"/>
              <p:cNvPicPr/>
              <p:nvPr/>
            </p:nvPicPr>
            <p:blipFill>
              <a:blip r:embed="rId3"/>
              <a:stretch/>
            </p:blipFill>
            <p:spPr>
              <a:xfrm>
                <a:off x="3276360" y="257652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7" descr="tree"/>
              <p:cNvPicPr/>
              <p:nvPr/>
            </p:nvPicPr>
            <p:blipFill>
              <a:blip r:embed="rId4"/>
              <a:stretch/>
            </p:blipFill>
            <p:spPr>
              <a:xfrm>
                <a:off x="3781440" y="257652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8" descr="tree"/>
              <p:cNvPicPr/>
              <p:nvPr/>
            </p:nvPicPr>
            <p:blipFill>
              <a:blip r:embed="rId5"/>
              <a:stretch/>
            </p:blipFill>
            <p:spPr>
              <a:xfrm>
                <a:off x="2700360" y="264816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9" descr="tree"/>
              <p:cNvPicPr/>
              <p:nvPr/>
            </p:nvPicPr>
            <p:blipFill>
              <a:blip r:embed="rId6"/>
              <a:stretch/>
            </p:blipFill>
            <p:spPr>
              <a:xfrm>
                <a:off x="4284360" y="257652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8" name="Picture 10" descr="tree"/>
            <p:cNvPicPr/>
            <p:nvPr/>
          </p:nvPicPr>
          <p:blipFill>
            <a:blip r:embed="rId7"/>
            <a:stretch/>
          </p:blipFill>
          <p:spPr>
            <a:xfrm>
              <a:off x="5364000" y="250524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1" descr="tree"/>
            <p:cNvPicPr/>
            <p:nvPr/>
          </p:nvPicPr>
          <p:blipFill>
            <a:blip r:embed="rId8"/>
            <a:stretch/>
          </p:blipFill>
          <p:spPr>
            <a:xfrm>
              <a:off x="5869080" y="250524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2" descr="tree"/>
            <p:cNvPicPr/>
            <p:nvPr/>
          </p:nvPicPr>
          <p:blipFill>
            <a:blip r:embed="rId9"/>
            <a:stretch/>
          </p:blipFill>
          <p:spPr>
            <a:xfrm>
              <a:off x="4788000" y="257652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13"/>
          <p:cNvGrpSpPr/>
          <p:nvPr/>
        </p:nvGrpSpPr>
        <p:grpSpPr>
          <a:xfrm>
            <a:off x="3398760" y="1887480"/>
            <a:ext cx="2881080" cy="863640"/>
            <a:chOff x="3398760" y="1887480"/>
            <a:chExt cx="2881080" cy="863640"/>
          </a:xfrm>
        </p:grpSpPr>
        <p:pic>
          <p:nvPicPr>
            <p:cNvPr id="92" name="Picture 14" descr="tree"/>
            <p:cNvPicPr/>
            <p:nvPr/>
          </p:nvPicPr>
          <p:blipFill>
            <a:blip r:embed="rId10"/>
            <a:stretch/>
          </p:blipFill>
          <p:spPr>
            <a:xfrm>
              <a:off x="3974760" y="1887480"/>
              <a:ext cx="7923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5" descr="tree"/>
            <p:cNvPicPr/>
            <p:nvPr/>
          </p:nvPicPr>
          <p:blipFill>
            <a:blip r:embed="rId11"/>
            <a:stretch/>
          </p:blipFill>
          <p:spPr>
            <a:xfrm>
              <a:off x="4479840" y="1887480"/>
              <a:ext cx="7920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6" descr="tree"/>
            <p:cNvPicPr/>
            <p:nvPr/>
          </p:nvPicPr>
          <p:blipFill>
            <a:blip r:embed="rId12"/>
            <a:stretch/>
          </p:blipFill>
          <p:spPr>
            <a:xfrm>
              <a:off x="3398760" y="195912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7" descr="tree"/>
            <p:cNvPicPr/>
            <p:nvPr/>
          </p:nvPicPr>
          <p:blipFill>
            <a:blip r:embed="rId13"/>
            <a:stretch/>
          </p:blipFill>
          <p:spPr>
            <a:xfrm>
              <a:off x="4982760" y="1887480"/>
              <a:ext cx="7923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8" descr="tree"/>
            <p:cNvPicPr/>
            <p:nvPr/>
          </p:nvPicPr>
          <p:blipFill>
            <a:blip r:embed="rId14"/>
            <a:stretch/>
          </p:blipFill>
          <p:spPr>
            <a:xfrm>
              <a:off x="5487840" y="188748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9"/>
          <p:cNvGrpSpPr/>
          <p:nvPr/>
        </p:nvGrpSpPr>
        <p:grpSpPr>
          <a:xfrm>
            <a:off x="2411280" y="3205080"/>
            <a:ext cx="4465800" cy="934920"/>
            <a:chOff x="2411280" y="3205080"/>
            <a:chExt cx="4465800" cy="934920"/>
          </a:xfrm>
        </p:grpSpPr>
        <p:grpSp>
          <p:nvGrpSpPr>
            <p:cNvPr id="98" name="Group 20"/>
            <p:cNvGrpSpPr/>
            <p:nvPr/>
          </p:nvGrpSpPr>
          <p:grpSpPr>
            <a:xfrm>
              <a:off x="2411280" y="3276360"/>
              <a:ext cx="2376360" cy="863640"/>
              <a:chOff x="2411280" y="3276360"/>
              <a:chExt cx="2376360" cy="863640"/>
            </a:xfrm>
          </p:grpSpPr>
          <p:pic>
            <p:nvPicPr>
              <p:cNvPr id="99" name="Picture 21" descr="tree"/>
              <p:cNvPicPr/>
              <p:nvPr/>
            </p:nvPicPr>
            <p:blipFill>
              <a:blip r:embed="rId15"/>
              <a:stretch/>
            </p:blipFill>
            <p:spPr>
              <a:xfrm>
                <a:off x="2987280" y="327636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22" descr="tree"/>
              <p:cNvPicPr/>
              <p:nvPr/>
            </p:nvPicPr>
            <p:blipFill>
              <a:blip r:embed="rId16"/>
              <a:stretch/>
            </p:blipFill>
            <p:spPr>
              <a:xfrm>
                <a:off x="3492360" y="327636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23" descr="tree"/>
              <p:cNvPicPr/>
              <p:nvPr/>
            </p:nvPicPr>
            <p:blipFill>
              <a:blip r:embed="rId17"/>
              <a:stretch/>
            </p:blipFill>
            <p:spPr>
              <a:xfrm>
                <a:off x="2411280" y="3348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24" descr="tree"/>
              <p:cNvPicPr/>
              <p:nvPr/>
            </p:nvPicPr>
            <p:blipFill>
              <a:blip r:embed="rId18"/>
              <a:stretch/>
            </p:blipFill>
            <p:spPr>
              <a:xfrm>
                <a:off x="3995280" y="327636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" name="Group 25"/>
            <p:cNvGrpSpPr/>
            <p:nvPr/>
          </p:nvGrpSpPr>
          <p:grpSpPr>
            <a:xfrm>
              <a:off x="4500720" y="3205080"/>
              <a:ext cx="2376360" cy="863640"/>
              <a:chOff x="4500720" y="3205080"/>
              <a:chExt cx="2376360" cy="863640"/>
            </a:xfrm>
          </p:grpSpPr>
          <p:pic>
            <p:nvPicPr>
              <p:cNvPr id="104" name="Picture 26" descr="tree"/>
              <p:cNvPicPr/>
              <p:nvPr/>
            </p:nvPicPr>
            <p:blipFill>
              <a:blip r:embed="rId19"/>
              <a:stretch/>
            </p:blipFill>
            <p:spPr>
              <a:xfrm>
                <a:off x="5076720" y="320508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27" descr="tree"/>
              <p:cNvPicPr/>
              <p:nvPr/>
            </p:nvPicPr>
            <p:blipFill>
              <a:blip r:embed="rId20"/>
              <a:stretch/>
            </p:blipFill>
            <p:spPr>
              <a:xfrm>
                <a:off x="5581800" y="32050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28" descr="tree"/>
              <p:cNvPicPr/>
              <p:nvPr/>
            </p:nvPicPr>
            <p:blipFill>
              <a:blip r:embed="rId21"/>
              <a:stretch/>
            </p:blipFill>
            <p:spPr>
              <a:xfrm>
                <a:off x="4500720" y="327672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29" descr="tree"/>
              <p:cNvPicPr/>
              <p:nvPr/>
            </p:nvPicPr>
            <p:blipFill>
              <a:blip r:embed="rId22"/>
              <a:stretch/>
            </p:blipFill>
            <p:spPr>
              <a:xfrm>
                <a:off x="6084720" y="320508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8" name="Group 30"/>
          <p:cNvGrpSpPr/>
          <p:nvPr/>
        </p:nvGrpSpPr>
        <p:grpSpPr>
          <a:xfrm>
            <a:off x="2627280" y="3967200"/>
            <a:ext cx="4465440" cy="936720"/>
            <a:chOff x="2627280" y="3967200"/>
            <a:chExt cx="4465440" cy="936720"/>
          </a:xfrm>
        </p:grpSpPr>
        <p:grpSp>
          <p:nvGrpSpPr>
            <p:cNvPr id="109" name="Group 31"/>
            <p:cNvGrpSpPr/>
            <p:nvPr/>
          </p:nvGrpSpPr>
          <p:grpSpPr>
            <a:xfrm>
              <a:off x="2627280" y="4040280"/>
              <a:ext cx="2376360" cy="863640"/>
              <a:chOff x="2627280" y="4040280"/>
              <a:chExt cx="2376360" cy="863640"/>
            </a:xfrm>
          </p:grpSpPr>
          <p:pic>
            <p:nvPicPr>
              <p:cNvPr id="110" name="Picture 32" descr="tree"/>
              <p:cNvPicPr/>
              <p:nvPr/>
            </p:nvPicPr>
            <p:blipFill>
              <a:blip r:embed="rId23"/>
              <a:stretch/>
            </p:blipFill>
            <p:spPr>
              <a:xfrm>
                <a:off x="3203280" y="404028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33" descr="tree"/>
              <p:cNvPicPr/>
              <p:nvPr/>
            </p:nvPicPr>
            <p:blipFill>
              <a:blip r:embed="rId24"/>
              <a:stretch/>
            </p:blipFill>
            <p:spPr>
              <a:xfrm>
                <a:off x="3708360" y="4040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34" descr="tree"/>
              <p:cNvPicPr/>
              <p:nvPr/>
            </p:nvPicPr>
            <p:blipFill>
              <a:blip r:embed="rId25"/>
              <a:stretch/>
            </p:blipFill>
            <p:spPr>
              <a:xfrm>
                <a:off x="2627280" y="411192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35" descr="tree"/>
              <p:cNvPicPr/>
              <p:nvPr/>
            </p:nvPicPr>
            <p:blipFill>
              <a:blip r:embed="rId26"/>
              <a:stretch/>
            </p:blipFill>
            <p:spPr>
              <a:xfrm>
                <a:off x="4211280" y="404028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Group 36"/>
            <p:cNvGrpSpPr/>
            <p:nvPr/>
          </p:nvGrpSpPr>
          <p:grpSpPr>
            <a:xfrm>
              <a:off x="4716360" y="3967200"/>
              <a:ext cx="2376360" cy="863640"/>
              <a:chOff x="4716360" y="3967200"/>
              <a:chExt cx="2376360" cy="863640"/>
            </a:xfrm>
          </p:grpSpPr>
          <p:pic>
            <p:nvPicPr>
              <p:cNvPr id="115" name="Picture 37" descr="tree"/>
              <p:cNvPicPr/>
              <p:nvPr/>
            </p:nvPicPr>
            <p:blipFill>
              <a:blip r:embed="rId27"/>
              <a:stretch/>
            </p:blipFill>
            <p:spPr>
              <a:xfrm>
                <a:off x="5292360" y="396720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38" descr="tree"/>
              <p:cNvPicPr/>
              <p:nvPr/>
            </p:nvPicPr>
            <p:blipFill>
              <a:blip r:embed="rId28"/>
              <a:stretch/>
            </p:blipFill>
            <p:spPr>
              <a:xfrm>
                <a:off x="5797440" y="39672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39" descr="tree"/>
              <p:cNvPicPr/>
              <p:nvPr/>
            </p:nvPicPr>
            <p:blipFill>
              <a:blip r:embed="rId29"/>
              <a:stretch/>
            </p:blipFill>
            <p:spPr>
              <a:xfrm>
                <a:off x="4716360" y="403884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40" descr="tree"/>
              <p:cNvPicPr/>
              <p:nvPr/>
            </p:nvPicPr>
            <p:blipFill>
              <a:blip r:embed="rId30"/>
              <a:stretch/>
            </p:blipFill>
            <p:spPr>
              <a:xfrm>
                <a:off x="6300360" y="396720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9" name="Group 41"/>
          <p:cNvGrpSpPr/>
          <p:nvPr/>
        </p:nvGrpSpPr>
        <p:grpSpPr>
          <a:xfrm>
            <a:off x="2843280" y="4572000"/>
            <a:ext cx="3962160" cy="936360"/>
            <a:chOff x="2843280" y="4572000"/>
            <a:chExt cx="3962160" cy="936360"/>
          </a:xfrm>
        </p:grpSpPr>
        <p:grpSp>
          <p:nvGrpSpPr>
            <p:cNvPr id="120" name="Group 42"/>
            <p:cNvGrpSpPr/>
            <p:nvPr/>
          </p:nvGrpSpPr>
          <p:grpSpPr>
            <a:xfrm>
              <a:off x="2843280" y="4644720"/>
              <a:ext cx="2376360" cy="863640"/>
              <a:chOff x="2843280" y="4644720"/>
              <a:chExt cx="2376360" cy="863640"/>
            </a:xfrm>
          </p:grpSpPr>
          <p:pic>
            <p:nvPicPr>
              <p:cNvPr id="121" name="Picture 43" descr="tree"/>
              <p:cNvPicPr/>
              <p:nvPr/>
            </p:nvPicPr>
            <p:blipFill>
              <a:blip r:embed="rId31"/>
              <a:stretch/>
            </p:blipFill>
            <p:spPr>
              <a:xfrm>
                <a:off x="3419280" y="464472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Picture 44" descr="tree"/>
              <p:cNvPicPr/>
              <p:nvPr/>
            </p:nvPicPr>
            <p:blipFill>
              <a:blip r:embed="rId32"/>
              <a:stretch/>
            </p:blipFill>
            <p:spPr>
              <a:xfrm>
                <a:off x="3924360" y="464472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45" descr="tree"/>
              <p:cNvPicPr/>
              <p:nvPr/>
            </p:nvPicPr>
            <p:blipFill>
              <a:blip r:embed="rId33"/>
              <a:stretch/>
            </p:blipFill>
            <p:spPr>
              <a:xfrm>
                <a:off x="2843280" y="471636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46" descr="tree"/>
              <p:cNvPicPr/>
              <p:nvPr/>
            </p:nvPicPr>
            <p:blipFill>
              <a:blip r:embed="rId34"/>
              <a:stretch/>
            </p:blipFill>
            <p:spPr>
              <a:xfrm>
                <a:off x="4427280" y="464472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Picture 47" descr="tree"/>
            <p:cNvPicPr/>
            <p:nvPr/>
          </p:nvPicPr>
          <p:blipFill>
            <a:blip r:embed="rId35"/>
            <a:stretch/>
          </p:blipFill>
          <p:spPr>
            <a:xfrm>
              <a:off x="5508720" y="457200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8" descr="tree"/>
            <p:cNvPicPr/>
            <p:nvPr/>
          </p:nvPicPr>
          <p:blipFill>
            <a:blip r:embed="rId36"/>
            <a:stretch/>
          </p:blipFill>
          <p:spPr>
            <a:xfrm>
              <a:off x="6013440" y="457200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9" descr="tree"/>
            <p:cNvPicPr/>
            <p:nvPr/>
          </p:nvPicPr>
          <p:blipFill>
            <a:blip r:embed="rId37"/>
            <a:stretch/>
          </p:blipFill>
          <p:spPr>
            <a:xfrm>
              <a:off x="4932360" y="464328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50"/>
          <p:cNvGrpSpPr/>
          <p:nvPr/>
        </p:nvGrpSpPr>
        <p:grpSpPr>
          <a:xfrm>
            <a:off x="3687840" y="5205240"/>
            <a:ext cx="2808360" cy="1008000"/>
            <a:chOff x="3687840" y="5205240"/>
            <a:chExt cx="2808360" cy="1008000"/>
          </a:xfrm>
        </p:grpSpPr>
        <p:pic>
          <p:nvPicPr>
            <p:cNvPr id="129" name="Picture 51" descr="tree"/>
            <p:cNvPicPr/>
            <p:nvPr/>
          </p:nvPicPr>
          <p:blipFill>
            <a:blip r:embed="rId38"/>
            <a:stretch/>
          </p:blipFill>
          <p:spPr>
            <a:xfrm>
              <a:off x="5703840" y="520524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2" descr="tree"/>
            <p:cNvPicPr/>
            <p:nvPr/>
          </p:nvPicPr>
          <p:blipFill>
            <a:blip r:embed="rId39"/>
            <a:stretch/>
          </p:blipFill>
          <p:spPr>
            <a:xfrm>
              <a:off x="4264200" y="5349600"/>
              <a:ext cx="7920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53" descr="tree"/>
            <p:cNvPicPr/>
            <p:nvPr/>
          </p:nvPicPr>
          <p:blipFill>
            <a:blip r:embed="rId40"/>
            <a:stretch/>
          </p:blipFill>
          <p:spPr>
            <a:xfrm>
              <a:off x="4768920" y="5349600"/>
              <a:ext cx="7923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4" descr="tree"/>
            <p:cNvPicPr/>
            <p:nvPr/>
          </p:nvPicPr>
          <p:blipFill>
            <a:blip r:embed="rId41"/>
            <a:stretch/>
          </p:blipFill>
          <p:spPr>
            <a:xfrm>
              <a:off x="3687840" y="542124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5" descr="tree"/>
            <p:cNvPicPr/>
            <p:nvPr/>
          </p:nvPicPr>
          <p:blipFill>
            <a:blip r:embed="rId42"/>
            <a:stretch/>
          </p:blipFill>
          <p:spPr>
            <a:xfrm>
              <a:off x="5272200" y="534960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013"/>
          <p:cNvPicPr/>
          <p:nvPr/>
        </p:nvPicPr>
        <p:blipFill>
          <a:blip r:embed="rId2"/>
          <a:stretch/>
        </p:blipFill>
        <p:spPr>
          <a:xfrm>
            <a:off x="1571760" y="2112840"/>
            <a:ext cx="4905360" cy="469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6526080" y="352440"/>
            <a:ext cx="86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舊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的紙可以做出</a:t>
            </a:r>
            <a:r>
              <a:rPr b="1" i="1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新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的紙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250920" y="3429000"/>
            <a:ext cx="3097080" cy="2016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把舊的紙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跟水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和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的東西混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一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348000" y="1735200"/>
            <a:ext cx="3097080" cy="14778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然後再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得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平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014-1"/>
          <p:cNvPicPr/>
          <p:nvPr/>
        </p:nvPicPr>
        <p:blipFill>
          <a:blip r:embed="rId2"/>
          <a:stretch/>
        </p:blipFill>
        <p:spPr>
          <a:xfrm>
            <a:off x="11160" y="31680"/>
            <a:ext cx="7162920" cy="6851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8183520" y="266760"/>
            <a:ext cx="8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接著可以做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236000" y="1052640"/>
            <a:ext cx="1027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各式各樣</a:t>
            </a:r>
            <a:r>
              <a:rPr b="1" i="1" lang="zh-TW" sz="4000" spc="-1" strike="noStrike">
                <a:solidFill>
                  <a:srgbClr val="ffffff"/>
                </a:solidFill>
                <a:latin typeface="Arial"/>
                <a:ea typeface="文鼎標楷注音"/>
              </a:rPr>
              <a:t>新的紙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0" y="3068640"/>
            <a:ext cx="2916360" cy="1368360"/>
          </a:xfrm>
          <a:custGeom>
            <a:avLst/>
            <a:gdLst>
              <a:gd name="textAreaLeft" fmla="*/ 665640 w 2916360"/>
              <a:gd name="textAreaRight" fmla="*/ 2250720 w 291636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衛生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1908000" y="4076640"/>
            <a:ext cx="2916360" cy="1368360"/>
          </a:xfrm>
          <a:custGeom>
            <a:avLst/>
            <a:gdLst>
              <a:gd name="textAreaLeft" fmla="*/ 665640 w 2916360"/>
              <a:gd name="textAreaRight" fmla="*/ 2250720 w 291636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包裝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2843280" y="5489640"/>
            <a:ext cx="2916000" cy="1368360"/>
          </a:xfrm>
          <a:custGeom>
            <a:avLst/>
            <a:gdLst>
              <a:gd name="textAreaLeft" fmla="*/ 665640 w 2916000"/>
              <a:gd name="textAreaRight" fmla="*/ 2250360 w 291600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破音二"/>
              </a:rPr>
              <a:t>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色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2771640" y="1413000"/>
            <a:ext cx="2916360" cy="1368360"/>
          </a:xfrm>
          <a:custGeom>
            <a:avLst/>
            <a:gdLst>
              <a:gd name="textAreaLeft" fmla="*/ 665640 w 2916360"/>
              <a:gd name="textAreaRight" fmla="*/ 2250720 w 291636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筆記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4427640" y="2349360"/>
            <a:ext cx="2916000" cy="1368720"/>
          </a:xfrm>
          <a:custGeom>
            <a:avLst/>
            <a:gdLst>
              <a:gd name="textAreaLeft" fmla="*/ 665640 w 2916000"/>
              <a:gd name="textAreaRight" fmla="*/ 2250360 w 2916000"/>
              <a:gd name="textAreaTop" fmla="*/ 312480 h 1368720"/>
              <a:gd name="textAreaBottom" fmla="*/ 10562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雞蛋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014-2"/>
          <p:cNvPicPr/>
          <p:nvPr/>
        </p:nvPicPr>
        <p:blipFill>
          <a:blip r:embed="rId2"/>
          <a:stretch/>
        </p:blipFill>
        <p:spPr>
          <a:xfrm>
            <a:off x="25560" y="2557440"/>
            <a:ext cx="3489120" cy="423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61920" y="63360"/>
            <a:ext cx="84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蘿拉說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『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媽買給我這本特別的漫畫書，叫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…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930480" y="1644480"/>
            <a:ext cx="388152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照顧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     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們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  </a:t>
            </a:r>
            <a:r>
              <a:rPr b="0" lang="zh-TW" sz="5400" spc="-1" strike="noStrike">
                <a:solidFill>
                  <a:srgbClr val="ffffff"/>
                </a:solidFill>
                <a:latin typeface="Arial"/>
                <a:ea typeface="金梅浪漫反白字"/>
              </a:rPr>
              <a:t>地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708360" y="4869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裡面有很多關於資源回收的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417240"/>
            <a:ext cx="757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於是，蘿拉決定開始做資源回收，完成集點樹，不但能照顧我們的地球，還能得到一棵真正的樹。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d3"/>
          <p:cNvPicPr/>
          <p:nvPr/>
        </p:nvPicPr>
        <p:blipFill>
          <a:blip r:embed="rId2"/>
          <a:stretch/>
        </p:blipFill>
        <p:spPr>
          <a:xfrm>
            <a:off x="1403280" y="1844640"/>
            <a:ext cx="6408720" cy="4240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iron"/>
          <p:cNvPicPr/>
          <p:nvPr/>
        </p:nvPicPr>
        <p:blipFill>
          <a:blip r:embed="rId3"/>
          <a:stretch/>
        </p:blipFill>
        <p:spPr>
          <a:xfrm>
            <a:off x="5508720" y="3213000"/>
            <a:ext cx="528480" cy="64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paper"/>
          <p:cNvPicPr/>
          <p:nvPr/>
        </p:nvPicPr>
        <p:blipFill>
          <a:blip r:embed="rId4"/>
          <a:stretch/>
        </p:blipFill>
        <p:spPr>
          <a:xfrm>
            <a:off x="5435640" y="3357720"/>
            <a:ext cx="792000" cy="501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up"/>
          <p:cNvPicPr/>
          <p:nvPr/>
        </p:nvPicPr>
        <p:blipFill>
          <a:blip r:embed="rId5"/>
          <a:stretch/>
        </p:blipFill>
        <p:spPr>
          <a:xfrm>
            <a:off x="5508720" y="3284640"/>
            <a:ext cx="5461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67052E-007 C -0.00208 -0.01272 -0.00469 -0.03445 -0.01285 -0.04416 C -0.02274 -0.05618 -0.03177 -0.07214 -0.0441 -0.08116 C -0.04809 -0.08416 -0.0526 -0.08624 -0.05694 -0.08855 C -0.06805 -0.09526 -0.07326 -0.10428 -0.0868 -0.10705 C -0.1066 -0.11098 -0.125 -0.1163 -0.14514 -0.11815 C -0.18107 -0.11722 -0.20052 -0.12 -0.23003 -0.1089 C -0.23524 -0.10705 -0.23819 -0.10798 -0.24253 -0.1052 C -0.25416 -0.09827 -0.26458 -0.0904 -0.27569 -0.083 C -0.27986 -0.08023 -0.28837 -0.07561 -0.28837 -0.07537 C -0.2993 -0.0622 -0.31302 -0.0511 -0.32153 -0.03468 C -0.32535 -0.02751 -0.32708 -0.01711 -0.33246 -0.01087 C -0.33455 0.00116 -0.33854 0.01526 -0.34357 0.0259 C -0.34531 0.03399 -0.34878 0.03884 -0.35121 0.04647 C -0.35538 0.05965 -0.34965 0.04832 -0.35607 0.05942 C -0.3625 0.08162 -0.36389 0.10659 -0.36719 0.12971 C -0.36857 0.16162 -0.36857 0.15075 -0.36857 0.16324 E">
                                      <p:cBhvr>
                                        <p:cTn id="37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21387E-006 C -0.01181 -0.01156 0.00173 0.00254 -0.00799 -0.01179 C -0.01285 -0.01896 -0.02292 -0.03075 -0.029 -0.03584 C -0.03351 -0.03977 -0.03542 -0.04069 -0.04011 -0.04254 C -0.04445 -0.04462 -0.05295 -0.0474 -0.05295 -0.04717 C -0.09584 -0.04509 -0.08837 -0.04694 -0.11719 -0.03329 C -0.12882 -0.02173 -0.13802 -0.01063 -0.14757 0.00486 C -0.15035 0.00902 -0.15365 0.01179 -0.15573 0.01642 C -0.16007 0.02636 -0.16563 0.03468 -0.17014 0.04486 C -0.17118 0.0474 -0.17344 0.05202 -0.17344 0.05226 C -0.17726 0.06913 -0.17188 0.04832 -0.17986 0.06613 C -0.18073 0.06821 -0.18073 0.07122 -0.18143 0.0733 C -0.1823 0.07607 -0.18368 0.07792 -0.18473 0.08046 C -0.18837 0.09711 -0.18594 0.09064 -0.19098 0.1015 C -0.19202 0.1096 -0.1941 0.12555 -0.1941 0.12601 E">
                                      <p:cBhvr>
                                        <p:cTn id="37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3.2948E-006 C -0.00676 0.0363 -0.00312 0.07445 -0.00312 0.1119 E">
                                      <p:cBhvr>
                                        <p:cTn id="38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402840"/>
            <a:ext cx="75708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可是要完成集點樹，必須要每樣東西都收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標楷體"/>
              </a:rPr>
              <a:t>100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個才能完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716360" y="6597720"/>
            <a:ext cx="5032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8199360" y="1371600"/>
            <a:ext cx="16770600" cy="4746600"/>
            <a:chOff x="8199360" y="1371600"/>
            <a:chExt cx="16770600" cy="4746600"/>
          </a:xfrm>
        </p:grpSpPr>
        <p:pic>
          <p:nvPicPr>
            <p:cNvPr id="158" name="Picture 5" descr="100-2拷貝"/>
            <p:cNvPicPr/>
            <p:nvPr/>
          </p:nvPicPr>
          <p:blipFill>
            <a:blip r:embed="rId2"/>
            <a:stretch/>
          </p:blipFill>
          <p:spPr>
            <a:xfrm>
              <a:off x="13644720" y="1382760"/>
              <a:ext cx="6048360" cy="47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6" descr="100-3拷貝"/>
            <p:cNvPicPr/>
            <p:nvPr/>
          </p:nvPicPr>
          <p:blipFill>
            <a:blip r:embed="rId3"/>
            <a:stretch/>
          </p:blipFill>
          <p:spPr>
            <a:xfrm>
              <a:off x="19693080" y="1382760"/>
              <a:ext cx="5276880" cy="47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7" descr="100-1拷貝"/>
            <p:cNvPicPr/>
            <p:nvPr/>
          </p:nvPicPr>
          <p:blipFill>
            <a:blip r:embed="rId4"/>
            <a:stretch/>
          </p:blipFill>
          <p:spPr>
            <a:xfrm>
              <a:off x="8199360" y="1371600"/>
              <a:ext cx="5445360" cy="47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8"/>
          <p:cNvSpPr/>
          <p:nvPr/>
        </p:nvSpPr>
        <p:spPr>
          <a:xfrm>
            <a:off x="7164360" y="1123920"/>
            <a:ext cx="197964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8820000" y="620640"/>
            <a:ext cx="0" cy="583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-252360" y="1268280"/>
            <a:ext cx="182700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324000" y="620640"/>
            <a:ext cx="0" cy="583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306 -4.81481E-006 L -1.98316 -0.00416 E">
                                      <p:cBhvr>
                                        <p:cTn id="388" dur="10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017-1"/>
          <p:cNvPicPr/>
          <p:nvPr/>
        </p:nvPicPr>
        <p:blipFill>
          <a:blip r:embed="rId2"/>
          <a:stretch/>
        </p:blipFill>
        <p:spPr>
          <a:xfrm>
            <a:off x="0" y="3616200"/>
            <a:ext cx="3348000" cy="3241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61920" y="63360"/>
            <a:ext cx="84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每次只要你拿東西去回收，就可以在樹上貼一片葉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87520" y="1724040"/>
            <a:ext cx="84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等你的集點樹貼滿葉子，就可以得到一棵你自己的真正的樹來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種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670200" y="3789360"/>
            <a:ext cx="37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蘿拉好想要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種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樹，所以現在就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破音二"/>
              </a:rPr>
              <a:t>得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開始回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018-1"/>
          <p:cNvPicPr/>
          <p:nvPr/>
        </p:nvPicPr>
        <p:blipFill>
          <a:blip r:embed="rId2"/>
          <a:stretch/>
        </p:blipFill>
        <p:spPr>
          <a:xfrm>
            <a:off x="4456080" y="3137040"/>
            <a:ext cx="1893960" cy="3692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017-2"/>
          <p:cNvPicPr/>
          <p:nvPr/>
        </p:nvPicPr>
        <p:blipFill>
          <a:blip r:embed="rId3"/>
          <a:stretch/>
        </p:blipFill>
        <p:spPr>
          <a:xfrm>
            <a:off x="509760" y="3016080"/>
            <a:ext cx="2759040" cy="381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365040" y="955800"/>
            <a:ext cx="342756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這個箱子要裝各種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塑膠容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125960" y="936720"/>
            <a:ext cx="34272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這個箱子要裝各種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金屬瓶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018-2"/>
          <p:cNvPicPr/>
          <p:nvPr/>
        </p:nvPicPr>
        <p:blipFill>
          <a:blip r:embed="rId2"/>
          <a:stretch/>
        </p:blipFill>
        <p:spPr>
          <a:xfrm>
            <a:off x="2228760" y="3240"/>
            <a:ext cx="5083200" cy="6877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8920" y="1422360"/>
            <a:ext cx="1974960" cy="119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還有這個箱子要裝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廢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文鼎標楷注音"/>
                <a:ea typeface="文鼎標楷注音"/>
              </a:rPr>
              <a:t>小小的蘿拉能夠完成她的心願嗎</a:t>
            </a:r>
            <a:r>
              <a:rPr b="0" lang="en-US" sz="3200" spc="-1" strike="noStrike">
                <a:solidFill>
                  <a:srgbClr val="ffffff"/>
                </a:solidFill>
                <a:latin typeface="文鼎標楷注音"/>
                <a:ea typeface="文鼎標楷注音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p"/>
          <p:cNvPicPr/>
          <p:nvPr/>
        </p:nvPicPr>
        <p:blipFill>
          <a:blip r:embed="rId2"/>
          <a:stretch/>
        </p:blipFill>
        <p:spPr>
          <a:xfrm>
            <a:off x="3759120" y="1197000"/>
            <a:ext cx="4989600" cy="5805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4"/>
          <p:cNvGrpSpPr/>
          <p:nvPr/>
        </p:nvGrpSpPr>
        <p:grpSpPr>
          <a:xfrm>
            <a:off x="468000" y="907920"/>
            <a:ext cx="3382920" cy="4681800"/>
            <a:chOff x="468000" y="907920"/>
            <a:chExt cx="3382920" cy="4681800"/>
          </a:xfrm>
        </p:grpSpPr>
        <p:sp>
          <p:nvSpPr>
            <p:cNvPr id="178" name="AutoShape 5"/>
            <p:cNvSpPr/>
            <p:nvPr/>
          </p:nvSpPr>
          <p:spPr>
            <a:xfrm flipH="1">
              <a:off x="467640" y="914400"/>
              <a:ext cx="3382920" cy="4675320"/>
            </a:xfrm>
            <a:prstGeom prst="cloudCallout">
              <a:avLst>
                <a:gd name="adj1" fmla="val -78814"/>
                <a:gd name="adj2" fmla="val 108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6" descr="think"/>
            <p:cNvPicPr/>
            <p:nvPr/>
          </p:nvPicPr>
          <p:blipFill>
            <a:blip r:embed="rId3"/>
            <a:srcRect l="50690" t="301" r="25280" b="21787"/>
            <a:stretch/>
          </p:blipFill>
          <p:spPr>
            <a:xfrm>
              <a:off x="1619280" y="907920"/>
              <a:ext cx="1476360" cy="4321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02"/>
          <p:cNvPicPr/>
          <p:nvPr/>
        </p:nvPicPr>
        <p:blipFill>
          <a:blip r:embed="rId2"/>
          <a:stretch/>
        </p:blipFill>
        <p:spPr>
          <a:xfrm>
            <a:off x="1473120" y="0"/>
            <a:ext cx="575964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019"/>
          <p:cNvPicPr/>
          <p:nvPr/>
        </p:nvPicPr>
        <p:blipFill>
          <a:blip r:embed="rId2"/>
          <a:stretch/>
        </p:blipFill>
        <p:spPr>
          <a:xfrm>
            <a:off x="522360" y="-23760"/>
            <a:ext cx="5373720" cy="68691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5"/>
          <p:cNvSpPr/>
          <p:nvPr/>
        </p:nvSpPr>
        <p:spPr>
          <a:xfrm>
            <a:off x="2268360" y="0"/>
            <a:ext cx="6624720" cy="1197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只靠我們兩個人可能沒有辦法在兩個星期內將每一個東西都收集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4867200" y="2637000"/>
            <a:ext cx="3816360" cy="2100240"/>
          </a:xfrm>
          <a:prstGeom prst="wedgeRoundRectCallout">
            <a:avLst>
              <a:gd name="adj1" fmla="val -43759"/>
              <a:gd name="adj2" fmla="val 671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我們當然有辦法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這個你吃完了沒？太好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020"/>
          <p:cNvPicPr/>
          <p:nvPr/>
        </p:nvPicPr>
        <p:blipFill>
          <a:blip r:embed="rId2"/>
          <a:stretch/>
        </p:blipFill>
        <p:spPr>
          <a:xfrm>
            <a:off x="47520" y="-63360"/>
            <a:ext cx="5029200" cy="70419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298000" y="457200"/>
            <a:ext cx="79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真正的做法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236000" y="404640"/>
            <a:ext cx="102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很慢很慢的用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296040" y="162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不浪費，就不必砍一大堆的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5337000" y="59544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等到紙用完了才回收捲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022-4"/>
          <p:cNvPicPr/>
          <p:nvPr/>
        </p:nvPicPr>
        <p:blipFill>
          <a:blip r:embed="rId2"/>
          <a:stretch/>
        </p:blipFill>
        <p:spPr>
          <a:xfrm>
            <a:off x="-33480" y="-1440"/>
            <a:ext cx="7701120" cy="676908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/>
          <p:cNvSpPr/>
          <p:nvPr/>
        </p:nvSpPr>
        <p:spPr>
          <a:xfrm>
            <a:off x="185760" y="20520"/>
            <a:ext cx="7915320" cy="1197000"/>
          </a:xfrm>
          <a:prstGeom prst="wedgeRoundRectCallout">
            <a:avLst>
              <a:gd name="adj1" fmla="val -35921"/>
              <a:gd name="adj2" fmla="val 77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我們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破音二"/>
              </a:rPr>
              <a:t>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搶救樹木，才不會被淹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沒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在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超級巨大的垃圾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6012000" y="1424160"/>
            <a:ext cx="3117600" cy="3303360"/>
          </a:xfrm>
          <a:prstGeom prst="wedgeRoundRectCallout">
            <a:avLst>
              <a:gd name="adj1" fmla="val -41546"/>
              <a:gd name="adj2" fmla="val 699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如果我們把這棵樹的葉子全部貼滿就可以贏得我們自己的真正的樹，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種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在學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022-3"/>
          <p:cNvPicPr/>
          <p:nvPr/>
        </p:nvPicPr>
        <p:blipFill>
          <a:blip r:embed="rId2"/>
          <a:stretch/>
        </p:blipFill>
        <p:spPr>
          <a:xfrm>
            <a:off x="74520" y="28440"/>
            <a:ext cx="3156120" cy="68454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5"/>
          <p:cNvSpPr/>
          <p:nvPr/>
        </p:nvSpPr>
        <p:spPr>
          <a:xfrm>
            <a:off x="2627280" y="549360"/>
            <a:ext cx="5400720" cy="718920"/>
          </a:xfrm>
          <a:prstGeom prst="leftArrowCallout">
            <a:avLst>
              <a:gd name="adj1" fmla="val 25002"/>
              <a:gd name="adj2" fmla="val 25000"/>
              <a:gd name="adj3" fmla="val 12520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大家都很興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735360" y="1598760"/>
            <a:ext cx="37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想要資源回收傳下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708360" y="3068640"/>
            <a:ext cx="37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想要資源回收傳下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492360" y="5013360"/>
            <a:ext cx="37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想要資源回收傳下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025"/>
          <p:cNvPicPr/>
          <p:nvPr/>
        </p:nvPicPr>
        <p:blipFill>
          <a:blip r:embed="rId2"/>
          <a:stretch/>
        </p:blipFill>
        <p:spPr>
          <a:xfrm>
            <a:off x="1258920" y="0"/>
            <a:ext cx="5472000" cy="6867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5"/>
          <p:cNvSpPr/>
          <p:nvPr/>
        </p:nvSpPr>
        <p:spPr>
          <a:xfrm>
            <a:off x="0" y="0"/>
            <a:ext cx="3419640" cy="112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所以大家都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始資源回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4356000" y="0"/>
            <a:ext cx="3419640" cy="112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看看我回收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這麼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744480" y="3452760"/>
            <a:ext cx="1941480" cy="638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我也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3492360" y="3429000"/>
            <a:ext cx="4032360" cy="1054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大家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回收小尖兵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026"/>
          <p:cNvPicPr/>
          <p:nvPr/>
        </p:nvPicPr>
        <p:blipFill>
          <a:blip r:embed="rId2"/>
          <a:stretch/>
        </p:blipFill>
        <p:spPr>
          <a:xfrm>
            <a:off x="1284120" y="11160"/>
            <a:ext cx="5678640" cy="67975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/>
          <p:cNvSpPr/>
          <p:nvPr/>
        </p:nvSpPr>
        <p:spPr>
          <a:xfrm>
            <a:off x="3700440" y="41400"/>
            <a:ext cx="2311560" cy="112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馬登你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沒幫上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4124160" y="2141640"/>
            <a:ext cx="2311560" cy="112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所以馬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回家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5148360" y="3284640"/>
            <a:ext cx="3744720" cy="112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找了很多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以回收的東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027-1"/>
          <p:cNvPicPr/>
          <p:nvPr/>
        </p:nvPicPr>
        <p:blipFill>
          <a:blip r:embed="rId2"/>
          <a:stretch/>
        </p:blipFill>
        <p:spPr>
          <a:xfrm>
            <a:off x="2997360" y="2073240"/>
            <a:ext cx="5732280" cy="45226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61920" y="63360"/>
            <a:ext cx="84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等到所有東西都回收以後，蘿拉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0" y="836640"/>
            <a:ext cx="84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怎麼辦，我們還沒有貼滿整棵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06200" y="2297160"/>
            <a:ext cx="30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所以我們得不到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們自己真正的樹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027-2"/>
          <p:cNvPicPr/>
          <p:nvPr/>
        </p:nvPicPr>
        <p:blipFill>
          <a:blip r:embed="rId2"/>
          <a:stretch/>
        </p:blipFill>
        <p:spPr>
          <a:xfrm>
            <a:off x="650880" y="480960"/>
            <a:ext cx="3284640" cy="59832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4643280" y="1628640"/>
            <a:ext cx="30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很快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4643280" y="3429000"/>
            <a:ext cx="34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們完成了</a:t>
            </a:r>
            <a:r>
              <a:rPr b="1" i="1" lang="zh-TW" sz="4000" spc="-1" strike="noStrike">
                <a:solidFill>
                  <a:srgbClr val="ffffff"/>
                </a:solidFill>
                <a:latin typeface="Arial"/>
                <a:ea typeface="文鼎標楷注音"/>
              </a:rPr>
              <a:t>集點樹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030"/>
          <p:cNvPicPr/>
          <p:nvPr/>
        </p:nvPicPr>
        <p:blipFill>
          <a:blip r:embed="rId2"/>
          <a:stretch/>
        </p:blipFill>
        <p:spPr>
          <a:xfrm>
            <a:off x="139680" y="1717560"/>
            <a:ext cx="6451560" cy="51292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453960" y="501480"/>
            <a:ext cx="32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謝謝你馬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500720" y="549360"/>
            <a:ext cx="32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你真是個回收小尖兵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031"/>
          <p:cNvPicPr/>
          <p:nvPr/>
        </p:nvPicPr>
        <p:blipFill>
          <a:blip r:embed="rId2"/>
          <a:stretch/>
        </p:blipFill>
        <p:spPr>
          <a:xfrm>
            <a:off x="781200" y="3652920"/>
            <a:ext cx="5202000" cy="3222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609480" y="316080"/>
            <a:ext cx="71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馬維偷偷問馬登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『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你從哪裡弄來這些東西？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54040" y="15508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馬登說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『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馬迪的房間 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39640" y="249228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你這下真的</a:t>
            </a:r>
            <a:r>
              <a:rPr b="1" i="1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完蛋了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07"/>
          <p:cNvPicPr/>
          <p:nvPr/>
        </p:nvPicPr>
        <p:blipFill>
          <a:blip r:embed="rId2"/>
          <a:stretch/>
        </p:blipFill>
        <p:spPr>
          <a:xfrm>
            <a:off x="12600" y="1440"/>
            <a:ext cx="7277040" cy="6836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7804080" y="501480"/>
            <a:ext cx="8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這是我的妹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妹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│蘿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9640" y="33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蘿拉喜歡收藏東西，各式各樣的東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01680" y="163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盒子、舊玩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什麼都不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032-1"/>
          <p:cNvPicPr/>
          <p:nvPr/>
        </p:nvPicPr>
        <p:blipFill>
          <a:blip r:embed="rId2"/>
          <a:stretch/>
        </p:blipFill>
        <p:spPr>
          <a:xfrm>
            <a:off x="9360" y="392040"/>
            <a:ext cx="6901200" cy="6470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12600" y="146160"/>
            <a:ext cx="68644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第二天，我們合力將真正的樹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種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在學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032-2"/>
          <p:cNvPicPr/>
          <p:nvPr/>
        </p:nvPicPr>
        <p:blipFill>
          <a:blip r:embed="rId2"/>
          <a:stretch/>
        </p:blipFill>
        <p:spPr>
          <a:xfrm>
            <a:off x="-30240" y="1735200"/>
            <a:ext cx="6994440" cy="5065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12600" y="146160"/>
            <a:ext cx="68644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看！這是我們自己真正的校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1628640"/>
            <a:ext cx="68644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我們都是超極棒的回收小尖兵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033"/>
          <p:cNvPicPr/>
          <p:nvPr/>
        </p:nvPicPr>
        <p:blipFill>
          <a:blip r:embed="rId2"/>
          <a:stretch/>
        </p:blipFill>
        <p:spPr>
          <a:xfrm>
            <a:off x="372960" y="582480"/>
            <a:ext cx="4937400" cy="5894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33440" y="247680"/>
            <a:ext cx="720720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後來當我們聚在馬維家的時候，忽然聽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356000" y="1916280"/>
            <a:ext cx="3095640" cy="1099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Arial"/>
                <a:ea typeface="金梅浪漫反白字"/>
              </a:rPr>
              <a:t>誰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金梅新毛筆隸書"/>
              </a:rPr>
              <a:t>到過我的</a:t>
            </a:r>
            <a:r>
              <a:rPr b="0" lang="zh-TW" sz="6000" spc="-1" strike="noStrike">
                <a:solidFill>
                  <a:srgbClr val="ffffff"/>
                </a:solidFill>
                <a:latin typeface="Arial"/>
                <a:ea typeface="金梅浪漫白立體"/>
              </a:rPr>
              <a:t>房間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87360" y="5207040"/>
            <a:ext cx="5184720" cy="1465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們快走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快！</a:t>
            </a:r>
            <a:r>
              <a:rPr b="0" lang="zh-TW" sz="5400" spc="-1" strike="noStrike">
                <a:solidFill>
                  <a:srgbClr val="ffffff"/>
                </a:solidFill>
                <a:latin typeface="Arial"/>
                <a:ea typeface="華康少女文字W5"/>
              </a:rPr>
              <a:t>逃命啊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8277120" y="2649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這裡有一些特別的妙點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236000" y="404640"/>
            <a:ext cx="102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可以幫助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84720" y="162000"/>
            <a:ext cx="1109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ffff"/>
                </a:solidFill>
                <a:latin typeface="Arial"/>
                <a:ea typeface="文鼎標楷注音"/>
              </a:rPr>
              <a:t>照顧我們的地球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03"/>
          <p:cNvPicPr/>
          <p:nvPr/>
        </p:nvPicPr>
        <p:blipFill>
          <a:blip r:embed="rId2"/>
          <a:stretch/>
        </p:blipFill>
        <p:spPr>
          <a:xfrm>
            <a:off x="604800" y="30240"/>
            <a:ext cx="5054760" cy="6756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598320" y="168120"/>
            <a:ext cx="4981680" cy="119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刷完牙記得：</a:t>
            </a:r>
            <a:br>
              <a:rPr sz="28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關緊水龍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73040" y="1560600"/>
            <a:ext cx="5299200" cy="1861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點熱的時候：</a:t>
            </a:r>
            <a:br>
              <a:rPr sz="28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少穿點衣服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不立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開冷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38120" y="3522600"/>
            <a:ext cx="529920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不隨便把東西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丟掉，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而會將它拿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回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98520" y="5691240"/>
            <a:ext cx="5329080" cy="119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離開房間的時候：</a:t>
            </a:r>
            <a:br>
              <a:rPr sz="28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會把電燈關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8277120" y="2649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這裡有一些特別的妙點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236000" y="404640"/>
            <a:ext cx="102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可以幫助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084720" y="162000"/>
            <a:ext cx="1109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ffff"/>
                </a:solidFill>
                <a:latin typeface="Arial"/>
                <a:ea typeface="文鼎標楷注音"/>
              </a:rPr>
              <a:t>照顧我們的地球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03"/>
          <p:cNvPicPr/>
          <p:nvPr/>
        </p:nvPicPr>
        <p:blipFill>
          <a:blip r:embed="rId2"/>
          <a:stretch/>
        </p:blipFill>
        <p:spPr>
          <a:xfrm>
            <a:off x="611280" y="0"/>
            <a:ext cx="5054400" cy="6756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598320" y="168120"/>
            <a:ext cx="498168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盡量用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淋浴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代替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泡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428760" y="1792440"/>
            <a:ext cx="5298840" cy="119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使用電視電腦時：</a:t>
            </a:r>
            <a:br>
              <a:rPr sz="28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會關掉電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60440" y="3141720"/>
            <a:ext cx="5298840" cy="1068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把家裡用不到的小東西拿來做成禮物和生日卡送給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439560" y="4883040"/>
            <a:ext cx="53294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不吵著買最新、最炫的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玩具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。把禮物捐給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慈善團體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ww.tpps.ntpc.edu.tw/fdownload/getfile.asp?fno=134&amp;fenable..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8-1"/>
          <p:cNvPicPr/>
          <p:nvPr/>
        </p:nvPicPr>
        <p:blipFill>
          <a:blip r:embed="rId2"/>
          <a:stretch/>
        </p:blipFill>
        <p:spPr>
          <a:xfrm>
            <a:off x="-9360" y="-50760"/>
            <a:ext cx="5454360" cy="6966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9360" y="266760"/>
            <a:ext cx="86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以後我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不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收藏東西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7596360" y="260280"/>
            <a:ext cx="86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蘿拉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0"/>
            <a:ext cx="2351160" cy="1556280"/>
          </a:xfrm>
          <a:prstGeom prst="rect">
            <a:avLst/>
          </a:prstGeom>
          <a:solidFill>
            <a:srgbClr val="61a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難道是因為我們昨天去馬維家的關係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8-2"/>
          <p:cNvPicPr/>
          <p:nvPr/>
        </p:nvPicPr>
        <p:blipFill>
          <a:blip r:embed="rId2"/>
          <a:stretch/>
        </p:blipFill>
        <p:spPr>
          <a:xfrm>
            <a:off x="385920" y="22320"/>
            <a:ext cx="5540040" cy="6940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207200" y="74520"/>
            <a:ext cx="86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打賭沒有人敢進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55160" y="68400"/>
            <a:ext cx="86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昨天馬維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270480" y="1870200"/>
            <a:ext cx="8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哥馬迪的房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69720" y="141120"/>
            <a:ext cx="540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他從不讓別人碰他任何東西，而且什麼都不肯丟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39840" y="1601640"/>
            <a:ext cx="451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我媽說他的房間簡直就是一個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19280" y="2637000"/>
            <a:ext cx="2736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    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豬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9-1"/>
          <p:cNvPicPr/>
          <p:nvPr/>
        </p:nvPicPr>
        <p:blipFill>
          <a:blip r:embed="rId2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0" y="0"/>
            <a:ext cx="317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們偷偷溜進馬迪的房間，蘿拉說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『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哇！臭死了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 flipH="1">
            <a:off x="3995640" y="404640"/>
            <a:ext cx="3889440" cy="1800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馬上滾出我的房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0" y="3573360"/>
            <a:ext cx="31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馬維大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0" y="4797360"/>
            <a:ext cx="31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ffff"/>
                </a:solidFill>
                <a:latin typeface="Arial"/>
                <a:ea typeface="文鼎標楷注音"/>
              </a:rPr>
              <a:t>快跑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10-1"/>
          <p:cNvPicPr/>
          <p:nvPr/>
        </p:nvPicPr>
        <p:blipFill>
          <a:blip r:embed="rId2"/>
          <a:stretch/>
        </p:blipFill>
        <p:spPr>
          <a:xfrm>
            <a:off x="0" y="0"/>
            <a:ext cx="4905360" cy="6983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192240"/>
            <a:ext cx="9144000" cy="520560"/>
          </a:xfrm>
          <a:prstGeom prst="rect">
            <a:avLst/>
          </a:prstGeom>
          <a:solidFill>
            <a:srgbClr val="61a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絕對絕對不要讓我的房間看起來像馬迪的一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0" y="1197000"/>
            <a:ext cx="4859280" cy="520560"/>
          </a:xfrm>
          <a:prstGeom prst="rect">
            <a:avLst/>
          </a:prstGeom>
          <a:solidFill>
            <a:srgbClr val="61a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要把所有的東西通通丟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826920" y="2192400"/>
            <a:ext cx="1873440" cy="520560"/>
          </a:xfrm>
          <a:prstGeom prst="rect">
            <a:avLst/>
          </a:prstGeom>
          <a:solidFill>
            <a:srgbClr val="61a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因為我用不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5272200" y="1160640"/>
            <a:ext cx="8636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那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你為什麼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不</a:t>
            </a:r>
            <a:r>
              <a:rPr b="1" i="1" lang="zh-TW" sz="4000" spc="-1" strike="noStrike">
                <a:solidFill>
                  <a:srgbClr val="ffffff"/>
                </a:solidFill>
                <a:latin typeface="Arial"/>
                <a:ea typeface="文鼎標楷注音"/>
              </a:rPr>
              <a:t>回收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6781680" y="2003400"/>
            <a:ext cx="124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5400" spc="-1" strike="noStrike">
                <a:solidFill>
                  <a:srgbClr val="ffffff"/>
                </a:solidFill>
                <a:latin typeface="Arial"/>
                <a:ea typeface="文鼎標楷注音"/>
              </a:rPr>
              <a:t>揮手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10-2"/>
          <p:cNvPicPr/>
          <p:nvPr/>
        </p:nvPicPr>
        <p:blipFill>
          <a:blip r:embed="rId2"/>
          <a:stretch/>
        </p:blipFill>
        <p:spPr>
          <a:xfrm>
            <a:off x="3809880" y="-4680"/>
            <a:ext cx="5326200" cy="6894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372360" y="1008000"/>
            <a:ext cx="2771640" cy="1447560"/>
          </a:xfrm>
          <a:prstGeom prst="rect">
            <a:avLst/>
          </a:prstGeom>
          <a:solidFill>
            <a:srgbClr val="61a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文鼎標楷注音"/>
              </a:rPr>
              <a:t>回收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10960" y="638280"/>
            <a:ext cx="31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回收就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65040" y="1865160"/>
            <a:ext cx="31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把舊東西收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03120" y="3780000"/>
            <a:ext cx="31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用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不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一樣的新方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71440" y="56358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文鼎標楷注音"/>
              </a:rPr>
              <a:t>再用一次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011"/>
          <p:cNvPicPr/>
          <p:nvPr/>
        </p:nvPicPr>
        <p:blipFill>
          <a:blip r:embed="rId2"/>
          <a:stretch/>
        </p:blipFill>
        <p:spPr>
          <a:xfrm>
            <a:off x="147600" y="1681200"/>
            <a:ext cx="9080640" cy="52531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1920" y="63360"/>
            <a:ext cx="84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如果我們什麼東西都丟掉，我們的地球就會變成一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492880" y="1711440"/>
            <a:ext cx="17668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超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292720" y="2421000"/>
            <a:ext cx="27748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巨大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5300640" y="3127320"/>
            <a:ext cx="37800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6000" spc="-1" strike="noStrike">
                <a:solidFill>
                  <a:srgbClr val="000000"/>
                </a:solidFill>
                <a:latin typeface="Arial"/>
                <a:ea typeface="文鼎標楷注音"/>
              </a:rPr>
              <a:t>垃圾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1:21:27Z</dcterms:created>
  <dc:creator>123</dc:creator>
  <dc:description/>
  <dc:language>en-US</dc:language>
  <cp:lastModifiedBy>HP</cp:lastModifiedBy>
  <dcterms:modified xsi:type="dcterms:W3CDTF">2012-05-16T22:08:59Z</dcterms:modified>
  <cp:revision>18</cp:revision>
  <dc:subject/>
  <dc:title>投影片 1</dc:title>
</cp:coreProperties>
</file>