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D34-F293-4F31-8B64-1AA65084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4F1-5D7B-45DA-AADF-931CAC17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40F-EC4A-4A53-893A-A2055A2F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0F7-0129-4C95-A3F5-E89C6459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52B3-DC98-4BA1-AFD6-A871235E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612D-0EE8-4382-9AB4-8C55E0CB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CC81-ADC4-4C03-AD49-452FCFCA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A77D-767A-44D1-B4DF-85801013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5200-71D1-4037-9F54-FBEB469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2A68-A969-4666-983E-F253FE91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DEFE-6983-45DD-BA7E-5D48970E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FD3-6E02-4137-881F-BF1FC4CE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7062-86D7-4BCD-A3B1-722B3946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9AE1-E6B5-4DEE-B6AF-0004F292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CC17-82E5-46BB-AFAB-00E6A8B8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B251-E2F3-43BA-82A9-5BA6F3BA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0D12-B282-4EC1-A6B0-E10CEAFB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81B-7C45-4B74-A51D-88C1030F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413-02AC-40CF-84A6-C36F04B1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CFC-2015-4D25-A270-4C1CFEAF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37D-5D05-44F0-B09B-31536F67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62C-8511-4D46-BD02-5B810A66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B71-9595-42E3-93BE-D705A92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C93-FDAC-47E8-A21E-50DB0F9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5848-8DCC-46B8-9535-24BFC6D9FFB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1262-9F62-4B82-9A08-A052B85AB67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98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中隸"/>
              </a:rPr>
              <a:t>垃圾大戰我最贏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626920" y="1197000"/>
            <a:ext cx="596268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垃圾分類，資源回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只要謹守三個步驟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Arial"/>
                <a:ea typeface="標楷體"/>
              </a:rPr>
              <a:t>減量、回收、分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353232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2340000" y="0"/>
            <a:ext cx="6804000" cy="6154200"/>
            <a:chOff x="2340000" y="0"/>
            <a:chExt cx="6804000" cy="6154200"/>
          </a:xfrm>
        </p:grpSpPr>
        <p:grpSp>
          <p:nvGrpSpPr>
            <p:cNvPr id="223" name=""/>
            <p:cNvGrpSpPr/>
            <p:nvPr/>
          </p:nvGrpSpPr>
          <p:grpSpPr>
            <a:xfrm>
              <a:off x="2343240" y="7560"/>
              <a:ext cx="6796440" cy="6136920"/>
              <a:chOff x="2343240" y="7560"/>
              <a:chExt cx="6796440" cy="613692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2343240" y="7560"/>
                <a:ext cx="2617560" cy="1227240"/>
                <a:chOff x="2343240" y="7560"/>
                <a:chExt cx="2617560" cy="1227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343240" y="7560"/>
                  <a:ext cx="261756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343240" y="7560"/>
                  <a:ext cx="261756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960800" y="7560"/>
                <a:ext cx="4178880" cy="1227240"/>
                <a:chOff x="4960800" y="7560"/>
                <a:chExt cx="4178880" cy="12272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960800" y="7560"/>
                  <a:ext cx="417888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容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960800" y="7560"/>
                  <a:ext cx="417888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2343240" y="1235160"/>
                <a:ext cx="2617560" cy="1227240"/>
                <a:chOff x="2343240" y="1235160"/>
                <a:chExt cx="2617560" cy="12272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343240" y="1235160"/>
                  <a:ext cx="261756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343240" y="1235160"/>
                  <a:ext cx="261756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960800" y="1235160"/>
                <a:ext cx="4178880" cy="1227240"/>
                <a:chOff x="4960800" y="1235160"/>
                <a:chExt cx="4178880" cy="12272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960800" y="1235160"/>
                  <a:ext cx="417888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鋁箔、紙盒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960800" y="1235160"/>
                  <a:ext cx="417888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343240" y="2462760"/>
                <a:ext cx="2617560" cy="1227240"/>
                <a:chOff x="2343240" y="2462760"/>
                <a:chExt cx="2617560" cy="12272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343240" y="2462760"/>
                  <a:ext cx="261756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343240" y="2462760"/>
                  <a:ext cx="261756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960800" y="2462760"/>
                <a:ext cx="4178880" cy="1227240"/>
                <a:chOff x="4960800" y="2462760"/>
                <a:chExt cx="4178880" cy="12272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960800" y="2462760"/>
                  <a:ext cx="417888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乳品、飲料盒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960800" y="2462760"/>
                  <a:ext cx="417888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343240" y="3690360"/>
                <a:ext cx="2617560" cy="1227240"/>
                <a:chOff x="2343240" y="3690360"/>
                <a:chExt cx="2617560" cy="12272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343240" y="3690360"/>
                  <a:ext cx="261756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43240" y="3690360"/>
                  <a:ext cx="261756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960800" y="3690360"/>
                <a:ext cx="4178880" cy="1227240"/>
                <a:chOff x="4960800" y="3690360"/>
                <a:chExt cx="4178880" cy="12272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960800" y="3690360"/>
                  <a:ext cx="4178880" cy="12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去除吸管、倒空內容物、略加沖洗，壓扁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960800" y="3690360"/>
                  <a:ext cx="4178880" cy="12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2343240" y="4917960"/>
                <a:ext cx="2617560" cy="1226520"/>
                <a:chOff x="2343240" y="4917960"/>
                <a:chExt cx="2617560" cy="12265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343240" y="4917960"/>
                  <a:ext cx="2617560" cy="12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343240" y="4917960"/>
                  <a:ext cx="2617560" cy="12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960800" y="4917960"/>
                <a:ext cx="4178880" cy="1226520"/>
                <a:chOff x="4960800" y="4917960"/>
                <a:chExt cx="4178880" cy="12265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960800" y="4917960"/>
                  <a:ext cx="4178880" cy="12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</a:t>
                  </a: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960800" y="4917960"/>
                  <a:ext cx="4178880" cy="12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4" name=""/>
            <p:cNvSpPr/>
            <p:nvPr/>
          </p:nvSpPr>
          <p:spPr>
            <a:xfrm>
              <a:off x="2340000" y="0"/>
              <a:ext cx="6804000" cy="6154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2195640" y="1052640"/>
            <a:ext cx="6948360" cy="4647600"/>
            <a:chOff x="2195640" y="1052640"/>
            <a:chExt cx="6948360" cy="4647600"/>
          </a:xfrm>
        </p:grpSpPr>
        <p:grpSp>
          <p:nvGrpSpPr>
            <p:cNvPr id="257" name=""/>
            <p:cNvGrpSpPr/>
            <p:nvPr/>
          </p:nvGrpSpPr>
          <p:grpSpPr>
            <a:xfrm>
              <a:off x="2198880" y="1058040"/>
              <a:ext cx="6940800" cy="4635000"/>
              <a:chOff x="2198880" y="1058040"/>
              <a:chExt cx="6940800" cy="463500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198880" y="1058040"/>
                <a:ext cx="2794680" cy="861840"/>
                <a:chOff x="2198880" y="1058040"/>
                <a:chExt cx="2794680" cy="8618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198880" y="1058040"/>
                  <a:ext cx="279468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198880" y="1058040"/>
                  <a:ext cx="279468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993560" y="1058040"/>
                <a:ext cx="4146120" cy="861840"/>
                <a:chOff x="4993560" y="1058040"/>
                <a:chExt cx="4146120" cy="8618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993560" y="1058040"/>
                  <a:ext cx="414612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容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93560" y="1058040"/>
                  <a:ext cx="414612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198880" y="1920240"/>
                <a:ext cx="2794680" cy="861840"/>
                <a:chOff x="2198880" y="1920240"/>
                <a:chExt cx="2794680" cy="8618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198880" y="1920240"/>
                  <a:ext cx="279468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198880" y="1920240"/>
                  <a:ext cx="279468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993560" y="1920240"/>
                <a:ext cx="4146120" cy="861840"/>
                <a:chOff x="4993560" y="1920240"/>
                <a:chExt cx="4146120" cy="8618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993560" y="1920240"/>
                  <a:ext cx="414612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玻璃類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993560" y="1920240"/>
                  <a:ext cx="414612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198880" y="2782800"/>
                <a:ext cx="2794680" cy="861840"/>
                <a:chOff x="2198880" y="2782800"/>
                <a:chExt cx="2794680" cy="8618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198880" y="2782800"/>
                  <a:ext cx="279468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198880" y="2782800"/>
                  <a:ext cx="279468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993560" y="2782800"/>
                <a:ext cx="4146120" cy="861840"/>
                <a:chOff x="4993560" y="2782800"/>
                <a:chExt cx="4146120" cy="8618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993560" y="2782800"/>
                  <a:ext cx="414612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酒（含藥酒）、飲料瓶罐、化妝品瓶罐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93560" y="2782800"/>
                  <a:ext cx="414612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198880" y="3645360"/>
                <a:ext cx="2794680" cy="1185120"/>
                <a:chOff x="2198880" y="3645360"/>
                <a:chExt cx="2794680" cy="11851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198880" y="3645360"/>
                  <a:ext cx="2794680" cy="118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198880" y="3645360"/>
                  <a:ext cx="2794680" cy="118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993560" y="3645360"/>
                <a:ext cx="4146120" cy="1185120"/>
                <a:chOff x="4993560" y="3645360"/>
                <a:chExt cx="4146120" cy="11851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993560" y="3645360"/>
                  <a:ext cx="4146120" cy="118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略加沖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分為白色、棕色、綠色三色分別打包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993560" y="3645360"/>
                  <a:ext cx="4146120" cy="118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198880" y="4831200"/>
                <a:ext cx="2794680" cy="861840"/>
                <a:chOff x="2198880" y="4831200"/>
                <a:chExt cx="2794680" cy="8618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198880" y="4831200"/>
                  <a:ext cx="279468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98880" y="4831200"/>
                  <a:ext cx="279468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993560" y="4831200"/>
                <a:ext cx="4146120" cy="861840"/>
                <a:chOff x="4993560" y="4831200"/>
                <a:chExt cx="4146120" cy="8618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993560" y="4831200"/>
                  <a:ext cx="414612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3560" y="4831200"/>
                  <a:ext cx="4146120" cy="86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" name=""/>
            <p:cNvSpPr/>
            <p:nvPr/>
          </p:nvSpPr>
          <p:spPr>
            <a:xfrm>
              <a:off x="2195640" y="1052640"/>
              <a:ext cx="6948360" cy="4647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516720" y="981000"/>
            <a:ext cx="237636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2124000" y="0"/>
            <a:ext cx="7020000" cy="6248160"/>
            <a:chOff x="2124000" y="0"/>
            <a:chExt cx="7020000" cy="6248160"/>
          </a:xfrm>
        </p:grpSpPr>
        <p:grpSp>
          <p:nvGrpSpPr>
            <p:cNvPr id="291" name=""/>
            <p:cNvGrpSpPr/>
            <p:nvPr/>
          </p:nvGrpSpPr>
          <p:grpSpPr>
            <a:xfrm>
              <a:off x="2127240" y="6840"/>
              <a:ext cx="7013160" cy="6233400"/>
              <a:chOff x="2127240" y="6840"/>
              <a:chExt cx="7013160" cy="623340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127240" y="6840"/>
                <a:ext cx="2102040" cy="1083600"/>
                <a:chOff x="2127240" y="6840"/>
                <a:chExt cx="2102040" cy="10836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127240" y="6840"/>
                  <a:ext cx="210204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127240" y="6840"/>
                  <a:ext cx="210204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229280" y="6840"/>
                <a:ext cx="4911120" cy="1083600"/>
                <a:chOff x="4229280" y="6840"/>
                <a:chExt cx="4911120" cy="1083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29280" y="6840"/>
                  <a:ext cx="491112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一般廢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229280" y="6840"/>
                  <a:ext cx="491112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127240" y="1090800"/>
                <a:ext cx="2102040" cy="1083600"/>
                <a:chOff x="2127240" y="1090800"/>
                <a:chExt cx="2102040" cy="10836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127240" y="1090800"/>
                  <a:ext cx="210204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127240" y="1090800"/>
                  <a:ext cx="210204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229280" y="1090800"/>
                <a:ext cx="4911120" cy="1083600"/>
                <a:chOff x="4229280" y="1090800"/>
                <a:chExt cx="4911120" cy="10836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229280" y="1090800"/>
                  <a:ext cx="491112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報紙、書刊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229280" y="1090800"/>
                  <a:ext cx="491112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127240" y="2175120"/>
                <a:ext cx="2102040" cy="1490400"/>
                <a:chOff x="2127240" y="2175120"/>
                <a:chExt cx="2102040" cy="14904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127240" y="2175120"/>
                  <a:ext cx="2102040" cy="149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127240" y="2175120"/>
                  <a:ext cx="2102040" cy="149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229280" y="2175120"/>
                <a:ext cx="4911120" cy="1490400"/>
                <a:chOff x="4229280" y="2175120"/>
                <a:chExt cx="4911120" cy="14904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229280" y="2175120"/>
                  <a:ext cx="4911120" cy="149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一般紙類均可回收，唯須注意有塑膠光面的紙張、複寫紙、護貝、衛生紙和紙尿布不回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229280" y="2175120"/>
                  <a:ext cx="4911120" cy="149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127240" y="3666240"/>
                <a:ext cx="2102040" cy="1490040"/>
                <a:chOff x="2127240" y="3666240"/>
                <a:chExt cx="2102040" cy="14900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127240" y="3666240"/>
                  <a:ext cx="2102040" cy="14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127240" y="3666240"/>
                  <a:ext cx="2102040" cy="14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229280" y="3666240"/>
                <a:ext cx="4911120" cy="1490040"/>
                <a:chOff x="4229280" y="3666240"/>
                <a:chExt cx="4911120" cy="14900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229280" y="3666240"/>
                  <a:ext cx="4911120" cy="149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先除去塑膠封面、膠帶、線圈，釘書針等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裝成一箱或打包成一捆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229280" y="3666240"/>
                  <a:ext cx="4911120" cy="149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127240" y="5156640"/>
                <a:ext cx="2102040" cy="1083600"/>
                <a:chOff x="2127240" y="5156640"/>
                <a:chExt cx="2102040" cy="10836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127240" y="5156640"/>
                  <a:ext cx="210204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127240" y="5156640"/>
                  <a:ext cx="210204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229280" y="5156640"/>
                <a:ext cx="4911120" cy="1083600"/>
                <a:chOff x="4229280" y="5156640"/>
                <a:chExt cx="4911120" cy="10836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229280" y="5156640"/>
                  <a:ext cx="4911120" cy="108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229280" y="5156640"/>
                  <a:ext cx="4911120" cy="108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2124000" y="0"/>
              <a:ext cx="7020000" cy="6248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300720" y="115920"/>
            <a:ext cx="221004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124000" y="0"/>
            <a:ext cx="7020000" cy="5589360"/>
            <a:chOff x="2124000" y="0"/>
            <a:chExt cx="7020000" cy="5589360"/>
          </a:xfrm>
        </p:grpSpPr>
        <p:grpSp>
          <p:nvGrpSpPr>
            <p:cNvPr id="325" name=""/>
            <p:cNvGrpSpPr/>
            <p:nvPr/>
          </p:nvGrpSpPr>
          <p:grpSpPr>
            <a:xfrm>
              <a:off x="2127240" y="5760"/>
              <a:ext cx="7013520" cy="5577120"/>
              <a:chOff x="2127240" y="5760"/>
              <a:chExt cx="7013520" cy="55771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2127240" y="5760"/>
                <a:ext cx="2102040" cy="910080"/>
                <a:chOff x="2127240" y="5760"/>
                <a:chExt cx="2102040" cy="9100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127240" y="5760"/>
                  <a:ext cx="210204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127240" y="5760"/>
                  <a:ext cx="210204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229280" y="5760"/>
                <a:ext cx="4911480" cy="910080"/>
                <a:chOff x="4229280" y="5760"/>
                <a:chExt cx="4911480" cy="9100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29280" y="5760"/>
                  <a:ext cx="491148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四機一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229280" y="5760"/>
                  <a:ext cx="491148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127240" y="916200"/>
                <a:ext cx="2102040" cy="910080"/>
                <a:chOff x="2127240" y="916200"/>
                <a:chExt cx="2102040" cy="9100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127240" y="916200"/>
                  <a:ext cx="210204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127240" y="916200"/>
                  <a:ext cx="210204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229280" y="916200"/>
                <a:ext cx="4911480" cy="910080"/>
                <a:chOff x="4229280" y="916200"/>
                <a:chExt cx="4911480" cy="9100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229280" y="916200"/>
                  <a:ext cx="491148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家用電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229280" y="916200"/>
                  <a:ext cx="491148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127240" y="1826640"/>
                <a:ext cx="2102040" cy="910080"/>
                <a:chOff x="2127240" y="1826640"/>
                <a:chExt cx="2102040" cy="9100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127240" y="1826640"/>
                  <a:ext cx="210204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127240" y="1826640"/>
                  <a:ext cx="210204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4229280" y="1826640"/>
                <a:ext cx="4911480" cy="910080"/>
                <a:chOff x="4229280" y="1826640"/>
                <a:chExt cx="4911480" cy="9100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229280" y="1826640"/>
                  <a:ext cx="491148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電視機、洗衣機、電冰箱、冷暖氣機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229280" y="1826640"/>
                  <a:ext cx="491148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127240" y="2737440"/>
                <a:ext cx="2102040" cy="1935000"/>
                <a:chOff x="2127240" y="2737440"/>
                <a:chExt cx="2102040" cy="19350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127240" y="2737440"/>
                  <a:ext cx="2102040" cy="19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127240" y="2737440"/>
                  <a:ext cx="2102040" cy="193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229280" y="2737440"/>
                <a:ext cx="4911480" cy="1935000"/>
                <a:chOff x="4229280" y="2737440"/>
                <a:chExt cx="4911480" cy="1935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229280" y="2737440"/>
                  <a:ext cx="4911480" cy="193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1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最省事的方式是廠商來安裝完畢時，連同汰舊的家    電一起請廠商帶回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不可自行拆解內部零件，以免冷媒、螢光粉等有毒物質外洩，而且只留塑膠外殼的家用電器是不能回收的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229280" y="2737440"/>
                  <a:ext cx="4911480" cy="193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2127240" y="4672800"/>
                <a:ext cx="2102040" cy="910080"/>
                <a:chOff x="2127240" y="4672800"/>
                <a:chExt cx="2102040" cy="910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127240" y="4672800"/>
                  <a:ext cx="210204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127240" y="4672800"/>
                  <a:ext cx="210204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229280" y="4672800"/>
                <a:ext cx="4911480" cy="910080"/>
                <a:chOff x="4229280" y="4672800"/>
                <a:chExt cx="4911480" cy="9100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229280" y="4672800"/>
                  <a:ext cx="4911480" cy="9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、電器販賣商家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29280" y="4672800"/>
                  <a:ext cx="4911480" cy="91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2124000" y="0"/>
              <a:ext cx="7020000" cy="558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2124000" y="1143000"/>
            <a:ext cx="7020000" cy="4343040"/>
            <a:chOff x="2124000" y="1143000"/>
            <a:chExt cx="7020000" cy="4343040"/>
          </a:xfrm>
        </p:grpSpPr>
        <p:grpSp>
          <p:nvGrpSpPr>
            <p:cNvPr id="359" name=""/>
            <p:cNvGrpSpPr/>
            <p:nvPr/>
          </p:nvGrpSpPr>
          <p:grpSpPr>
            <a:xfrm>
              <a:off x="2127240" y="1147680"/>
              <a:ext cx="7013520" cy="4332960"/>
              <a:chOff x="2127240" y="1147680"/>
              <a:chExt cx="7013520" cy="433296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127240" y="1147680"/>
                <a:ext cx="2102040" cy="753120"/>
                <a:chOff x="2127240" y="1147680"/>
                <a:chExt cx="2102040" cy="753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127240" y="1147680"/>
                  <a:ext cx="210204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127240" y="1147680"/>
                  <a:ext cx="210204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229280" y="1147680"/>
                <a:ext cx="4911480" cy="753120"/>
                <a:chOff x="4229280" y="1147680"/>
                <a:chExt cx="4911480" cy="753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229280" y="1147680"/>
                  <a:ext cx="491148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四機一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229280" y="1147680"/>
                  <a:ext cx="491148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127240" y="1901160"/>
                <a:ext cx="2102040" cy="753120"/>
                <a:chOff x="2127240" y="1901160"/>
                <a:chExt cx="2102040" cy="753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2127240" y="1901160"/>
                  <a:ext cx="210204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127240" y="1901160"/>
                  <a:ext cx="210204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4229280" y="1901160"/>
                <a:ext cx="4911480" cy="753120"/>
                <a:chOff x="4229280" y="1901160"/>
                <a:chExt cx="4911480" cy="753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4229280" y="1901160"/>
                  <a:ext cx="491148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訊物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229280" y="1901160"/>
                  <a:ext cx="491148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2127240" y="2655000"/>
                <a:ext cx="2102040" cy="1036080"/>
                <a:chOff x="2127240" y="2655000"/>
                <a:chExt cx="2102040" cy="10360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127240" y="2655000"/>
                  <a:ext cx="2102040" cy="103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127240" y="2655000"/>
                  <a:ext cx="2102040" cy="103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4229280" y="2655000"/>
                <a:ext cx="4911480" cy="1036080"/>
                <a:chOff x="4229280" y="2655000"/>
                <a:chExt cx="4911480" cy="10360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4229280" y="2655000"/>
                  <a:ext cx="4911480" cy="103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筆記型電腦、桌上型電腦主機、監視器、主機板、硬碟、電源器、機殼及印表機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229280" y="2655000"/>
                  <a:ext cx="4911480" cy="103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127240" y="3691440"/>
                <a:ext cx="2102040" cy="1035720"/>
                <a:chOff x="2127240" y="3691440"/>
                <a:chExt cx="2102040" cy="10357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127240" y="3691440"/>
                  <a:ext cx="2102040" cy="103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127240" y="3691440"/>
                  <a:ext cx="2102040" cy="103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229280" y="3691440"/>
                <a:ext cx="4911480" cy="1035720"/>
                <a:chOff x="4229280" y="3691440"/>
                <a:chExt cx="4911480" cy="10357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229280" y="3691440"/>
                  <a:ext cx="4911480" cy="103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不可自行拆解內部零件，以免螢光粉等有毒物質外洩，而且只留塑膠外殼的電腦是不能回收的。</a:t>
                  </a: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29280" y="3691440"/>
                  <a:ext cx="4911480" cy="103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127240" y="4727520"/>
                <a:ext cx="2102040" cy="753120"/>
                <a:chOff x="2127240" y="4727520"/>
                <a:chExt cx="2102040" cy="753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127240" y="4727520"/>
                  <a:ext cx="210204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27240" y="4727520"/>
                  <a:ext cx="210204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229280" y="4727520"/>
                <a:ext cx="4911480" cy="753120"/>
                <a:chOff x="4229280" y="4727520"/>
                <a:chExt cx="4911480" cy="753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229280" y="4727520"/>
                  <a:ext cx="4911480" cy="75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、電器販賣商家 、回收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229280" y="4727520"/>
                  <a:ext cx="4911480" cy="75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2124000" y="1143000"/>
              <a:ext cx="7020000" cy="4343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372360" y="1125360"/>
            <a:ext cx="259236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2268360" y="1413000"/>
            <a:ext cx="6875640" cy="5255640"/>
            <a:chOff x="2268360" y="1413000"/>
            <a:chExt cx="6875640" cy="5255640"/>
          </a:xfrm>
        </p:grpSpPr>
        <p:grpSp>
          <p:nvGrpSpPr>
            <p:cNvPr id="393" name=""/>
            <p:cNvGrpSpPr/>
            <p:nvPr/>
          </p:nvGrpSpPr>
          <p:grpSpPr>
            <a:xfrm>
              <a:off x="2271240" y="1418760"/>
              <a:ext cx="6869160" cy="5243400"/>
              <a:chOff x="2271240" y="1418760"/>
              <a:chExt cx="6869160" cy="52434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2271240" y="1418760"/>
                <a:ext cx="2058840" cy="911520"/>
                <a:chOff x="2271240" y="1418760"/>
                <a:chExt cx="2058840" cy="9115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2271240" y="1418760"/>
                  <a:ext cx="205884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271240" y="1418760"/>
                  <a:ext cx="205884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330080" y="1418760"/>
                <a:ext cx="4810320" cy="911520"/>
                <a:chOff x="4330080" y="1418760"/>
                <a:chExt cx="4810320" cy="9115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330080" y="1418760"/>
                  <a:ext cx="481032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乾電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30080" y="1418760"/>
                  <a:ext cx="481032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271240" y="2330640"/>
                <a:ext cx="2058840" cy="911520"/>
                <a:chOff x="2271240" y="2330640"/>
                <a:chExt cx="2058840" cy="9115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271240" y="2330640"/>
                  <a:ext cx="205884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71240" y="2330640"/>
                  <a:ext cx="205884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330080" y="2330640"/>
                <a:ext cx="4810320" cy="911520"/>
                <a:chOff x="4330080" y="2330640"/>
                <a:chExt cx="4810320" cy="9115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330080" y="2330640"/>
                  <a:ext cx="481032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乾電池蓄鉛電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330080" y="2330640"/>
                  <a:ext cx="481032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271240" y="3242520"/>
                <a:ext cx="2058840" cy="1253880"/>
                <a:chOff x="2271240" y="3242520"/>
                <a:chExt cx="2058840" cy="12538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271240" y="3242520"/>
                  <a:ext cx="2058840" cy="12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71240" y="3242520"/>
                  <a:ext cx="2058840" cy="12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330080" y="3242520"/>
                <a:ext cx="4810320" cy="1253880"/>
                <a:chOff x="4330080" y="3242520"/>
                <a:chExt cx="4810320" cy="12538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330080" y="3242520"/>
                  <a:ext cx="4810320" cy="12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包括水銀電池、鹼性電池、鋰電池、鎳鎘電池、鎳氫電池、充電電池、大哥大電池、鈕扣型電池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330080" y="3242520"/>
                  <a:ext cx="4810320" cy="12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2271240" y="4496760"/>
                <a:ext cx="2058840" cy="1253160"/>
                <a:chOff x="2271240" y="4496760"/>
                <a:chExt cx="2058840" cy="1253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271240" y="4496760"/>
                  <a:ext cx="2058840" cy="12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71240" y="4496760"/>
                  <a:ext cx="2058840" cy="1253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330080" y="4496760"/>
                <a:ext cx="4810320" cy="1253160"/>
                <a:chOff x="4330080" y="4496760"/>
                <a:chExt cx="4810320" cy="12531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330080" y="4496760"/>
                  <a:ext cx="4810320" cy="12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1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請以非金屬瓶罐收集，以免腐蝕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辦公室或學校可統一收集，一定量時再一起送至回收點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330080" y="4496760"/>
                  <a:ext cx="4810320" cy="1253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2271240" y="5750640"/>
                <a:ext cx="2058840" cy="911520"/>
                <a:chOff x="2271240" y="5750640"/>
                <a:chExt cx="2058840" cy="9115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271240" y="5750640"/>
                  <a:ext cx="205884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71240" y="5750640"/>
                  <a:ext cx="205884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4330080" y="5750640"/>
                <a:ext cx="4810320" cy="911520"/>
                <a:chOff x="4330080" y="5750640"/>
                <a:chExt cx="4810320" cy="9115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4330080" y="5750640"/>
                  <a:ext cx="481032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(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包括便利商店、照相器材、無線電信門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30080" y="5750640"/>
                  <a:ext cx="4810320" cy="91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"/>
            <p:cNvSpPr/>
            <p:nvPr/>
          </p:nvSpPr>
          <p:spPr>
            <a:xfrm>
              <a:off x="2268360" y="1413000"/>
              <a:ext cx="6875640" cy="5255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23418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2195640" y="1143000"/>
            <a:ext cx="6948360" cy="4647960"/>
            <a:chOff x="2195640" y="1143000"/>
            <a:chExt cx="6948360" cy="4647960"/>
          </a:xfrm>
        </p:grpSpPr>
        <p:grpSp>
          <p:nvGrpSpPr>
            <p:cNvPr id="427" name=""/>
            <p:cNvGrpSpPr/>
            <p:nvPr/>
          </p:nvGrpSpPr>
          <p:grpSpPr>
            <a:xfrm>
              <a:off x="2198880" y="1149480"/>
              <a:ext cx="6941520" cy="4632840"/>
              <a:chOff x="2198880" y="1149480"/>
              <a:chExt cx="6941520" cy="463284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2198880" y="1149480"/>
                <a:ext cx="2078280" cy="1058760"/>
                <a:chOff x="2198880" y="1149480"/>
                <a:chExt cx="2078280" cy="10587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198880" y="1149480"/>
                  <a:ext cx="2078280" cy="10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198880" y="1149480"/>
                  <a:ext cx="2078280" cy="105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277160" y="1149480"/>
                <a:ext cx="4863240" cy="1058760"/>
                <a:chOff x="4277160" y="1149480"/>
                <a:chExt cx="4863240" cy="10587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277160" y="1149480"/>
                  <a:ext cx="4863240" cy="10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大型傢俱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277160" y="1149480"/>
                  <a:ext cx="4863240" cy="105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2198880" y="2208600"/>
                <a:ext cx="2078280" cy="1456200"/>
                <a:chOff x="2198880" y="2208600"/>
                <a:chExt cx="2078280" cy="14562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198880" y="2208600"/>
                  <a:ext cx="2078280" cy="145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198880" y="2208600"/>
                  <a:ext cx="2078280" cy="145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4277160" y="2208600"/>
                <a:ext cx="4863240" cy="1456200"/>
                <a:chOff x="4277160" y="2208600"/>
                <a:chExt cx="4863240" cy="14562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277160" y="2208600"/>
                  <a:ext cx="4863240" cy="145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音響（非木製音箱）、抽油煙機、彈簧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（非床墊）、手推車、瓦斯爐、大型飲水機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277160" y="2208600"/>
                  <a:ext cx="4863240" cy="145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2198880" y="3665160"/>
                <a:ext cx="2078280" cy="1058760"/>
                <a:chOff x="2198880" y="3665160"/>
                <a:chExt cx="2078280" cy="10587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2198880" y="3665160"/>
                  <a:ext cx="2078280" cy="10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198880" y="3665160"/>
                  <a:ext cx="2078280" cy="105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4277160" y="3665160"/>
                <a:ext cx="4863240" cy="1058760"/>
                <a:chOff x="4277160" y="3665160"/>
                <a:chExt cx="4863240" cy="10587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4277160" y="3665160"/>
                  <a:ext cx="4863240" cy="105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事前連絡清潔隊，約定交運時間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277160" y="3665160"/>
                  <a:ext cx="4863240" cy="105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2198880" y="4724280"/>
                <a:ext cx="2078280" cy="1058040"/>
                <a:chOff x="2198880" y="4724280"/>
                <a:chExt cx="2078280" cy="10580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2198880" y="4724280"/>
                  <a:ext cx="207828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198880" y="4724280"/>
                  <a:ext cx="207828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4277160" y="4724280"/>
                <a:ext cx="4863240" cy="1058040"/>
                <a:chOff x="4277160" y="4724280"/>
                <a:chExt cx="4863240" cy="10580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277160" y="4724280"/>
                  <a:ext cx="486324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277160" y="4724280"/>
                  <a:ext cx="486324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2" name=""/>
            <p:cNvSpPr/>
            <p:nvPr/>
          </p:nvSpPr>
          <p:spPr>
            <a:xfrm>
              <a:off x="2195640" y="1143000"/>
              <a:ext cx="6948360" cy="46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867280" y="907920"/>
            <a:ext cx="299880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2124000" y="1125360"/>
            <a:ext cx="7020000" cy="4927320"/>
            <a:chOff x="2124000" y="1125360"/>
            <a:chExt cx="7020000" cy="4927320"/>
          </a:xfrm>
        </p:grpSpPr>
        <p:grpSp>
          <p:nvGrpSpPr>
            <p:cNvPr id="455" name=""/>
            <p:cNvGrpSpPr/>
            <p:nvPr/>
          </p:nvGrpSpPr>
          <p:grpSpPr>
            <a:xfrm>
              <a:off x="2127240" y="1130760"/>
              <a:ext cx="7012440" cy="4915800"/>
              <a:chOff x="2127240" y="1130760"/>
              <a:chExt cx="7012440" cy="49158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2127240" y="1130760"/>
                <a:ext cx="2102760" cy="854640"/>
                <a:chOff x="2127240" y="1130760"/>
                <a:chExt cx="2102760" cy="8546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127240" y="1130760"/>
                  <a:ext cx="210276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127240" y="1130760"/>
                  <a:ext cx="210276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4230000" y="1130760"/>
                <a:ext cx="4909680" cy="854640"/>
                <a:chOff x="4230000" y="1130760"/>
                <a:chExt cx="4909680" cy="8546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4230000" y="1130760"/>
                  <a:ext cx="490968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照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230000" y="1130760"/>
                  <a:ext cx="490968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127240" y="1985760"/>
                <a:ext cx="2102760" cy="854640"/>
                <a:chOff x="2127240" y="1985760"/>
                <a:chExt cx="2102760" cy="8546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127240" y="1985760"/>
                  <a:ext cx="210276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127240" y="1985760"/>
                  <a:ext cx="210276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230000" y="1985760"/>
                <a:ext cx="4909680" cy="854640"/>
                <a:chOff x="4230000" y="1985760"/>
                <a:chExt cx="4909680" cy="8546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230000" y="1985760"/>
                  <a:ext cx="490968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日光燈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230000" y="1985760"/>
                  <a:ext cx="490968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2127240" y="2840760"/>
                <a:ext cx="2102760" cy="854640"/>
                <a:chOff x="2127240" y="2840760"/>
                <a:chExt cx="2102760" cy="854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127240" y="2840760"/>
                  <a:ext cx="210276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127240" y="2840760"/>
                  <a:ext cx="210276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230000" y="2840760"/>
                <a:ext cx="4909680" cy="854640"/>
                <a:chOff x="4230000" y="2840760"/>
                <a:chExt cx="4909680" cy="85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230000" y="2840760"/>
                  <a:ext cx="490968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目前只收直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230000" y="2840760"/>
                  <a:ext cx="490968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127240" y="3695760"/>
                <a:ext cx="2102760" cy="1495800"/>
                <a:chOff x="2127240" y="3695760"/>
                <a:chExt cx="2102760" cy="149580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127240" y="3695760"/>
                  <a:ext cx="2102760" cy="149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127240" y="3695760"/>
                  <a:ext cx="2102760" cy="149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230000" y="3695760"/>
                <a:ext cx="4909680" cy="1495800"/>
                <a:chOff x="4230000" y="3695760"/>
                <a:chExt cx="4909680" cy="149580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230000" y="3695760"/>
                  <a:ext cx="4909680" cy="149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1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用紙套包好，以免打破造成燈管內的有毒物質，如汞蒸汽等外洩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若打破燈管請打包好並註明，以提醒清潔人員小心割傷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230000" y="3695760"/>
                  <a:ext cx="4909680" cy="149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2127240" y="5191920"/>
                <a:ext cx="2102760" cy="854640"/>
                <a:chOff x="2127240" y="5191920"/>
                <a:chExt cx="2102760" cy="8546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127240" y="5191920"/>
                  <a:ext cx="210276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127240" y="5191920"/>
                  <a:ext cx="210276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230000" y="5191920"/>
                <a:ext cx="4909680" cy="854640"/>
                <a:chOff x="4230000" y="5191920"/>
                <a:chExt cx="4909680" cy="8546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230000" y="5191920"/>
                  <a:ext cx="4909680" cy="85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(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東亞、旭光部份經銷商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230000" y="5191920"/>
                  <a:ext cx="4909680" cy="85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6" name=""/>
            <p:cNvSpPr/>
            <p:nvPr/>
          </p:nvSpPr>
          <p:spPr>
            <a:xfrm>
              <a:off x="2124000" y="1125360"/>
              <a:ext cx="7020000" cy="4927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6300720" y="1422360"/>
            <a:ext cx="2157480" cy="19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2195640" y="1143000"/>
            <a:ext cx="6948360" cy="4723920"/>
            <a:chOff x="2195640" y="1143000"/>
            <a:chExt cx="6948360" cy="4723920"/>
          </a:xfrm>
        </p:grpSpPr>
        <p:grpSp>
          <p:nvGrpSpPr>
            <p:cNvPr id="489" name=""/>
            <p:cNvGrpSpPr/>
            <p:nvPr/>
          </p:nvGrpSpPr>
          <p:grpSpPr>
            <a:xfrm>
              <a:off x="2198880" y="1148400"/>
              <a:ext cx="6941160" cy="4711680"/>
              <a:chOff x="2198880" y="1148400"/>
              <a:chExt cx="6941160" cy="471168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198880" y="1148400"/>
                <a:ext cx="2081160" cy="876240"/>
                <a:chOff x="2198880" y="1148400"/>
                <a:chExt cx="2081160" cy="8762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198880" y="1148400"/>
                  <a:ext cx="208116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198880" y="1148400"/>
                  <a:ext cx="208116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280040" y="1148400"/>
                <a:ext cx="4860000" cy="876240"/>
                <a:chOff x="4280040" y="1148400"/>
                <a:chExt cx="4860000" cy="8762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280040" y="1148400"/>
                  <a:ext cx="486000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保麗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280040" y="1148400"/>
                  <a:ext cx="486000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2198880" y="2025000"/>
                <a:ext cx="2081160" cy="876240"/>
                <a:chOff x="2198880" y="2025000"/>
                <a:chExt cx="2081160" cy="8762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198880" y="2025000"/>
                  <a:ext cx="208116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198880" y="2025000"/>
                  <a:ext cx="208116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4280040" y="2025000"/>
                <a:ext cx="4860000" cy="876240"/>
                <a:chOff x="4280040" y="2025000"/>
                <a:chExt cx="4860000" cy="87624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4280040" y="2025000"/>
                  <a:ext cx="486000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包裝用緩衝材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280040" y="2025000"/>
                  <a:ext cx="486000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2198880" y="2901600"/>
                <a:ext cx="2081160" cy="876240"/>
                <a:chOff x="2198880" y="2901600"/>
                <a:chExt cx="2081160" cy="8762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2198880" y="2901600"/>
                  <a:ext cx="208116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198880" y="2901600"/>
                  <a:ext cx="208116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4280040" y="2901600"/>
                <a:ext cx="4860000" cy="876240"/>
                <a:chOff x="4280040" y="2901600"/>
                <a:chExt cx="4860000" cy="8762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4280040" y="2901600"/>
                  <a:ext cx="486000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家電用品襯墊緩衝材、防震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280040" y="2901600"/>
                  <a:ext cx="486000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2198880" y="3778560"/>
                <a:ext cx="2081160" cy="1204920"/>
                <a:chOff x="2198880" y="3778560"/>
                <a:chExt cx="2081160" cy="12049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2198880" y="3778560"/>
                  <a:ext cx="2081160" cy="12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198880" y="3778560"/>
                  <a:ext cx="2081160" cy="12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4280040" y="3778560"/>
                <a:ext cx="4860000" cy="1204920"/>
                <a:chOff x="4280040" y="3778560"/>
                <a:chExt cx="4860000" cy="12049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280040" y="3778560"/>
                  <a:ext cx="4860000" cy="12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最省事的時機是廠商來安裝完畢時，連同汰舊的家電一起請廠商帶回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280040" y="3778560"/>
                  <a:ext cx="4860000" cy="12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198880" y="4983840"/>
                <a:ext cx="2081160" cy="876240"/>
                <a:chOff x="2198880" y="4983840"/>
                <a:chExt cx="2081160" cy="8762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198880" y="4983840"/>
                  <a:ext cx="208116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198880" y="4983840"/>
                  <a:ext cx="208116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4280040" y="4983840"/>
                <a:ext cx="4860000" cy="876240"/>
                <a:chOff x="4280040" y="4983840"/>
                <a:chExt cx="4860000" cy="876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4280040" y="4983840"/>
                  <a:ext cx="4860000" cy="87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販售商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280040" y="4983840"/>
                  <a:ext cx="4860000" cy="87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0" name=""/>
            <p:cNvSpPr/>
            <p:nvPr/>
          </p:nvSpPr>
          <p:spPr>
            <a:xfrm>
              <a:off x="2195640" y="1143000"/>
              <a:ext cx="6948360" cy="4723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877080" y="1125360"/>
            <a:ext cx="22669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2209680" y="1125360"/>
            <a:ext cx="6934320" cy="5181480"/>
            <a:chOff x="2209680" y="1125360"/>
            <a:chExt cx="6934320" cy="5181480"/>
          </a:xfrm>
        </p:grpSpPr>
        <p:grpSp>
          <p:nvGrpSpPr>
            <p:cNvPr id="523" name=""/>
            <p:cNvGrpSpPr/>
            <p:nvPr/>
          </p:nvGrpSpPr>
          <p:grpSpPr>
            <a:xfrm>
              <a:off x="2212920" y="1132200"/>
              <a:ext cx="6927120" cy="5166360"/>
              <a:chOff x="2212920" y="1132200"/>
              <a:chExt cx="6927120" cy="516636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2212920" y="1132200"/>
                <a:ext cx="2068560" cy="1087200"/>
                <a:chOff x="2212920" y="1132200"/>
                <a:chExt cx="2068560" cy="108720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212920" y="1132200"/>
                  <a:ext cx="2068560" cy="108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212920" y="1132200"/>
                  <a:ext cx="2068560" cy="108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4281480" y="1132200"/>
                <a:ext cx="4858560" cy="1087200"/>
                <a:chOff x="4281480" y="1132200"/>
                <a:chExt cx="4858560" cy="108720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281480" y="1132200"/>
                  <a:ext cx="4858560" cy="108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舊衣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281480" y="1132200"/>
                  <a:ext cx="4858560" cy="108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2212920" y="2219760"/>
                <a:ext cx="2068560" cy="1495440"/>
                <a:chOff x="2212920" y="2219760"/>
                <a:chExt cx="2068560" cy="14954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2212920" y="2219760"/>
                  <a:ext cx="2068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212920" y="2219760"/>
                  <a:ext cx="20685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281480" y="2219760"/>
                <a:ext cx="4858560" cy="1495440"/>
                <a:chOff x="4281480" y="2219760"/>
                <a:chExt cx="4858560" cy="14954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281480" y="2219760"/>
                  <a:ext cx="4858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仍可穿著使用的舊衣捐贈貧寒人士為主，像地毯、浴巾、棉被、窗簾等請勿放入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81480" y="2219760"/>
                  <a:ext cx="48585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212920" y="3715920"/>
                <a:ext cx="2068560" cy="1495080"/>
                <a:chOff x="2212920" y="3715920"/>
                <a:chExt cx="2068560" cy="14950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212920" y="3715920"/>
                  <a:ext cx="2068560" cy="149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12920" y="3715920"/>
                  <a:ext cx="2068560" cy="149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4281480" y="3715920"/>
                <a:ext cx="4858560" cy="1495080"/>
                <a:chOff x="4281480" y="3715920"/>
                <a:chExt cx="4858560" cy="14950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4281480" y="3715920"/>
                  <a:ext cx="4858560" cy="149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0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  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折疊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以繩索捆綁打包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281480" y="3715920"/>
                  <a:ext cx="4858560" cy="149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2212920" y="5211360"/>
                <a:ext cx="2068560" cy="1087200"/>
                <a:chOff x="2212920" y="5211360"/>
                <a:chExt cx="2068560" cy="10872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212920" y="5211360"/>
                  <a:ext cx="2068560" cy="108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212920" y="5211360"/>
                  <a:ext cx="2068560" cy="108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4281480" y="5211360"/>
                <a:ext cx="4858560" cy="1087200"/>
                <a:chOff x="4281480" y="5211360"/>
                <a:chExt cx="4858560" cy="10872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4281480" y="5211360"/>
                  <a:ext cx="4858560" cy="108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商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(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各縣市合法設置之回收箱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281480" y="5211360"/>
                  <a:ext cx="4858560" cy="108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8" name=""/>
            <p:cNvSpPr/>
            <p:nvPr/>
          </p:nvSpPr>
          <p:spPr>
            <a:xfrm>
              <a:off x="2209680" y="1125360"/>
              <a:ext cx="6934320" cy="518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6818400" y="1125360"/>
            <a:ext cx="232560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Arial"/>
                <a:ea typeface="標楷體"/>
              </a:rPr>
              <a:t>環保盛裝容器出奇招！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40000" y="1341360"/>
            <a:ext cx="6803640" cy="4860720"/>
            <a:chOff x="2340000" y="1341360"/>
            <a:chExt cx="6803640" cy="4860720"/>
          </a:xfrm>
        </p:grpSpPr>
        <p:grpSp>
          <p:nvGrpSpPr>
            <p:cNvPr id="90" name=""/>
            <p:cNvGrpSpPr/>
            <p:nvPr/>
          </p:nvGrpSpPr>
          <p:grpSpPr>
            <a:xfrm>
              <a:off x="2347560" y="1346400"/>
              <a:ext cx="6787080" cy="4849920"/>
              <a:chOff x="2347560" y="1346400"/>
              <a:chExt cx="6787080" cy="484992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2347560" y="1346400"/>
                <a:ext cx="3692520" cy="668520"/>
                <a:chOff x="2347560" y="1346400"/>
                <a:chExt cx="3692520" cy="6685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376720" y="1346400"/>
                  <a:ext cx="363456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800" spc="-1" strike="noStrike">
                      <a:solidFill>
                        <a:srgbClr val="921221"/>
                      </a:solidFill>
                      <a:latin typeface="Times New Roman"/>
                      <a:ea typeface="標楷體"/>
                    </a:rPr>
                    <a:t>常購物品分類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347560" y="1346400"/>
                  <a:ext cx="36925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6040440" y="1346400"/>
                <a:ext cx="3094200" cy="668520"/>
                <a:chOff x="6040440" y="1346400"/>
                <a:chExt cx="3094200" cy="6685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069600" y="1346400"/>
                  <a:ext cx="303624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2800" spc="-1" strike="noStrike">
                      <a:solidFill>
                        <a:srgbClr val="921221"/>
                      </a:solidFill>
                      <a:latin typeface="Times New Roman"/>
                      <a:ea typeface="標楷體"/>
                    </a:rPr>
                    <a:t>建議盛裝容器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040440" y="1346400"/>
                  <a:ext cx="309420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2347560" y="2015280"/>
                <a:ext cx="3692520" cy="668880"/>
                <a:chOff x="2347560" y="2015280"/>
                <a:chExt cx="3692520" cy="668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376720" y="2015280"/>
                  <a:ext cx="363456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魚、肉類、豆腐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347560" y="2015280"/>
                  <a:ext cx="369252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040440" y="2015280"/>
                <a:ext cx="3094200" cy="668880"/>
                <a:chOff x="6040440" y="2015280"/>
                <a:chExt cx="3094200" cy="668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069600" y="2015280"/>
                  <a:ext cx="303624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保鮮盒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040440" y="2015280"/>
                  <a:ext cx="309420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347560" y="2684520"/>
                <a:ext cx="3692520" cy="668520"/>
                <a:chOff x="2347560" y="2684520"/>
                <a:chExt cx="3692520" cy="6685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76720" y="2684520"/>
                  <a:ext cx="363456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蔬菜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47560" y="2684520"/>
                  <a:ext cx="36925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040440" y="2684520"/>
                <a:ext cx="3094200" cy="668520"/>
                <a:chOff x="6040440" y="2684520"/>
                <a:chExt cx="3094200" cy="668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069600" y="2684520"/>
                  <a:ext cx="303624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報紙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040440" y="2684520"/>
                  <a:ext cx="309420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347560" y="3353400"/>
                <a:ext cx="3692520" cy="668520"/>
                <a:chOff x="2347560" y="3353400"/>
                <a:chExt cx="3692520" cy="668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376720" y="3353400"/>
                  <a:ext cx="363456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水果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347560" y="3353400"/>
                  <a:ext cx="36925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040440" y="3353400"/>
                <a:ext cx="3094200" cy="668520"/>
                <a:chOff x="6040440" y="3353400"/>
                <a:chExt cx="3094200" cy="6685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069600" y="3353400"/>
                  <a:ext cx="303624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報紙、紙袋、去殼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040440" y="3353400"/>
                  <a:ext cx="309420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2347560" y="4022280"/>
                <a:ext cx="3692520" cy="668880"/>
                <a:chOff x="2347560" y="4022280"/>
                <a:chExt cx="3692520" cy="6688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376720" y="4022280"/>
                  <a:ext cx="363456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鍋碗廚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347560" y="4022280"/>
                  <a:ext cx="369252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040440" y="4022280"/>
                <a:ext cx="3094200" cy="668880"/>
                <a:chOff x="6040440" y="4022280"/>
                <a:chExt cx="3094200" cy="6688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69600" y="4022280"/>
                  <a:ext cx="303624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報紙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40440" y="4022280"/>
                  <a:ext cx="309420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347560" y="4691520"/>
                <a:ext cx="3692520" cy="835560"/>
                <a:chOff x="2347560" y="4691520"/>
                <a:chExt cx="3692520" cy="8355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376720" y="4691520"/>
                  <a:ext cx="3634560" cy="8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五穀乾貨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（黃豆、香菇、金針類乾貨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347560" y="4691520"/>
                  <a:ext cx="3692520" cy="83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040440" y="4691520"/>
                <a:ext cx="3094200" cy="835560"/>
                <a:chOff x="6040440" y="4691520"/>
                <a:chExt cx="3094200" cy="8355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069600" y="4691520"/>
                  <a:ext cx="3036240" cy="8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保鮮盒、紙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040440" y="4691520"/>
                  <a:ext cx="3094200" cy="83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347560" y="5527440"/>
                <a:ext cx="3692520" cy="668880"/>
                <a:chOff x="2347560" y="5527440"/>
                <a:chExt cx="3692520" cy="668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376720" y="5527440"/>
                  <a:ext cx="363456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衣服、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47560" y="5527440"/>
                  <a:ext cx="369252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040440" y="5527440"/>
                <a:ext cx="3094200" cy="668880"/>
                <a:chOff x="6040440" y="5527440"/>
                <a:chExt cx="3094200" cy="668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069600" y="5527440"/>
                  <a:ext cx="3036240" cy="66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縮口布袋、紙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40440" y="5527440"/>
                  <a:ext cx="3094200" cy="66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340000" y="1341360"/>
              <a:ext cx="6803640" cy="4860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2268360" y="907920"/>
            <a:ext cx="6875640" cy="4876560"/>
            <a:chOff x="2268360" y="907920"/>
            <a:chExt cx="6875640" cy="4876560"/>
          </a:xfrm>
        </p:grpSpPr>
        <p:grpSp>
          <p:nvGrpSpPr>
            <p:cNvPr id="551" name=""/>
            <p:cNvGrpSpPr/>
            <p:nvPr/>
          </p:nvGrpSpPr>
          <p:grpSpPr>
            <a:xfrm>
              <a:off x="2271240" y="914040"/>
              <a:ext cx="6868800" cy="4862880"/>
              <a:chOff x="2271240" y="914040"/>
              <a:chExt cx="6868800" cy="4862880"/>
            </a:xfrm>
          </p:grpSpPr>
          <p:grpSp>
            <p:nvGrpSpPr>
              <p:cNvPr id="552" name=""/>
              <p:cNvGrpSpPr/>
              <p:nvPr/>
            </p:nvGrpSpPr>
            <p:grpSpPr>
              <a:xfrm>
                <a:off x="2271240" y="914040"/>
                <a:ext cx="2048760" cy="996840"/>
                <a:chOff x="2271240" y="914040"/>
                <a:chExt cx="2048760" cy="99684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2271240" y="914040"/>
                  <a:ext cx="204876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271240" y="914040"/>
                  <a:ext cx="2048760" cy="99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4320000" y="914040"/>
                <a:ext cx="4820040" cy="996840"/>
                <a:chOff x="4320000" y="914040"/>
                <a:chExt cx="4820040" cy="9968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4320000" y="914040"/>
                  <a:ext cx="482004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汽機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320000" y="914040"/>
                  <a:ext cx="4820040" cy="99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2271240" y="1911240"/>
                <a:ext cx="2048760" cy="2868120"/>
                <a:chOff x="2271240" y="1911240"/>
                <a:chExt cx="2048760" cy="28681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2271240" y="1911240"/>
                  <a:ext cx="2048760" cy="28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271240" y="1911240"/>
                  <a:ext cx="2048760" cy="286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4320000" y="1911240"/>
                <a:ext cx="4820040" cy="2868120"/>
                <a:chOff x="4320000" y="1911240"/>
                <a:chExt cx="4820040" cy="28681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320000" y="1911240"/>
                  <a:ext cx="4820040" cy="28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.</a:t>
                  </a:r>
                  <a:r>
                    <a:rPr b="0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主動報繳廢汽、機車可向環保署申領獎勵金：汽車每輛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300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元，機車每輛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00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元。若主動報繳高污染老舊廢機車並汰舊換新購買低污染噴射引擎機車，除可申領上述獎勵金每輛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00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元外，還可獲得每輛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3000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元環保署補助金哦！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 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可直接洽詢回收專線︰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0800-085-717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（您幫我清一清），或上網站︰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http://recycle.epa.gov.tw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查詢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320000" y="1911240"/>
                  <a:ext cx="4820040" cy="286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2271240" y="4780080"/>
                <a:ext cx="2048760" cy="996840"/>
                <a:chOff x="2271240" y="4780080"/>
                <a:chExt cx="2048760" cy="9968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271240" y="4780080"/>
                  <a:ext cx="204876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271240" y="4780080"/>
                  <a:ext cx="2048760" cy="99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320000" y="4780080"/>
                <a:ext cx="4820040" cy="996840"/>
                <a:chOff x="4320000" y="4780080"/>
                <a:chExt cx="4820040" cy="9968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4320000" y="4780080"/>
                  <a:ext cx="482004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商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320000" y="4780080"/>
                  <a:ext cx="4820040" cy="99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0" name=""/>
            <p:cNvSpPr/>
            <p:nvPr/>
          </p:nvSpPr>
          <p:spPr>
            <a:xfrm>
              <a:off x="2268360" y="907920"/>
              <a:ext cx="6875640" cy="4876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6084720" y="4797360"/>
            <a:ext cx="274320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268360" y="549360"/>
            <a:ext cx="37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文鼎中隸"/>
              </a:rPr>
              <a:t>四、回收管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11-4" descr=""/>
          <p:cNvPicPr/>
          <p:nvPr/>
        </p:nvPicPr>
        <p:blipFill>
          <a:blip r:embed="rId1"/>
          <a:stretch/>
        </p:blipFill>
        <p:spPr>
          <a:xfrm>
            <a:off x="2627280" y="5084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74" name="p11-6" descr=""/>
          <p:cNvPicPr/>
          <p:nvPr/>
        </p:nvPicPr>
        <p:blipFill>
          <a:blip r:embed="rId2"/>
          <a:stretch/>
        </p:blipFill>
        <p:spPr>
          <a:xfrm>
            <a:off x="4788000" y="5084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75" name="p11-8" descr=""/>
          <p:cNvPicPr/>
          <p:nvPr/>
        </p:nvPicPr>
        <p:blipFill>
          <a:blip r:embed="rId3"/>
          <a:stretch/>
        </p:blipFill>
        <p:spPr>
          <a:xfrm>
            <a:off x="6948360" y="4869000"/>
            <a:ext cx="1514520" cy="1403280"/>
          </a:xfrm>
          <a:prstGeom prst="rect">
            <a:avLst/>
          </a:prstGeom>
          <a:ln w="0">
            <a:noFill/>
          </a:ln>
        </p:spPr>
      </p:pic>
      <p:grpSp>
        <p:nvGrpSpPr>
          <p:cNvPr id="576" name=""/>
          <p:cNvGrpSpPr/>
          <p:nvPr/>
        </p:nvGrpSpPr>
        <p:grpSpPr>
          <a:xfrm>
            <a:off x="2340000" y="1773360"/>
            <a:ext cx="6335280" cy="2931840"/>
            <a:chOff x="2340000" y="1773360"/>
            <a:chExt cx="6335280" cy="2931840"/>
          </a:xfrm>
        </p:grpSpPr>
        <p:grpSp>
          <p:nvGrpSpPr>
            <p:cNvPr id="577" name=""/>
            <p:cNvGrpSpPr/>
            <p:nvPr/>
          </p:nvGrpSpPr>
          <p:grpSpPr>
            <a:xfrm>
              <a:off x="2345400" y="1777680"/>
              <a:ext cx="6323760" cy="2921760"/>
              <a:chOff x="2345400" y="1777680"/>
              <a:chExt cx="6323760" cy="292176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2345400" y="1777680"/>
                <a:ext cx="2058120" cy="639360"/>
                <a:chOff x="2345400" y="1777680"/>
                <a:chExt cx="2058120" cy="6393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2365920" y="1777680"/>
                  <a:ext cx="201708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１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345400" y="1777680"/>
                  <a:ext cx="205812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4403880" y="1777680"/>
                <a:ext cx="2058120" cy="639360"/>
                <a:chOff x="4403880" y="1777680"/>
                <a:chExt cx="2058120" cy="6393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4424040" y="1777680"/>
                  <a:ext cx="2017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２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403880" y="1777680"/>
                  <a:ext cx="205812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462720" y="1777680"/>
                <a:ext cx="2206440" cy="639360"/>
                <a:chOff x="6462720" y="1777680"/>
                <a:chExt cx="2206440" cy="6393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482880" y="1777680"/>
                  <a:ext cx="21661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2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３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462720" y="1777680"/>
                  <a:ext cx="22064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2345400" y="2417040"/>
                <a:ext cx="2058120" cy="360"/>
                <a:chOff x="2345400" y="2417040"/>
                <a:chExt cx="2058120" cy="3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365920" y="2417040"/>
                  <a:ext cx="2017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345400" y="2417040"/>
                  <a:ext cx="20581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4403880" y="2417040"/>
                <a:ext cx="2058120" cy="360"/>
                <a:chOff x="4403880" y="2417040"/>
                <a:chExt cx="2058120" cy="3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4424040" y="2417040"/>
                  <a:ext cx="201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403880" y="2417040"/>
                  <a:ext cx="20581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6462720" y="2417040"/>
                <a:ext cx="2206440" cy="360"/>
                <a:chOff x="6462720" y="2417040"/>
                <a:chExt cx="2206440" cy="3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6482880" y="2417040"/>
                  <a:ext cx="2166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462720" y="2417040"/>
                  <a:ext cx="220644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2345400" y="2417040"/>
                <a:ext cx="2058120" cy="2282400"/>
                <a:chOff x="2345400" y="2417040"/>
                <a:chExt cx="2058120" cy="228240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2365920" y="2417040"/>
                  <a:ext cx="2017080" cy="22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清潔隊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回收商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345400" y="2417040"/>
                  <a:ext cx="2058120" cy="22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4403880" y="2417040"/>
                <a:ext cx="2058120" cy="2282400"/>
                <a:chOff x="4403880" y="2417040"/>
                <a:chExt cx="2058120" cy="228240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4424040" y="2417040"/>
                  <a:ext cx="2017440" cy="22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回收點、連鎖超商、超市、量販店、清潔用品或化妝品店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403880" y="2417040"/>
                  <a:ext cx="2058120" cy="22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6462720" y="2417040"/>
                <a:ext cx="2206440" cy="2282400"/>
                <a:chOff x="6462720" y="2417040"/>
                <a:chExt cx="2206440" cy="228240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6482880" y="2417040"/>
                  <a:ext cx="2166120" cy="22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新細明體"/>
                      <a:ea typeface="標楷體"/>
                    </a:rPr>
                    <a:t>社區、學校或民間團體之資源回收站。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462720" y="2417040"/>
                  <a:ext cx="2206440" cy="22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5" name=""/>
            <p:cNvSpPr/>
            <p:nvPr/>
          </p:nvSpPr>
          <p:spPr>
            <a:xfrm>
              <a:off x="2340000" y="1773360"/>
              <a:ext cx="6335280" cy="2931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59280" y="260280"/>
            <a:ext cx="49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  <a:ea typeface="超研澤海報體"/>
              </a:rPr>
              <a:t>回收小常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34136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新細明體"/>
                <a:ea typeface="文鼎中隸"/>
              </a:rPr>
              <a:t>一、認識回收標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2438280"/>
            <a:ext cx="46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新細明體"/>
              </a:rPr>
              <a:t>回收標誌，就是意謂著民眾須做回收的意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243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10-3" descr=""/>
          <p:cNvPicPr/>
          <p:nvPr/>
        </p:nvPicPr>
        <p:blipFill>
          <a:blip r:embed="rId1"/>
          <a:stretch/>
        </p:blipFill>
        <p:spPr>
          <a:xfrm>
            <a:off x="5219640" y="4653000"/>
            <a:ext cx="20890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9764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_83" descr=""/>
          <p:cNvPicPr/>
          <p:nvPr/>
        </p:nvPicPr>
        <p:blipFill>
          <a:blip r:embed="rId1"/>
          <a:stretch/>
        </p:blipFill>
        <p:spPr>
          <a:xfrm>
            <a:off x="2340000" y="1143000"/>
            <a:ext cx="6624720" cy="279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68360" y="4027320"/>
            <a:ext cx="68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用完的油桶、牙膏盒、醬油瓶、玻璃瓶罐、化妝品玻璃瓶、飲料鋁鐵罐等，用完後以水稍作沖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擅細分類、怕麻煩或居家空間小的民眾，可將廢物收入縣市政府發放或自備的資源回收袋，放滿就交給環保局資源回收車處理，非常省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57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6858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  <a:ea typeface="文鼎中隸"/>
              </a:rPr>
              <a:t>二、回收小秘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764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_80" descr=""/>
          <p:cNvPicPr/>
          <p:nvPr/>
        </p:nvPicPr>
        <p:blipFill>
          <a:blip r:embed="rId1"/>
          <a:stretch/>
        </p:blipFill>
        <p:spPr>
          <a:xfrm>
            <a:off x="2843280" y="838080"/>
            <a:ext cx="6121440" cy="3722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11280" y="441972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利用外觀較漂亮或不礙眼的大紙箱來收集，滿了交給資源回收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舊報紙、舊書籍、各類廢紙，記得拔除圖釘、鐵片等非紙製品，攤平再稍作壓平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764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_81" descr=""/>
          <p:cNvPicPr/>
          <p:nvPr/>
        </p:nvPicPr>
        <p:blipFill>
          <a:blip r:embed="rId1"/>
          <a:stretch/>
        </p:blipFill>
        <p:spPr>
          <a:xfrm>
            <a:off x="2411280" y="-963720"/>
            <a:ext cx="6553440" cy="3810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40000" y="2637000"/>
            <a:ext cx="6423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準備一個大小適中的桶子，每天將家中的樹葉、蔬菜和水果皮（油質廚餘除外）全部放進桶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每隔幾天就將堆滿廚餘的桶子，拎到環保媽媽辦公室的大桶子內做堆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自家的陽台、頂樓也可以做簡易的堆肥；每間隔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0-3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分的廚餘堆一層泥土，讓廚餘發酵，就可以做出肥沃的堆肥，提供自家和社區綠化使用，省錢又環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9764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_82" descr="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2774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68360" y="2924280"/>
            <a:ext cx="6875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舊的棉質內衣褲，可以拿來當抹布，質好輕柔是媽媽的好幫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還能穿的好衣服，包括制服，要先洗乾淨，然後透過環保媽媽環境保護基金會（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http://www.conmofo.org.tw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）內部網路系統進行交流，直達最需要的人手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也可收集後打包，就近投入地方政府與公益團體合法設立的舊衣回收箱，或是定期上門的回收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11280" y="18900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中隸"/>
                <a:ea typeface="文鼎中隸"/>
              </a:rPr>
              <a:t>三、可回收資源</a:t>
            </a:r>
            <a:r>
              <a:rPr b="0" lang="zh-TW" sz="3200" spc="-1" strike="noStrike">
                <a:solidFill>
                  <a:srgbClr val="000000"/>
                </a:solidFill>
                <a:latin typeface="文鼎中隸"/>
                <a:ea typeface="文鼎中隸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340000" y="1197000"/>
            <a:ext cx="6278400" cy="4922280"/>
            <a:chOff x="2340000" y="1197000"/>
            <a:chExt cx="6278400" cy="4922280"/>
          </a:xfrm>
        </p:grpSpPr>
        <p:grpSp>
          <p:nvGrpSpPr>
            <p:cNvPr id="155" name=""/>
            <p:cNvGrpSpPr/>
            <p:nvPr/>
          </p:nvGrpSpPr>
          <p:grpSpPr>
            <a:xfrm>
              <a:off x="2342880" y="1202040"/>
              <a:ext cx="6271920" cy="4911480"/>
              <a:chOff x="2342880" y="1202040"/>
              <a:chExt cx="6271920" cy="49114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2342880" y="1202040"/>
                <a:ext cx="1880280" cy="801360"/>
                <a:chOff x="2342880" y="1202040"/>
                <a:chExt cx="1880280" cy="8013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342880" y="1202040"/>
                  <a:ext cx="188028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342880" y="1202040"/>
                  <a:ext cx="188028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223160" y="1202040"/>
                <a:ext cx="4391640" cy="801360"/>
                <a:chOff x="4223160" y="1202040"/>
                <a:chExt cx="4391640" cy="8013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223160" y="1202040"/>
                  <a:ext cx="4391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容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223160" y="1202040"/>
                  <a:ext cx="43916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342880" y="2003760"/>
                <a:ext cx="1880280" cy="801360"/>
                <a:chOff x="2342880" y="2003760"/>
                <a:chExt cx="1880280" cy="8013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342880" y="2003760"/>
                  <a:ext cx="188028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342880" y="2003760"/>
                  <a:ext cx="188028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223160" y="2003760"/>
                <a:ext cx="4391640" cy="801360"/>
                <a:chOff x="4223160" y="2003760"/>
                <a:chExt cx="4391640" cy="801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223160" y="2003760"/>
                  <a:ext cx="4391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塑膠類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223160" y="2003760"/>
                  <a:ext cx="43916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342880" y="2805840"/>
                <a:ext cx="1880280" cy="1102320"/>
                <a:chOff x="2342880" y="2805840"/>
                <a:chExt cx="1880280" cy="11023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342880" y="2805840"/>
                  <a:ext cx="1880280" cy="11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342880" y="2805840"/>
                  <a:ext cx="1880280" cy="11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223160" y="2805840"/>
                <a:ext cx="4391640" cy="1102320"/>
                <a:chOff x="4223160" y="2805840"/>
                <a:chExt cx="4391640" cy="11023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223160" y="2805840"/>
                  <a:ext cx="4391640" cy="11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保特瓶、塑膠材質飲料瓶罐、清潔劑瓶罐、保麗龍製及塑膠製之餐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223160" y="2805840"/>
                  <a:ext cx="4391640" cy="11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342880" y="3908520"/>
                <a:ext cx="1880280" cy="1402920"/>
                <a:chOff x="2342880" y="3908520"/>
                <a:chExt cx="1880280" cy="14029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42880" y="3908520"/>
                  <a:ext cx="1880280" cy="14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2880" y="3908520"/>
                  <a:ext cx="1880280" cy="140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223160" y="3908520"/>
                <a:ext cx="4391640" cy="1402920"/>
                <a:chOff x="4223160" y="3908520"/>
                <a:chExt cx="4391640" cy="14029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23160" y="3908520"/>
                  <a:ext cx="4391640" cy="14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1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認明回收標誌，或是上頭有三個循環箭頭包圍著阿拉伯數字１至７的號碼標誌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去除瓶蓋、吸管、倒空內容物、略加沖洗，壓扁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223160" y="3908520"/>
                  <a:ext cx="4391640" cy="1402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342880" y="5312160"/>
                <a:ext cx="1880280" cy="801360"/>
                <a:chOff x="2342880" y="5312160"/>
                <a:chExt cx="1880280" cy="8013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342880" y="5312160"/>
                  <a:ext cx="188028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342880" y="5312160"/>
                  <a:ext cx="188028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223160" y="5312160"/>
                <a:ext cx="4391640" cy="801360"/>
                <a:chOff x="4223160" y="5312160"/>
                <a:chExt cx="4391640" cy="8013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223160" y="5312160"/>
                  <a:ext cx="4391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223160" y="5312160"/>
                  <a:ext cx="43916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2340000" y="1197000"/>
              <a:ext cx="6278400" cy="4922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64000" y="692280"/>
            <a:ext cx="3124440" cy="16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268360" y="549360"/>
            <a:ext cx="6875640" cy="6308280"/>
            <a:chOff x="2268360" y="549360"/>
            <a:chExt cx="6875640" cy="6308280"/>
          </a:xfrm>
        </p:grpSpPr>
        <p:grpSp>
          <p:nvGrpSpPr>
            <p:cNvPr id="189" name=""/>
            <p:cNvGrpSpPr/>
            <p:nvPr/>
          </p:nvGrpSpPr>
          <p:grpSpPr>
            <a:xfrm>
              <a:off x="2271600" y="555840"/>
              <a:ext cx="6868440" cy="6294240"/>
              <a:chOff x="2271600" y="555840"/>
              <a:chExt cx="6868440" cy="629424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2271600" y="555840"/>
                <a:ext cx="2350800" cy="1027080"/>
                <a:chOff x="2271600" y="555840"/>
                <a:chExt cx="2350800" cy="1027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271600" y="555840"/>
                  <a:ext cx="235080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類別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271600" y="555840"/>
                  <a:ext cx="235080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622400" y="555840"/>
                <a:ext cx="4517640" cy="1027080"/>
                <a:chOff x="4622400" y="555840"/>
                <a:chExt cx="4517640" cy="1027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622400" y="555840"/>
                  <a:ext cx="451764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容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22400" y="555840"/>
                  <a:ext cx="451764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271600" y="1583280"/>
                <a:ext cx="2350800" cy="1027080"/>
                <a:chOff x="2271600" y="1583280"/>
                <a:chExt cx="2350800" cy="1027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271600" y="1583280"/>
                  <a:ext cx="235080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項目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271600" y="1583280"/>
                  <a:ext cx="235080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622400" y="1583280"/>
                <a:ext cx="4517640" cy="1027080"/>
                <a:chOff x="4622400" y="1583280"/>
                <a:chExt cx="4517640" cy="10270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622400" y="1583280"/>
                  <a:ext cx="451764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鐵、鋁類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22400" y="1583280"/>
                  <a:ext cx="451764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271600" y="2611080"/>
                <a:ext cx="2350800" cy="1027080"/>
                <a:chOff x="2271600" y="2611080"/>
                <a:chExt cx="2350800" cy="1027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271600" y="2611080"/>
                  <a:ext cx="235080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說明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71600" y="2611080"/>
                  <a:ext cx="235080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622400" y="2611080"/>
                <a:ext cx="4517640" cy="1027080"/>
                <a:chOff x="4622400" y="2611080"/>
                <a:chExt cx="4517640" cy="10270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622400" y="2611080"/>
                  <a:ext cx="451764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食物鐵罐、飲料鋁罐、瓦斯罐、殺蟲劑、塗料鐵罐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622400" y="2611080"/>
                  <a:ext cx="451764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271600" y="3638880"/>
                <a:ext cx="2350800" cy="2183760"/>
                <a:chOff x="2271600" y="3638880"/>
                <a:chExt cx="2350800" cy="2183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271600" y="3638880"/>
                  <a:ext cx="2350800" cy="21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及包紮要領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71600" y="3638880"/>
                  <a:ext cx="2350800" cy="21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622400" y="3638880"/>
                <a:ext cx="4517640" cy="2183760"/>
                <a:chOff x="4622400" y="3638880"/>
                <a:chExt cx="4517640" cy="21837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622400" y="3638880"/>
                  <a:ext cx="4517640" cy="21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11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去除瓶蓋、吸管、倒空內容物、略加沖洗，壓扁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2.</a:t>
                  </a:r>
                  <a:r>
                    <a:rPr b="1" lang="zh-TW" sz="7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  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廢潤滑油則可在加油站更新時回收容器。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3.</a:t>
                  </a: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特殊容器像瓦斯罐、殺蟲劑，高壓容器應確認使用完畢（減壓），最好單獨打包。</a:t>
                  </a:r>
                  <a:r>
                    <a:rPr b="0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622400" y="3638880"/>
                  <a:ext cx="4517640" cy="21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271600" y="5823000"/>
                <a:ext cx="2350800" cy="1027080"/>
                <a:chOff x="2271600" y="5823000"/>
                <a:chExt cx="2350800" cy="10270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271600" y="5823000"/>
                  <a:ext cx="235080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回收管道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71600" y="5823000"/>
                  <a:ext cx="235080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622400" y="5823000"/>
                <a:ext cx="4517640" cy="1027080"/>
                <a:chOff x="4622400" y="5823000"/>
                <a:chExt cx="4517640" cy="10270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622400" y="5823000"/>
                  <a:ext cx="4517640" cy="102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標楷體"/>
                      <a:ea typeface="標楷體"/>
                    </a:rPr>
                    <a:t>資源回收車、販售商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622400" y="5823000"/>
                  <a:ext cx="4517640" cy="1027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2268360" y="549360"/>
              <a:ext cx="6875640" cy="6308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732720" y="981000"/>
            <a:ext cx="1828800" cy="175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13:09:51Z</dcterms:created>
  <dc:creator>黃馨萍</dc:creator>
  <dc:description/>
  <dc:language>en-US</dc:language>
  <cp:lastModifiedBy>USER</cp:lastModifiedBy>
  <dcterms:modified xsi:type="dcterms:W3CDTF">2012-05-20T06:22:58Z</dcterms:modified>
  <cp:revision>35</cp:revision>
  <dc:subject/>
  <dc:title>垃圾大戰我最贏</dc:title>
</cp:coreProperties>
</file>