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8C1-22A1-4A9E-97D7-976666FC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7DA7-61D2-4515-933E-BC1DC01C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7AE1-7437-460A-BE3D-D025A1FE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E83A-94FF-438A-9564-53A464E7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928-9ED1-48E2-960E-E202F12D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D7C-466E-4A21-A449-BB4B940A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B65-E54B-4D0D-96EC-0B63FBA4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05BD-0A06-4893-9B3A-E6F93399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7F75-0F31-4788-8594-37F0374B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9B4-2515-413F-BB29-5D532991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6F6-F1DA-4AE6-8CE0-6C9C51A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DBC-A00B-4613-92B3-0B951CF0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3A2-4EA4-41CE-9DA5-945BC03F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643-B8DA-4550-AB62-364A753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BF39-3AEC-47CA-8275-82A754F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ED20-1070-4488-AA96-1A9179CD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55D1-3811-44A9-91D3-3EC58243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435F-2579-4EAD-B40D-5B6B6666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B24C-311E-4AAE-8FC5-3E17A50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B815-5B6C-46EF-9047-0FF5572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248-B826-4834-910B-74DAE91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5DDA-3719-4408-A30A-5E8C844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820D-61A2-45F0-AAC4-98150B1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9685-9595-4538-9D25-94AE1AB1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01CB-8395-4695-AF76-1CB68F27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7D5B-16C3-4CC4-B486-CE63D06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9D5-EF87-4DC9-BB07-61F724C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F83-FB3F-4A5C-A945-DB333479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FD4-0817-4F08-A082-62D58944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1F4-57A8-44F3-999A-54A79AA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967-C5E3-4E05-8129-FE4D8868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DA0-0803-4F54-8670-7CBDC62D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807-F58C-4A29-8D49-0D5FDE7D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D75-6DCE-4F06-8581-2EEFC684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D753-4815-43F4-980A-7F2D296B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/>
          <p:cNvPicPr/>
          <p:nvPr/>
        </p:nvPicPr>
        <p:blipFill>
          <a:blip r:embed="rId3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棒球或拳頭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033640" cy="1609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67280" y="4941720"/>
            <a:ext cx="2251080" cy="170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332000" y="357336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635280" y="2924280"/>
            <a:ext cx="21430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個壘球大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2303280" cy="1994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665080" cy="2328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076720" y="1700280"/>
            <a:ext cx="2590920" cy="1854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躲避球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544840" cy="216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根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蓮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4508640"/>
            <a:ext cx="2470320" cy="1768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24360" y="393372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2-05-02T06:40:39Z</dcterms:modified>
  <cp:revision>53</cp:revision>
  <dc:subject/>
  <dc:title>環保蔬食好健康</dc:title>
</cp:coreProperties>
</file>