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0.jpeg" ContentType="image/jpeg"/>
  <Override PartName="/ppt/media/image19.png" ContentType="image/png"/>
  <Override PartName="/ppt/media/image2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41.jpeg" ContentType="image/jpeg"/>
  <Override PartName="/ppt/media/image42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C146-1082-40EC-9717-133CC4A60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FD6A-C3E5-495C-8C83-094513AED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6193-508B-4615-ACC5-254BA4A87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55B7-4AFC-4C39-A1A9-D8CC3B495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480C-2557-42E8-95C3-0ED732CE5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A098-4C22-4466-BCD9-C28341E19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7E13-DFDE-4DA2-83A7-B86E8FED7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CC85-8C96-45CE-90E6-3F2D44BFE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FD01-0345-49F8-8D73-8B3E333C8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A5BF-8983-416A-B4E4-0ABA33E7F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C665-7041-44B0-B751-C2AFD1011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1AF1-0316-435C-84BB-BD90E6F94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C100-059A-47F9-A35E-1C07C6170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93AD-0ED3-4477-8C31-7D37EDFF9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C6D9-4F12-4164-9452-25E492846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961F-4041-406B-865F-822A09AA0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042A-A9CB-4E5A-9330-DAF85E83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170B-A2A4-445E-89F4-92D7CF36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BE4C-E188-4FC6-87F2-777F59E51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6298-E873-4050-A66C-648C8CFE6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C870-206C-471B-846F-95FB3B1F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8512-7E71-4585-825B-E434EDE5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1FB2-EA7C-407A-80CD-E5521DD4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8660-2092-4761-A00A-E2AAC87A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D238-45F6-4E27-9A4E-203C8748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44BF-4B89-43EC-9BC7-39EF890D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AE92-31B3-4BE9-830E-8E31B183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2834-FE4D-4C43-8509-54AA4BB6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DAD6-29A8-4500-9628-A326F550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C91F-DA4E-4377-80D6-879B91B3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9605-F24A-4C0F-88B9-E147D8D0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F858-41DD-4AC7-9392-656D2B9A7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4379-510C-4F7B-BAF1-D8E7BE8D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FB55-92D0-4866-A7A0-58AAE108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2844-252F-48FC-ACB6-3DF42825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FAAB-3240-4B1A-8774-29144843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F0B4-72FA-4631-AB43-36A9FC46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79B5-B399-44A6-8AFD-D24B6364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3E41-AC65-4E78-9C06-4DC064A7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10AC-C1A1-473E-A0E6-E4F32D640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3C51-CD09-4152-9805-2D994A747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hyperlink" Target="http://tw.wrs.yahoo.com/_ylt=A3eg8_jWd71MRl8AIBxt1gt.;_ylu=X3oDMTBrZ20xOHVwBHBvcwMxMDQEc2VjA3NyBHZ0aWQD/SIG=1nh2c9vhn/EXP=1287571798/**http%3A//tw.image.search.yahoo.com/images/view%3Fback=http%253A%252F%252Ftw.image.search.yahoo.com%252Fsearch%252Fimages%253Fp%253D%2525E4%2525B8%252580%2525E4%2525BB%2525BD%2525E6%2525B0%2525B4%2525E6%25259E%25259C%2526js%253D1%2526b%253D101%2526ni%253D20%2526ei%253Dutf-8%2526pstart%253D1%2526fr%253Dyfp%26w=600%26h=450%26imgurl=c-photo.i-part.com.tw%252Fn1v1%252F3%252F9%252F1%252F3%252F353193%252Fphoto%252Fbook23%252F124260874212.jpeg%26rurl=http%253A%252F%252Fblog.yam.com%252Fpshge%252Farticle%252F21138486%26size=194k%26name=124260874212%2Bjpe...%26p=%25E4%25B8%2580%25E4%25BB%25BD%25E6%25B0%25B4%25E6%259E%259C%26oid=080050a99b19f734%26fr2=%26no=104%26tt=8541%26b=101%26ni=20%26sigr=11a3ojvl7%26sigi=128d73pdj%26sigb=13ve4fmmm&amp;type=JPG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3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tw.wrs.yahoo.com/_ylt=A3eg8qkNw59JJYEAXglt1gt./SIG=1g32g8j5d/EXP=1235293325/**http:/tw.info.search.yahoo.com/search/images/view?back=http://tw.info.search.yahoo.com/search/images?p=&#26611;&#19969;&amp;ei=UTF-8&amp;fr=yfp&amp;x=wrt&amp;w=1600&amp;h=1200&amp;imgurl=photo.fhl.net/img/virgit/4.jpg&amp;rurl=http://photo.fhl.net/gb/virgit/virgit4.html&amp;size=363.3kB&amp;name=4.jpg&amp;p=&#26611;&#19969;&amp;type=jpeg&amp;no=6&amp;tt=40,783&amp;oid=b9871f58f1c93998&amp;ei=UTF-8" TargetMode="External"/><Relationship Id="rId3" Type="http://schemas.openxmlformats.org/officeDocument/2006/relationships/image" Target="../media/image30.jpeg"/><Relationship Id="rId4" Type="http://schemas.openxmlformats.org/officeDocument/2006/relationships/hyperlink" Target="http://www.365shu.com/photography/2080/html/wallpaper94.html" TargetMode="External"/><Relationship Id="rId5" Type="http://schemas.openxmlformats.org/officeDocument/2006/relationships/image" Target="../media/image31.jpeg"/><Relationship Id="rId6" Type="http://schemas.openxmlformats.org/officeDocument/2006/relationships/hyperlink" Target="http://www.365shu.com/photography/2080/html/wallpaper91.html" TargetMode="External"/><Relationship Id="rId7" Type="http://schemas.openxmlformats.org/officeDocument/2006/relationships/image" Target="../media/image32.jpeg"/><Relationship Id="rId8" Type="http://schemas.openxmlformats.org/officeDocument/2006/relationships/hyperlink" Target="http://tw.wrs.yahoo.com/_ylt=A3eg8_mCc71Ml8QAYZ5t1gt.;_ylu=X3oDMTBqM3IzZ25kBHBvcwMzMgRzZWMDc3IEdnRpZAM-/SIG=1rg3ouh2r/EXP=1287570690/**http%3A//tw.image.search.yahoo.com/images/view%3Fback=http%253A%252F%252Ftw.image.search.yahoo.com%252Fsearch%252Fimages%253Fp%253D%2525E7%2525B4%252585%2525E8%252598%2525BF%2525E8%252594%252594%2526b%253D21%2526ni%253D20%2526ei%253DUTF-8%2526pstart%253D1%2526fr%253Dyfp%26w=401%26h=299%26imgurl=fj.sinaimg.cn%252F2009%252F1224%252F20091224104426.jpg%26rurl=http%253A%252F%252Ffj.sina.com.cn%252Fhealth%252Fh%252Fm%252F2009-12-24%252F10481580.html%26size=24k%26name=%25E8%2583%25A1%25E8%2590%259D%25E5%258D%259C%25E6%2598%25AF%25E5%25B9%25B3%25E6%25B0%2591%25E4%25BA%25BA%25E5%258F%2582%2B%25E7%2582%25B8%25E6%25B1%2581%25E7%25A9%25BA%25E8%2585%25B9%25E5%2596%259D%25E8%2590%25A5%25E5%2585%25BB...%26p=%25E7%25B4%2585%25E8%2598%25BF%25E8%2594%2594%26oid=9c157fb57490ac24%26fr2=%26no=32%26tt=93881%26b=21%26ni=20%26sigr=11p6vi2ss%26sigi=11a4ilo3v%26sigb=13gon78po&amp;type=JPG" TargetMode="External"/><Relationship Id="rId9" Type="http://schemas.openxmlformats.org/officeDocument/2006/relationships/image" Target="../media/image3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tw.wrs.yahoo.com/_ylt=A3eg8_jOTr1MF0UAP25t1gt.;_ylu=X3oDMTBqZjdtb25uBHBvcwMyNgRzZWMDc3IEdnRpZAM-/SIG=1neq0udlv/EXP=1287561294/**http%3A//tw.image.search.yahoo.com/images/view%3Fback=http%253A%252F%252Ftw.image.search.yahoo.com%252Fsearch%252Fimages%253Fp%253D%2525E7%2525B4%2525AB%2525E8%252589%2525B2%2525E8%252594%2525AC%2525E8%25258F%25259C%2526js%253D1%2526b%253D21%2526ni%253D20%2526ei%253Dutf-8%2526pstart%253D1%2526fr%253Dsfp%26w=400%26h=329%26imgurl=www.china12315.com.cn%252FUpFiles%252FnewsPic%252F2009041410384247021.jpg%26rurl=http%253A%252F%252Fwww.china12315.com.cn%252Fhtml%252Fxfz%252F2009%252F0414%252Fn_20090414808550162.shtml%26size=46k%26name=2009041410384247...%26p=%25E7%25B4%25AB%25E8%2589%25B2%25E8%2594%25AC%25E8%258F%259C%26oid=e3eba4606980664c%26fr2=%26no=26%26tt=575%26b=21%26ni=20%26sigr=1298b8bsr%26sigi=11t4nuhec%26sigb=13u9kevtb&amp;type=JPG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tw.wrs.yahoo.com/_ylt=A3eg8_cQTr1M9NEANUZt1gt.;_ylu=X3oDMTBpY2Y5NXNiBHBvcwM2BHNlYwNzcgR2dGlkAw--/SIG=1lpr19oht/EXP=1287561104/**http%3A//tw.image.search.yahoo.com/images/view%3Fback=http%253A%252F%252Ftw.image.search.yahoo.com%252Fsearch%252Fimages%253Fp%253D%2525E7%2525B4%2525AB%2525E8%252589%2525B2%2525E8%252594%2525AC%2525E8%25258F%25259C%2526js%253D1%2526b%253D1%2526ni%253D20%2526ei%253Dutf-8%2526pstart%253D1%2526fr%253Dsfp%26w=420%26h=308%26imgurl=image.39.net%252F085%252F14%252F166596_s_3115.jpg%26rurl=http%253A%252F%252Fwoman.39.net%252Fnxyy%252F085%252F16%252F428524_1.html%26size=16k%26name=166596%2Bs%2B3115%2Bjp...%26p=%25E7%25B4%25AB%25E8%2589%25B2%25E8%2594%25AC%25E8%258F%259C%26oid=31a8dac0c2fc855e%26fr2=%26no=6%26tt=577%26b=1%26ni=20%26sigr=11deo0jpb%26sigi=115mh2efg%26sigb=13t3mptln&amp;type=JPG" TargetMode="External"/><Relationship Id="rId4" Type="http://schemas.openxmlformats.org/officeDocument/2006/relationships/image" Target="../media/image35.jpeg"/><Relationship Id="rId5" Type="http://schemas.openxmlformats.org/officeDocument/2006/relationships/hyperlink" Target="http://tw.wrs.yahoo.com/_ylt=A3eg8qg1v59JQG0BEaVt1gt./SIG=1hhaifokv/EXP=1235292341/**http:/tw.info.search.yahoo.com/search/images/view?back=http://tw.info.search.yahoo.com/search/images?p=&#21152;&#24030;&#26446;&amp;ei=UTF-8&amp;fr=yfp&amp;b=1&amp;w=180&amp;h=127&amp;imgurl=www.homestay.com.tw/images/r-ad/P5161013.jpg&amp;rurl=http://www.homestay.com.tw/R-AD/specially.htm&amp;size=15.6kB&amp;name=P5161013.jpg&amp;p=&#21152;&#24030;&#26446;&amp;type=jpeg&amp;no=4&amp;tt=79&amp;oid=629fc744a0e760d0&amp;ei=UTF-8" TargetMode="External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tw.wrs.yahoo.com/_ylt=A3eg8_lpS71MwbYAz9Bt1gt.;_ylu=X3oDMTBqY2pzbGhoBHBvcwMxMQRzZWMDc3IEdnRpZAM-/SIG=1lmllbq1e/EXP=1287560425/**http%3A//tw.image.search.yahoo.com/images/view%3Fback=http%253A%252F%252Ftw.image.search.yahoo.com%252Fsearch%252Fimages%253Fp%253D%2525E7%252599%2525BD%2525E8%252598%2525BF%2525E8%252594%252594%2526b%253D1%2526ni%253D20%2526ei%253Dutf-8%2526pstart%253D1%2526fr%253Dsfp%26w=350%26h=280%26imgurl=sh.sinaimg.cn%252F2009%252F0611%252F2009611162852.jpg%26rurl=http%253A%252F%252Fwww.labour-daily.cn%252FWeb%252FNewsDetail.aspx%253FIssuanceID%253D147118%26size=33k%26name=%25E7%2599%25BD%25E8%2590%259D%25E5%258D%259C%26p=%25E7%2599%25BD%25E8%2598%25BF%25E8%2594%2594%26oid=f69892804f3facca%26fr2=%26no=11%26tt=39846%26b=1%26ni=20%26sigr=120p7hbd4%26sigi=119apdiu7%26sigb=13ffo0l2o&amp;type=JPG" TargetMode="External"/><Relationship Id="rId2" Type="http://schemas.openxmlformats.org/officeDocument/2006/relationships/image" Target="../media/image37.jpeg"/><Relationship Id="rId3" Type="http://schemas.openxmlformats.org/officeDocument/2006/relationships/hyperlink" Target="http://tw.wrs.yahoo.com/_ylt=A3eg8qtyvZ9JzCYAcX1t1gt./SIG=1neivf6mu/EXP=1235291890/**http:/tw.info.search.yahoo.com/search/images/view?back=http://tw.info.search.yahoo.com/search/images?p=&#26792;&#23376;&amp;ei=UTF-8&amp;pstart=1&amp;fr=yfp&amp;b=1&amp;w=500&amp;h=375&amp;imgurl=static.flickr.com/92/258396840_0e08de22cd.jpg&amp;rurl=http://www.flickr.com/photos/nicole_lee/258396840/&amp;size=57.4kB&amp;name=093045&#22312;CHINATOWN&#35041;&#30340;&#33775;&#20154;&#36229;&#24066;...&amp;p=&#26792;&#23376;&amp;type=jpeg&amp;no=1&amp;tt=20,270&amp;oid=0e5c4c2cfdc0d75a&amp;ei=UTF-8&amp;fusr=Nicole_Daily&amp;hurl=http:/www.flickr.com/photos/nicole_lee/&amp;src=flickr" TargetMode="External"/><Relationship Id="rId4" Type="http://schemas.openxmlformats.org/officeDocument/2006/relationships/image" Target="../media/image38.jpeg"/><Relationship Id="rId5" Type="http://schemas.openxmlformats.org/officeDocument/2006/relationships/hyperlink" Target="http://tw.wrs.yahoo.com/_ylt=A3eg8qb1vZ9JdnEARzVt1gt./SIG=1iul0odej/EXP=1235292021/**http:/tw.info.search.yahoo.com/search/images/view?back=http://tw.info.search.yahoo.com/search/images?p=&#40657;&#26408;&#32819;&amp;ei=UTF-8&amp;pstart=1&amp;fr=yfp&amp;b=341&amp;w=450&amp;h=481&amp;imgurl=www.pclady.com.cn/health/ysjk/0609/pic/182.jpg&amp;rurl=http://www.pclady.com.cn/health/ysjk/0609/114343.html&amp;size=44.4kB&amp;name=182.jpg&amp;p=&#40657;&#26408;&#32819;&amp;type=jpeg&amp;no=341&amp;tt=3,282&amp;oid=8c7f7e90b2235222&amp;ei=UTF-8" TargetMode="External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6160" y="907920"/>
            <a:ext cx="8367840" cy="17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0099"/>
                </a:solidFill>
                <a:latin typeface="Arial Black"/>
              </a:rPr>
              <a:t>環保蔬食好健康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258920" y="2204640"/>
            <a:ext cx="626112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興國國小營養師梁春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4"/>
          <p:cNvPicPr/>
          <p:nvPr/>
        </p:nvPicPr>
        <p:blipFill>
          <a:blip r:embed="rId1"/>
          <a:stretch/>
        </p:blipFill>
        <p:spPr>
          <a:xfrm>
            <a:off x="4859280" y="2997360"/>
            <a:ext cx="3527640" cy="3166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112615"/>
          <p:cNvPicPr/>
          <p:nvPr/>
        </p:nvPicPr>
        <p:blipFill>
          <a:blip r:embed="rId2"/>
          <a:stretch/>
        </p:blipFill>
        <p:spPr>
          <a:xfrm>
            <a:off x="755640" y="4005360"/>
            <a:ext cx="2448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蔬菜</a:t>
            </a:r>
            <a:r>
              <a:rPr b="1" lang="en-US" sz="4400" spc="-1" strike="noStrike">
                <a:solidFill>
                  <a:srgbClr val="000099"/>
                </a:solidFill>
                <a:latin typeface="Arial Black"/>
              </a:rPr>
              <a:t>1</a:t>
            </a: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生青菜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公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煮熟青菜半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圖片1"/>
          <p:cNvPicPr/>
          <p:nvPr/>
        </p:nvPicPr>
        <p:blipFill>
          <a:blip r:embed="rId1"/>
          <a:stretch/>
        </p:blipFill>
        <p:spPr>
          <a:xfrm>
            <a:off x="1547640" y="3789360"/>
            <a:ext cx="3170520" cy="2376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圖片2"/>
          <p:cNvPicPr/>
          <p:nvPr/>
        </p:nvPicPr>
        <p:blipFill>
          <a:blip r:embed="rId2"/>
          <a:stretch/>
        </p:blipFill>
        <p:spPr>
          <a:xfrm>
            <a:off x="5148360" y="3789360"/>
            <a:ext cx="33098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水果</a:t>
            </a:r>
            <a:r>
              <a:rPr b="1" lang="en-US" sz="4400" spc="-1" strike="noStrike">
                <a:solidFill>
                  <a:srgbClr val="000099"/>
                </a:solidFill>
                <a:latin typeface="Arial Black"/>
              </a:rPr>
              <a:t>1</a:t>
            </a: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拳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棒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大小水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壘球大小水果半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躲避球大小水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/6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DSC01732"/>
          <p:cNvPicPr/>
          <p:nvPr/>
        </p:nvPicPr>
        <p:blipFill>
          <a:blip r:embed="rId1"/>
          <a:stretch/>
        </p:blipFill>
        <p:spPr>
          <a:xfrm>
            <a:off x="971640" y="4941720"/>
            <a:ext cx="1917720" cy="1438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rcRect l="9549" t="0" r="10733" b="14994"/>
          <a:stretch/>
        </p:blipFill>
        <p:spPr>
          <a:xfrm>
            <a:off x="3419640" y="4365720"/>
            <a:ext cx="2232000" cy="20811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8028000" y="6308640"/>
            <a:ext cx="8064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2" descr="進入標準尺寸的圖片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84720" y="4292640"/>
            <a:ext cx="223056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彩虹蔬果健康多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647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各色蔬果所含之纖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維生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礦物質及植物性化學成分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圖片3"/>
          <p:cNvPicPr/>
          <p:nvPr/>
        </p:nvPicPr>
        <p:blipFill>
          <a:blip r:embed="rId1"/>
          <a:stretch/>
        </p:blipFill>
        <p:spPr>
          <a:xfrm>
            <a:off x="4859280" y="2997360"/>
            <a:ext cx="3600360" cy="3384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圖片18"/>
          <p:cNvPicPr/>
          <p:nvPr/>
        </p:nvPicPr>
        <p:blipFill>
          <a:blip r:embed="rId2"/>
          <a:stretch/>
        </p:blipFill>
        <p:spPr>
          <a:xfrm>
            <a:off x="826920" y="4869000"/>
            <a:ext cx="1579680" cy="1191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圖片21"/>
          <p:cNvPicPr/>
          <p:nvPr/>
        </p:nvPicPr>
        <p:blipFill>
          <a:blip r:embed="rId3"/>
          <a:stretch/>
        </p:blipFill>
        <p:spPr>
          <a:xfrm>
            <a:off x="2050920" y="3933720"/>
            <a:ext cx="1590840" cy="1006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圖片25"/>
          <p:cNvPicPr/>
          <p:nvPr/>
        </p:nvPicPr>
        <p:blipFill>
          <a:blip r:embed="rId4"/>
          <a:stretch/>
        </p:blipFill>
        <p:spPr>
          <a:xfrm>
            <a:off x="2268360" y="4941720"/>
            <a:ext cx="2165400" cy="11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綠色蔬果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降低癌症發生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纖維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促進視覺健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維生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強健骨骼牙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每日至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份深綠色蔬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DSC01732"/>
          <p:cNvPicPr/>
          <p:nvPr/>
        </p:nvPicPr>
        <p:blipFill>
          <a:blip r:embed="rId1"/>
          <a:stretch/>
        </p:blipFill>
        <p:spPr>
          <a:xfrm>
            <a:off x="900000" y="49417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圖片18"/>
          <p:cNvPicPr/>
          <p:nvPr/>
        </p:nvPicPr>
        <p:blipFill>
          <a:blip r:embed="rId2"/>
          <a:stretch/>
        </p:blipFill>
        <p:spPr>
          <a:xfrm>
            <a:off x="2843280" y="5013360"/>
            <a:ext cx="1579320" cy="1192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圖片20"/>
          <p:cNvPicPr/>
          <p:nvPr/>
        </p:nvPicPr>
        <p:blipFill>
          <a:blip r:embed="rId3"/>
          <a:stretch/>
        </p:blipFill>
        <p:spPr>
          <a:xfrm>
            <a:off x="4427640" y="5013360"/>
            <a:ext cx="1508040" cy="1141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圖片22"/>
          <p:cNvPicPr/>
          <p:nvPr/>
        </p:nvPicPr>
        <p:blipFill>
          <a:blip r:embed="rId4"/>
          <a:stretch/>
        </p:blipFill>
        <p:spPr>
          <a:xfrm>
            <a:off x="6084720" y="5013360"/>
            <a:ext cx="1467000" cy="11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黃色及橘色蔬果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5389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含豐富抗氧化物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維生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類葫蘿蔔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促進健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DSC01737"/>
          <p:cNvPicPr/>
          <p:nvPr/>
        </p:nvPicPr>
        <p:blipFill>
          <a:blip r:embed="rId1"/>
          <a:stretch/>
        </p:blipFill>
        <p:spPr>
          <a:xfrm>
            <a:off x="1116000" y="5013360"/>
            <a:ext cx="1701720" cy="1295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7" descr="進入標準尺寸的圖片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4869000"/>
            <a:ext cx="2519280" cy="1563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新鮮蔬菜水果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4581360"/>
            <a:ext cx="2448000" cy="1798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新鮮蔬菜水果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940360" y="2852640"/>
            <a:ext cx="2125800" cy="1311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6" descr="進入標準尺寸的圖片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796000" y="907920"/>
            <a:ext cx="25909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藍色及紫色蔬果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含許多增進健康之植物性化學成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降低癌症發生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抗老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助增強記憶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5" descr="進入標準尺寸的圖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5013360"/>
            <a:ext cx="1728720" cy="1224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3" descr="進入標準尺寸的圖片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5084640"/>
            <a:ext cx="1728720" cy="1028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進入標準尺寸的圖片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700360" y="4941720"/>
            <a:ext cx="17794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白色蔬果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含不同量之植物性化學成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降低癌症發生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減少心血管疾病發生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4" descr="進入標準尺寸的圖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4653000"/>
            <a:ext cx="2303640" cy="1511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進入標準尺寸的圖片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95640" y="4724280"/>
            <a:ext cx="2158920" cy="1371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" descr="進入標準尺寸的圖片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72360" y="4365720"/>
            <a:ext cx="1650960" cy="1692360"/>
          </a:xfrm>
          <a:prstGeom prst="rect">
            <a:avLst/>
          </a:prstGeom>
          <a:ln w="0">
            <a:noFill/>
          </a:ln>
        </p:spPr>
      </p:pic>
      <p:pic>
        <p:nvPicPr>
          <p:cNvPr id="179" name="圖片 8" descr="白菜_1~1.JPG"/>
          <p:cNvPicPr/>
          <p:nvPr/>
        </p:nvPicPr>
        <p:blipFill>
          <a:blip r:embed="rId7"/>
          <a:stretch/>
        </p:blipFill>
        <p:spPr>
          <a:xfrm>
            <a:off x="6370560" y="692280"/>
            <a:ext cx="21621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紅色蔬果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含植物性化學成分如茄紅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花青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降低癌症發生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促進心臟及尿道系統健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提升記憶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圖片14"/>
          <p:cNvPicPr/>
          <p:nvPr/>
        </p:nvPicPr>
        <p:blipFill>
          <a:blip r:embed="rId1"/>
          <a:stretch/>
        </p:blipFill>
        <p:spPr>
          <a:xfrm>
            <a:off x="971640" y="4724280"/>
            <a:ext cx="1871640" cy="1606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8" descr="進入標準尺寸的圖片"/>
          <p:cNvPicPr/>
          <p:nvPr/>
        </p:nvPicPr>
        <p:blipFill>
          <a:blip r:embed="rId2"/>
          <a:stretch/>
        </p:blipFill>
        <p:spPr>
          <a:xfrm>
            <a:off x="3419640" y="4797360"/>
            <a:ext cx="2016000" cy="1514520"/>
          </a:xfrm>
          <a:prstGeom prst="rect">
            <a:avLst/>
          </a:prstGeom>
          <a:ln w="0">
            <a:noFill/>
          </a:ln>
        </p:spPr>
      </p:pic>
      <p:pic>
        <p:nvPicPr>
          <p:cNvPr id="184" name="圖片 8" descr="red1.jpg"/>
          <p:cNvPicPr/>
          <p:nvPr/>
        </p:nvPicPr>
        <p:blipFill>
          <a:blip r:embed="rId3"/>
          <a:stretch/>
        </p:blipFill>
        <p:spPr>
          <a:xfrm>
            <a:off x="6300720" y="2997360"/>
            <a:ext cx="1800360" cy="1368360"/>
          </a:xfrm>
          <a:prstGeom prst="rect">
            <a:avLst/>
          </a:prstGeom>
          <a:ln w="0">
            <a:noFill/>
          </a:ln>
        </p:spPr>
      </p:pic>
      <p:pic>
        <p:nvPicPr>
          <p:cNvPr id="185" name="圖片 9" descr="red2.jpg"/>
          <p:cNvPicPr/>
          <p:nvPr/>
        </p:nvPicPr>
        <p:blipFill>
          <a:blip r:embed="rId4"/>
          <a:stretch/>
        </p:blipFill>
        <p:spPr>
          <a:xfrm>
            <a:off x="6156360" y="4653000"/>
            <a:ext cx="23032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2012</a:t>
            </a: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四月美國德州龍捲風肆虐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4049640" cy="3384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3384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2012</a:t>
            </a: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年二月日本雪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87280" y="3068640"/>
            <a:ext cx="2476800" cy="3095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211640" y="3645000"/>
            <a:ext cx="4103640" cy="2927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211640" y="1484280"/>
            <a:ext cx="403236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少吃肉為地球降溫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1904760"/>
            <a:ext cx="8450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全球溫度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年前上升攝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6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台灣溫度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年前上升攝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95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度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顯示台灣暖化腳步比全球快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地球暖化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5946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冰原融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海平面上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陸地減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農作物減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動物絕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北極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氣候異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乾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暴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雪災日趨嚴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圖片 5" descr="images.jpg"/>
          <p:cNvPicPr/>
          <p:nvPr/>
        </p:nvPicPr>
        <p:blipFill>
          <a:blip r:embed="rId1"/>
          <a:stretch/>
        </p:blipFill>
        <p:spPr>
          <a:xfrm>
            <a:off x="6659640" y="476280"/>
            <a:ext cx="2016000" cy="2744640"/>
          </a:xfrm>
          <a:prstGeom prst="rect">
            <a:avLst/>
          </a:prstGeom>
          <a:ln w="0">
            <a:noFill/>
          </a:ln>
        </p:spPr>
      </p:pic>
      <p:pic>
        <p:nvPicPr>
          <p:cNvPr id="123" name="圖片 6" descr="snow3.jpg"/>
          <p:cNvPicPr/>
          <p:nvPr/>
        </p:nvPicPr>
        <p:blipFill>
          <a:blip r:embed="rId2"/>
          <a:stretch/>
        </p:blipFill>
        <p:spPr>
          <a:xfrm>
            <a:off x="611280" y="4221000"/>
            <a:ext cx="3313080" cy="2376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643280" y="3933720"/>
            <a:ext cx="36007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少吃肉愛地球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天不吃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減少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公斤的二氧化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排放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減緩地球暖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多吃蔬果好健康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膳食纖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維生素及礦物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植物性化學成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03280" y="3933720"/>
            <a:ext cx="1781280" cy="2562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492360" y="4437000"/>
            <a:ext cx="1905120" cy="1863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867280" y="1628640"/>
            <a:ext cx="27370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多吃蔬果好健康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蔬果攝取不足引起的健康問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便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肥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心血管疾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癌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47640" y="4869000"/>
            <a:ext cx="2232360" cy="1731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076720" y="3141720"/>
            <a:ext cx="3413160" cy="3313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516720" y="333360"/>
            <a:ext cx="2376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每日兒童蔬果份量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天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蔬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蔬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水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圖片3"/>
          <p:cNvPicPr/>
          <p:nvPr/>
        </p:nvPicPr>
        <p:blipFill>
          <a:blip r:embed="rId1"/>
          <a:stretch/>
        </p:blipFill>
        <p:spPr>
          <a:xfrm>
            <a:off x="4500720" y="2492280"/>
            <a:ext cx="39193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05:48:05Z</dcterms:created>
  <dc:creator>user</dc:creator>
  <dc:description/>
  <dc:language>en-US</dc:language>
  <cp:lastModifiedBy>user</cp:lastModifiedBy>
  <dcterms:modified xsi:type="dcterms:W3CDTF">2012-05-02T06:14:20Z</dcterms:modified>
  <cp:revision>54</cp:revision>
  <dc:subject/>
  <dc:title>環保蔬食好健康</dc:title>
</cp:coreProperties>
</file>