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C01A-C658-461E-B938-BEAEB751F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B34E-17E2-4A2E-ACE8-2FBA465A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B9C8-1A88-44EE-B1FF-F528E812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876D-BAAF-4E2C-81A2-528A1AA2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E201-2720-471C-A0A7-69F37C03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EF5D-388F-46CC-8FD8-A8212695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050E-9C65-4804-829F-E4103A6B3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449B-3ED2-4DD7-B93D-DFA16A0A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F471-137D-489A-88B5-760147FB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2A95-614B-4D30-A62E-4B0B77C3D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1914-3C25-46C8-BCA6-C4F76D40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F47-8FB3-4766-9BE8-AFC94E7B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7707-A20A-4739-A45F-00E8DD49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5D1-F28D-448C-A047-A1E381DE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86C-A514-4926-A14F-72E1D20E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6A1-E7E4-4E3D-8E26-D4467CE7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C4F-4FF5-4625-9B8A-107DC5D2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25F-CAD1-4978-B64A-24E83710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2310-BE50-4202-9D50-0D9483AF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7291-532A-4B55-8F5B-5FA5AFF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E98C-9D5E-4BCC-BD1B-26EDBC3D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5A59-2DF5-4F7B-BE03-5BAABC9D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607B-8095-481D-9425-BD86272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6CDF-8FAC-480E-B311-64DA7E3F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0060-D803-4FF8-B477-4E0F981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716-E653-460A-8C2F-7A8D86C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2ED-C98C-4999-A7B0-7470CDA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75CE-19D4-4479-AB8E-3EEA61E5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C60-B203-4FD8-899C-1914CDA7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6FA4-8CF0-4829-8FED-88CB0317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3E5A-E099-4418-B0A7-DBBCAE95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64A-D731-480F-BC95-D4FA434D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DEC-DF2E-4B24-8852-C0FCA70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4B9-2E34-4DF1-9E97-928990B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FD4-0A30-4CFF-A832-7C7DCFA0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495-5467-4CA8-B36A-9D3B31A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30D-5240-4C0B-B3F2-B17ED823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02D-DBF7-40EC-A239-F7789316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7364-A749-4084-A89F-F2FE96908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C5F1-A7B1-43A1-A2E6-A9A3FA6F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tw.wrs.yahoo.com/_ylt=A3eg8qkNw59JJYEAXglt1gt./SIG=1g32g8j5d/EXP=1235293325/**http:/tw.info.search.yahoo.com/search/images/view?back=http://tw.info.search.yahoo.com/search/images?p=&#26611;&#19969;&amp;ei=UTF-8&amp;fr=yfp&amp;x=wrt&amp;w=1600&amp;h=1200&amp;imgurl=photo.fhl.net/img/virgit/4.jpg&amp;rurl=http://photo.fhl.net/gb/virgit/virgit4.html&amp;size=363.3kB&amp;name=4.jpg&amp;p=&#26611;&#19969;&amp;type=jpeg&amp;no=6&amp;tt=40,783&amp;oid=b9871f58f1c93998&amp;ei=UTF-8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365shu.com/photography/2080/html/wallpaper94.html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365shu.com/photography/2080/html/wallpaper91.html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tw.wrs.yahoo.com/_ylt=A3eg8_mCc71Ml8QAYZ5t1gt.;_ylu=X3oDMTBqM3IzZ25kBHBvcwMzMgRzZWMDc3IEdnRpZAM-/SIG=1rg3ouh2r/EXP=1287570690/**http%3A//tw.image.search.yahoo.com/images/view%3Fback=http%253A%252F%252Ftw.image.search.yahoo.com%252Fsearch%252Fimages%253Fp%253D%2525E7%2525B4%252585%2525E8%252598%2525BF%2525E8%252594%252594%2526b%253D21%2526ni%253D20%2526ei%253DUTF-8%2526pstart%253D1%2526fr%253Dyfp%26w=401%26h=299%26imgurl=fj.sinaimg.cn%252F2009%252F1224%252F20091224104426.jpg%26rurl=http%253A%252F%252Ffj.sina.com.cn%252Fhealth%252Fh%252Fm%252F2009-12-24%252F10481580.html%26size=24k%26name=%25E8%2583%25A1%25E8%2590%259D%25E5%258D%259C%25E6%2598%25AF%25E5%25B9%25B3%25E6%25B0%2591%25E4%25BA%25BA%25E5%258F%2582%2B%25E7%2582%25B8%25E6%25B1%2581%25E7%25A9%25BA%25E8%2585%25B9%25E5%2596%259D%25E8%2590%25A5%25E5%2585%25BB...%26p=%25E7%25B4%2585%25E8%2598%25BF%25E8%2594%2594%26oid=9c157fb57490ac24%26fr2=%26no=32%26tt=93881%26b=21%26ni=20%26sigr=11p6vi2ss%26sigi=11a4ilo3v%26sigb=13gon78po&amp;type=JPG" TargetMode="External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jOTr1MF0UAP25t1gt.;_ylu=X3oDMTBqZjdtb25uBHBvcwMyNgRzZWMDc3IEdnRpZAM-/SIG=1neq0udlv/EXP=1287561294/**http%3A//tw.image.search.yahoo.com/images/view%3Fback=http%253A%252F%252Ftw.image.search.yahoo.com%252Fsearch%252Fimages%253Fp%253D%2525E7%2525B4%2525AB%2525E8%252589%2525B2%2525E8%252594%2525AC%2525E8%25258F%25259C%2526js%253D1%2526b%253D21%2526ni%253D20%2526ei%253Dutf-8%2526pstart%253D1%2526fr%253Dsfp%26w=400%26h=329%26imgurl=www.china12315.com.cn%252FUpFiles%252FnewsPic%252F2009041410384247021.jpg%26rurl=http%253A%252F%252Fwww.china12315.com.cn%252Fhtml%252Fxfz%252F2009%252F0414%252Fn_20090414808550162.shtml%26size=46k%26name=2009041410384247...%26p=%25E7%25B4%25AB%25E8%2589%25B2%25E8%2594%25AC%25E8%258F%259C%26oid=e3eba4606980664c%26fr2=%26no=26%26tt=575%26b=21%26ni=20%26sigr=1298b8bsr%26sigi=11t4nuhec%26sigb=13u9kevtb&amp;type=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tw.wrs.yahoo.com/_ylt=A3eg8_cQTr1M9NEANUZt1gt.;_ylu=X3oDMTBpY2Y5NXNiBHBvcwM2BHNlYwNzcgR2dGlkAw--/SIG=1lpr19oht/EXP=1287561104/**http%3A//tw.image.search.yahoo.com/images/view%3Fback=http%253A%252F%252Ftw.image.search.yahoo.com%252Fsearch%252Fimages%253Fp%253D%2525E7%2525B4%2525AB%2525E8%252589%2525B2%2525E8%252594%2525AC%2525E8%25258F%25259C%2526js%253D1%2526b%253D1%2526ni%253D20%2526ei%253Dutf-8%2526pstart%253D1%2526fr%253Dsfp%26w=420%26h=308%26imgurl=image.39.net%252F085%252F14%252F166596_s_3115.jpg%26rurl=http%253A%252F%252Fwoman.39.net%252Fnxyy%252F085%252F16%252F428524_1.html%26size=16k%26name=166596%2Bs%2B3115%2Bjp...%26p=%25E7%25B4%25AB%25E8%2589%25B2%25E8%2594%25AC%25E8%258F%259C%26oid=31a8dac0c2fc855e%26fr2=%26no=6%26tt=577%26b=1%26ni=20%26sigr=11deo0jpb%26sigi=115mh2efg%26sigb=13t3mptln&amp;type=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tw.wrs.yahoo.com/_ylt=A3eg8qg1v59JQG0BEaVt1gt./SIG=1hhaifokv/EXP=1235292341/**http:/tw.info.search.yahoo.com/search/images/view?back=http://tw.info.search.yahoo.com/search/images?p=&#21152;&#24030;&#26446;&amp;ei=UTF-8&amp;fr=yfp&amp;b=1&amp;w=180&amp;h=127&amp;imgurl=www.homestay.com.tw/images/r-ad/P5161013.jpg&amp;rurl=http://www.homestay.com.tw/R-AD/specially.htm&amp;size=15.6kB&amp;name=P5161013.jpg&amp;p=&#21152;&#24030;&#26446;&amp;type=jpeg&amp;no=4&amp;tt=79&amp;oid=629fc744a0e760d0&amp;ei=UTF-8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lpS71MwbYAz9Bt1gt.;_ylu=X3oDMTBqY2pzbGhoBHBvcwMxMQRzZWMDc3IEdnRpZAM-/SIG=1lmllbq1e/EXP=1287560425/**http%3A//tw.image.search.yahoo.com/images/view%3Fback=http%253A%252F%252Ftw.image.search.yahoo.com%252Fsearch%252Fimages%253Fp%253D%2525E7%252599%2525BD%2525E8%252598%2525BF%2525E8%252594%252594%2526b%253D1%2526ni%253D20%2526ei%253Dutf-8%2526pstart%253D1%2526fr%253Dsfp%26w=350%26h=280%26imgurl=sh.sinaimg.cn%252F2009%252F0611%252F2009611162852.jpg%26rurl=http%253A%252F%252Fwww.labour-daily.cn%252FWeb%252FNewsDetail.aspx%253FIssuanceID%253D147118%26size=33k%26name=%25E7%2599%25BD%25E8%2590%259D%25E5%258D%259C%26p=%25E7%2599%25BD%25E8%2598%25BF%25E8%2594%2594%26oid=f69892804f3facca%26fr2=%26no=11%26tt=39846%26b=1%26ni=20%26sigr=120p7hbd4%26sigi=119apdiu7%26sigb=13ffo0l2o&amp;type=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tw.wrs.yahoo.com/_ylt=A3eg8qtyvZ9JzCYAcX1t1gt./SIG=1neivf6mu/EXP=1235291890/**http:/tw.info.search.yahoo.com/search/images/view?back=http://tw.info.search.yahoo.com/search/images?p=&#26792;&#23376;&amp;ei=UTF-8&amp;pstart=1&amp;fr=yfp&amp;b=1&amp;w=500&amp;h=375&amp;imgurl=static.flickr.com/92/258396840_0e08de22cd.jpg&amp;rurl=http://www.flickr.com/photos/nicole_lee/258396840/&amp;size=57.4kB&amp;name=093045&#22312;CHINATOWN&#35041;&#30340;&#33775;&#20154;&#36229;&#24066;...&amp;p=&#26792;&#23376;&amp;type=jpeg&amp;no=1&amp;tt=20,270&amp;oid=0e5c4c2cfdc0d75a&amp;ei=UTF-8&amp;fusr=Nicole_Daily&amp;hurl=http:/www.flickr.com/photos/nicole_lee/&amp;src=flickr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tw.wrs.yahoo.com/_ylt=A3eg8qb1vZ9JdnEARzVt1gt./SIG=1iul0odej/EXP=1235292021/**http:/tw.info.search.yahoo.com/search/images/view?back=http://tw.info.search.yahoo.com/search/images?p=&#40657;&#26408;&#32819;&amp;ei=UTF-8&amp;pstart=1&amp;fr=yfp&amp;b=341&amp;w=450&amp;h=481&amp;imgurl=www.pclady.com.cn/health/ysjk/0609/pic/182.jpg&amp;rurl=http://www.pclady.com.cn/health/ysjk/0609/114343.html&amp;size=44.4kB&amp;name=182.jpg&amp;p=&#40657;&#26408;&#32819;&amp;type=jpeg&amp;no=341&amp;tt=3,282&amp;oid=8c7f7e90b2235222&amp;ei=UTF-8" TargetMode="External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http://tw.wrs.yahoo.com/_ylt=A3eg8_jWd71MRl8AIBxt1gt.;_ylu=X3oDMTBrZ20xOHVwBHBvcwMxMDQEc2VjA3NyBHZ0aWQD/SIG=1nh2c9vhn/EXP=1287571798/**http%3A//tw.image.search.yahoo.com/images/view%3Fback=http%253A%252F%252Ftw.image.search.yahoo.com%252Fsearch%252Fimages%253Fp%253D%2525E4%2525B8%252580%2525E4%2525BB%2525BD%2525E6%2525B0%2525B4%2525E6%25259E%25259C%2526js%253D1%2526b%253D101%2526ni%253D20%2526ei%253Dutf-8%2526pstart%253D1%2526fr%253Dyfp%26w=600%26h=450%26imgurl=c-photo.i-part.com.tw%252Fn1v1%252F3%252F9%252F1%252F3%252F353193%252Fphoto%252Fbook23%252F124260874212.jpeg%26rurl=http%253A%252F%252Fblog.yam.com%252Fpshge%252Farticle%252F21138486%26size=194k%26name=124260874212%2Bjpe...%26p=%25E4%25B8%2580%25E4%25BB%25BD%25E6%25B0%25B4%25E6%259E%259C%26oid=080050a99b19f734%26fr2=%26no=104%26tt=8541%26b=101%26ni=20%26sigr=11a3ojvl7%26sigi=128d73pdj%26sigb=13ve4fmmm&amp;type=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低碳飲食愛地球</a:t>
            </a:r>
            <a:br>
              <a:rPr sz="5400"/>
            </a:b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彩虹蔬果篇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2781360"/>
            <a:ext cx="705168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綠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纖維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促進視覺健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強健骨骼牙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每日至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份深綠色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SC01732"/>
          <p:cNvPicPr/>
          <p:nvPr/>
        </p:nvPicPr>
        <p:blipFill>
          <a:blip r:embed="rId1"/>
          <a:stretch/>
        </p:blipFill>
        <p:spPr>
          <a:xfrm>
            <a:off x="90000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圖片18"/>
          <p:cNvPicPr/>
          <p:nvPr/>
        </p:nvPicPr>
        <p:blipFill>
          <a:blip r:embed="rId2"/>
          <a:stretch/>
        </p:blipFill>
        <p:spPr>
          <a:xfrm>
            <a:off x="2843280" y="5013360"/>
            <a:ext cx="1579320" cy="1192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圖片20"/>
          <p:cNvPicPr/>
          <p:nvPr/>
        </p:nvPicPr>
        <p:blipFill>
          <a:blip r:embed="rId3"/>
          <a:stretch/>
        </p:blipFill>
        <p:spPr>
          <a:xfrm>
            <a:off x="4427640" y="5013360"/>
            <a:ext cx="1508040" cy="1141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圖片22"/>
          <p:cNvPicPr/>
          <p:nvPr/>
        </p:nvPicPr>
        <p:blipFill>
          <a:blip r:embed="rId4"/>
          <a:stretch/>
        </p:blipFill>
        <p:spPr>
          <a:xfrm>
            <a:off x="6084720" y="5013360"/>
            <a:ext cx="146700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黃色及橘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3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含豐富抗氧化物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類葫蘿蔔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促進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DSC01737"/>
          <p:cNvPicPr/>
          <p:nvPr/>
        </p:nvPicPr>
        <p:blipFill>
          <a:blip r:embed="rId1"/>
          <a:stretch/>
        </p:blipFill>
        <p:spPr>
          <a:xfrm>
            <a:off x="1116000" y="5013360"/>
            <a:ext cx="170172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869000"/>
            <a:ext cx="2519280" cy="156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新鮮蔬菜水果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581360"/>
            <a:ext cx="2448000" cy="179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新鮮蔬菜水果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52640"/>
            <a:ext cx="2125800" cy="131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進入標準尺寸的圖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907920"/>
            <a:ext cx="259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藍色及紫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許多增進健康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抗老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助增強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5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013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5084640"/>
            <a:ext cx="1728720" cy="10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941720"/>
            <a:ext cx="1779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白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不同量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減少心血管疾病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4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65300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724280"/>
            <a:ext cx="215892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365720"/>
            <a:ext cx="1650960" cy="1692360"/>
          </a:xfrm>
          <a:prstGeom prst="rect">
            <a:avLst/>
          </a:prstGeom>
          <a:ln w="0">
            <a:noFill/>
          </a:ln>
        </p:spPr>
      </p:pic>
      <p:pic>
        <p:nvPicPr>
          <p:cNvPr id="168" name="圖片 8" descr="白菜_1~1.JPG"/>
          <p:cNvPicPr/>
          <p:nvPr/>
        </p:nvPicPr>
        <p:blipFill>
          <a:blip r:embed="rId7"/>
          <a:stretch/>
        </p:blipFill>
        <p:spPr>
          <a:xfrm>
            <a:off x="6370560" y="692280"/>
            <a:ext cx="2162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紅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含植物性化學成分如茄紅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花青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促進心臟及尿道系統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升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圖片14"/>
          <p:cNvPicPr/>
          <p:nvPr/>
        </p:nvPicPr>
        <p:blipFill>
          <a:blip r:embed="rId1"/>
          <a:stretch/>
        </p:blipFill>
        <p:spPr>
          <a:xfrm>
            <a:off x="971640" y="4724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進入標準尺寸的圖片"/>
          <p:cNvPicPr/>
          <p:nvPr/>
        </p:nvPicPr>
        <p:blipFill>
          <a:blip r:embed="rId2"/>
          <a:stretch/>
        </p:blipFill>
        <p:spPr>
          <a:xfrm>
            <a:off x="3419640" y="479736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173" name="圖片 8" descr="red1.jpg"/>
          <p:cNvPicPr/>
          <p:nvPr/>
        </p:nvPicPr>
        <p:blipFill>
          <a:blip r:embed="rId3"/>
          <a:stretch/>
        </p:blipFill>
        <p:spPr>
          <a:xfrm>
            <a:off x="6300720" y="299736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74" name="圖片 9" descr="red2.jpg"/>
          <p:cNvPicPr/>
          <p:nvPr/>
        </p:nvPicPr>
        <p:blipFill>
          <a:blip r:embed="rId4"/>
          <a:stretch/>
        </p:blipFill>
        <p:spPr>
          <a:xfrm>
            <a:off x="6156360" y="465300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彩虹蔬果健康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色蔬果所含之纖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礦物質及植物性化學成分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圖片3"/>
          <p:cNvPicPr/>
          <p:nvPr/>
        </p:nvPicPr>
        <p:blipFill>
          <a:blip r:embed="rId1"/>
          <a:stretch/>
        </p:blipFill>
        <p:spPr>
          <a:xfrm>
            <a:off x="4859280" y="2997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圖片18"/>
          <p:cNvPicPr/>
          <p:nvPr/>
        </p:nvPicPr>
        <p:blipFill>
          <a:blip r:embed="rId2"/>
          <a:stretch/>
        </p:blipFill>
        <p:spPr>
          <a:xfrm>
            <a:off x="826920" y="4869000"/>
            <a:ext cx="1579680" cy="119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圖片21"/>
          <p:cNvPicPr/>
          <p:nvPr/>
        </p:nvPicPr>
        <p:blipFill>
          <a:blip r:embed="rId3"/>
          <a:stretch/>
        </p:blipFill>
        <p:spPr>
          <a:xfrm>
            <a:off x="2050920" y="3933720"/>
            <a:ext cx="1590840" cy="100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圖片25"/>
          <p:cNvPicPr/>
          <p:nvPr/>
        </p:nvPicPr>
        <p:blipFill>
          <a:blip r:embed="rId4"/>
          <a:stretch/>
        </p:blipFill>
        <p:spPr>
          <a:xfrm>
            <a:off x="2268360" y="4941720"/>
            <a:ext cx="21654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3-12-05T08:59:46Z</dcterms:modified>
  <cp:revision>56</cp:revision>
  <dc:subject/>
  <dc:title>環保蔬食好健康</dc:title>
</cp:coreProperties>
</file>