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png" ContentType="image/png"/>
  <Override PartName="/ppt/media/image21.png" ContentType="image/png"/>
  <Override PartName="/ppt/media/image20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31.png" ContentType="image/png"/>
  <Override PartName="/ppt/media/image33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79A8-2542-4632-A867-91222AAB5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08E0-AE84-4F8D-B939-FB13E0955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CEA6-4373-4CE0-AA73-3B0F9F46F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4779-C2A4-4AF2-929C-26A88A0B8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3464-7274-4E90-ADBF-C019E25B1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C994-8E31-4573-A75F-555E15F23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8BF7-BEFC-4177-A782-148263F4C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A5CF-F661-41BE-96CA-A57E8284C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3339-4CD8-43F4-84DE-87B6C03E0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47B4-E6DD-4C30-8C38-D7F9EDD3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A3F6-17B0-471A-97CD-AB5E1E129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2E5A-113B-4CBA-9C6E-935256934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FA32-7552-4E99-B323-345BB40FE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5DDC-B9A4-4686-9D36-DE8A706F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BE97-6F2A-4F64-AD12-B09AED0A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E8FF-B371-4F0D-B3E3-6F392C4F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E4A1-7060-43A4-A26E-F664C592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2EEC-B920-4765-BD6E-D388EE8F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1424-49D1-4C19-AD62-63ECA866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7D64-06FA-48C2-B15C-93C33D6D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74FB-9768-4E9A-8B7E-231CB75B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02C6-6620-4814-AC33-5142E651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C6B8-99B2-410F-AC36-A9F19A8E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CB98-C0B0-4ADB-AF84-93DF8570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BA96-8687-46E8-8E8C-C62E56D8C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D6C4-941D-473B-B155-89B6466B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AB6B-E1CF-4EB4-BAF7-46A89FA8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041E-7B32-4892-8C15-B2225E17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710D-4AA2-4DAC-BF24-207C2B84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70C8-9E7E-4337-8819-CA2987E5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8810-F316-4614-9010-853DFE69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44EC-F8F6-49C2-B9C2-612B5121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8C3C-4EAB-42EF-AC68-C1001A90B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A0FB-6022-4271-85BF-A90019E3C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6160" y="907920"/>
            <a:ext cx="8367840" cy="17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99"/>
                </a:solidFill>
                <a:latin typeface="Arial Black"/>
              </a:rPr>
              <a:t>低碳飲食愛地球</a:t>
            </a:r>
            <a:br>
              <a:rPr sz="5400"/>
            </a:br>
            <a:r>
              <a:rPr b="1" lang="zh-TW" sz="5400" spc="-1" strike="noStrike">
                <a:solidFill>
                  <a:srgbClr val="000099"/>
                </a:solidFill>
                <a:latin typeface="Arial Black"/>
              </a:rPr>
              <a:t>蔬果篇</a:t>
            </a:r>
            <a:br>
              <a:rPr sz="5400"/>
            </a:b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94920" y="2923920"/>
            <a:ext cx="7124760" cy="17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興國國小營養師梁春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4"/>
          <p:cNvPicPr/>
          <p:nvPr/>
        </p:nvPicPr>
        <p:blipFill>
          <a:blip r:embed="rId1"/>
          <a:stretch/>
        </p:blipFill>
        <p:spPr>
          <a:xfrm>
            <a:off x="4859280" y="2997360"/>
            <a:ext cx="3527640" cy="3166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112615"/>
          <p:cNvPicPr/>
          <p:nvPr/>
        </p:nvPicPr>
        <p:blipFill>
          <a:blip r:embed="rId2"/>
          <a:stretch/>
        </p:blipFill>
        <p:spPr>
          <a:xfrm>
            <a:off x="755640" y="4005360"/>
            <a:ext cx="2448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Black"/>
              </a:rPr>
              <a:t>水果一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半個壘球大水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71640" y="4437000"/>
            <a:ext cx="2303280" cy="1994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419640" y="4149720"/>
            <a:ext cx="2665080" cy="2328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300720" y="3789360"/>
            <a:ext cx="2448000" cy="2808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5076720" y="1700280"/>
            <a:ext cx="2590920" cy="1854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1403280" y="2492280"/>
            <a:ext cx="213372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Black"/>
              </a:rPr>
              <a:t>水果一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1/6</a:t>
            </a: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個躲避球大小的水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187280" y="3500280"/>
            <a:ext cx="2544840" cy="2163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284720" y="4149720"/>
            <a:ext cx="2592360" cy="22734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6156360" y="177336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Black"/>
              </a:rPr>
              <a:t>水果一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半根香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個蓮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12</a:t>
            </a: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個葡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87280" y="4508640"/>
            <a:ext cx="2470320" cy="1768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924360" y="3933720"/>
            <a:ext cx="2066760" cy="22100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156360" y="2060640"/>
            <a:ext cx="198108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地球暖化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5946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冰原融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海平面上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陸地減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農作物減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動物絕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北極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氣候異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乾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暴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雪災日趨嚴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圖片 5" descr="images.jpg"/>
          <p:cNvPicPr/>
          <p:nvPr/>
        </p:nvPicPr>
        <p:blipFill>
          <a:blip r:embed="rId1"/>
          <a:stretch/>
        </p:blipFill>
        <p:spPr>
          <a:xfrm>
            <a:off x="6659640" y="476280"/>
            <a:ext cx="2016000" cy="2744640"/>
          </a:xfrm>
          <a:prstGeom prst="rect">
            <a:avLst/>
          </a:prstGeom>
          <a:ln w="0">
            <a:noFill/>
          </a:ln>
        </p:spPr>
      </p:pic>
      <p:pic>
        <p:nvPicPr>
          <p:cNvPr id="112" name="圖片 6" descr="snow3.jpg"/>
          <p:cNvPicPr/>
          <p:nvPr/>
        </p:nvPicPr>
        <p:blipFill>
          <a:blip r:embed="rId2"/>
          <a:stretch/>
        </p:blipFill>
        <p:spPr>
          <a:xfrm>
            <a:off x="611280" y="4221000"/>
            <a:ext cx="3313080" cy="2376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643280" y="3933720"/>
            <a:ext cx="36007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少吃肉愛地球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天不吃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減少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公斤的二氧化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排放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減緩地球暖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多吃蔬果好健康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膳食纖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維生素及礦物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植物性化學成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03280" y="3933720"/>
            <a:ext cx="1781280" cy="2562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492360" y="4437000"/>
            <a:ext cx="1905120" cy="1863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867280" y="1628640"/>
            <a:ext cx="27370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多吃蔬果好健康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蔬果攝取不足引起的健康問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便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肥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心血管疾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癌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47640" y="4869000"/>
            <a:ext cx="2232360" cy="1731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076720" y="3141720"/>
            <a:ext cx="3413160" cy="3313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516720" y="333360"/>
            <a:ext cx="2376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每日兒童蔬果份量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天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蔬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蔬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水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圖片3"/>
          <p:cNvPicPr/>
          <p:nvPr/>
        </p:nvPicPr>
        <p:blipFill>
          <a:blip r:embed="rId1"/>
          <a:stretch/>
        </p:blipFill>
        <p:spPr>
          <a:xfrm>
            <a:off x="4500720" y="2492280"/>
            <a:ext cx="39193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蔬菜</a:t>
            </a:r>
            <a:r>
              <a:rPr b="1" lang="en-US" sz="4400" spc="-1" strike="noStrike">
                <a:solidFill>
                  <a:srgbClr val="000099"/>
                </a:solidFill>
                <a:latin typeface="Arial Black"/>
              </a:rPr>
              <a:t>1</a:t>
            </a: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生青菜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公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煮熟青菜半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圖片1"/>
          <p:cNvPicPr/>
          <p:nvPr/>
        </p:nvPicPr>
        <p:blipFill>
          <a:blip r:embed="rId1"/>
          <a:stretch/>
        </p:blipFill>
        <p:spPr>
          <a:xfrm>
            <a:off x="1547640" y="3789360"/>
            <a:ext cx="3170520" cy="2376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圖片2"/>
          <p:cNvPicPr/>
          <p:nvPr/>
        </p:nvPicPr>
        <p:blipFill>
          <a:blip r:embed="rId2"/>
          <a:stretch/>
        </p:blipFill>
        <p:spPr>
          <a:xfrm>
            <a:off x="5148360" y="3789360"/>
            <a:ext cx="33098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水果</a:t>
            </a:r>
            <a:r>
              <a:rPr b="1" lang="en-US" sz="4400" spc="-1" strike="noStrike">
                <a:solidFill>
                  <a:srgbClr val="000099"/>
                </a:solidFill>
                <a:latin typeface="Arial Black"/>
              </a:rPr>
              <a:t>1</a:t>
            </a: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拳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棒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大小水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壘球大小水果半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躲避球大小水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/6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DSC01732"/>
          <p:cNvPicPr/>
          <p:nvPr/>
        </p:nvPicPr>
        <p:blipFill>
          <a:blip r:embed="rId1"/>
          <a:stretch/>
        </p:blipFill>
        <p:spPr>
          <a:xfrm>
            <a:off x="971640" y="4941720"/>
            <a:ext cx="1917720" cy="1438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2"/>
          <a:srcRect l="9549" t="0" r="10733" b="14994"/>
          <a:stretch/>
        </p:blipFill>
        <p:spPr>
          <a:xfrm>
            <a:off x="3419640" y="4365720"/>
            <a:ext cx="2232000" cy="20811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8028000" y="6308640"/>
            <a:ext cx="8064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2" descr="進入標準尺寸的圖片"/>
          <p:cNvPicPr/>
          <p:nvPr/>
        </p:nvPicPr>
        <p:blipFill>
          <a:blip r:embed="rId3"/>
          <a:stretch/>
        </p:blipFill>
        <p:spPr>
          <a:xfrm>
            <a:off x="6084720" y="4292640"/>
            <a:ext cx="223056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Black"/>
              </a:rPr>
              <a:t>水果一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棒球或拳頭大小的水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940360" y="2997360"/>
            <a:ext cx="2016360" cy="1546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780000" y="4581360"/>
            <a:ext cx="1655640" cy="1549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940360" y="1197000"/>
            <a:ext cx="2033640" cy="1609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867280" y="4941720"/>
            <a:ext cx="2251080" cy="17035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1332000" y="3573360"/>
            <a:ext cx="2143080" cy="2133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3635280" y="2924280"/>
            <a:ext cx="214308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05:48:05Z</dcterms:created>
  <dc:creator>user</dc:creator>
  <dc:description/>
  <dc:language>en-US</dc:language>
  <cp:lastModifiedBy>user</cp:lastModifiedBy>
  <dcterms:modified xsi:type="dcterms:W3CDTF">2013-12-05T05:45:39Z</dcterms:modified>
  <cp:revision>55</cp:revision>
  <dc:subject/>
  <dc:title>環保蔬食好健康</dc:title>
</cp:coreProperties>
</file>