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27.jpeg" ContentType="image/jpeg"/>
  <Override PartName="/ppt/media/image37.png" ContentType="image/png"/>
  <Override PartName="/ppt/media/image34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2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F91E-99DF-4B0C-9296-A6A170541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8BCC-A6E0-44B8-8991-7236F9E7C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4D57-6CB0-4838-9CED-3DCE8C9D9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069E-5EBC-4ABA-8D80-4F2A9EE23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9297-154D-44BC-AC03-342FDC926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C5D6-F52B-43F2-98E1-21C763730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6FE3-4984-41CF-B021-2FEBE402B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5399-F897-4667-A578-A8D08F8AC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28ED-2188-4B0A-B619-8AD3378B6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567-C268-40FC-AFB6-CACDEDF5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FB0F-402F-4F05-A114-3C8C13FF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6FB-8290-42E7-8C65-D5AC956B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F604-324E-4ED6-83D8-A6DC6BDF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E91F-D5A0-416B-99FF-2E829A87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AB66-545E-4516-B06C-9330E354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3A9B-ED54-44BF-988C-E583D937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E366-3B71-4274-A81D-642DD3E7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0346-DD8B-4E40-9201-FB25831D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5425-F9A0-4A53-B653-FBFA2F11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3AA9-9F62-43FC-BF25-FABCF227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419-B889-4D5F-93E5-4A5B1496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0985-E8AB-44AD-905C-1A585C9F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8511-227C-40DB-8FD8-51FBFD64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DCDA-317F-4F78-A461-C5080C82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B475-A836-4333-ADA3-23165991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2035-29AD-4A82-B827-CB051E95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CD2-4615-4ECD-9133-12BEACB6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D312-2699-445F-9201-EB0ACC9F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F4E-FD9C-4D06-955C-A84720B3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40F4-8F62-42E0-B9DD-1435BD2D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A16-968D-4F69-80D5-7AEFE668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00F-2DD1-40AA-AF02-D722BC26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E6CA-0E14-43B2-B0F4-9A28A6D8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DAF1-6EA8-47C9-B5A6-889A918CF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6490-3EB9-4586-9A4D-190D366B8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6160" y="907920"/>
            <a:ext cx="8367840" cy="17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99"/>
                </a:solidFill>
                <a:latin typeface="Arial Black"/>
              </a:rPr>
              <a:t>環保蔬食好健康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258920" y="2204640"/>
            <a:ext cx="626112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興國國小營養師梁春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4"/>
          <p:cNvPicPr/>
          <p:nvPr/>
        </p:nvPicPr>
        <p:blipFill>
          <a:blip r:embed="rId1"/>
          <a:stretch/>
        </p:blipFill>
        <p:spPr>
          <a:xfrm>
            <a:off x="4859280" y="2997360"/>
            <a:ext cx="3527640" cy="316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12615"/>
          <p:cNvPicPr/>
          <p:nvPr/>
        </p:nvPicPr>
        <p:blipFill>
          <a:blip r:embed="rId2"/>
          <a:stretch/>
        </p:blipFill>
        <p:spPr>
          <a:xfrm>
            <a:off x="755640" y="4005360"/>
            <a:ext cx="2448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蔬菜</a:t>
            </a: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1</a:t>
            </a: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生青菜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公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煮熟青菜半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圖片1"/>
          <p:cNvPicPr/>
          <p:nvPr/>
        </p:nvPicPr>
        <p:blipFill>
          <a:blip r:embed="rId1"/>
          <a:stretch/>
        </p:blipFill>
        <p:spPr>
          <a:xfrm>
            <a:off x="1547640" y="3789360"/>
            <a:ext cx="3170520" cy="23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圖片2"/>
          <p:cNvPicPr/>
          <p:nvPr/>
        </p:nvPicPr>
        <p:blipFill>
          <a:blip r:embed="rId2"/>
          <a:stretch/>
        </p:blipFill>
        <p:spPr>
          <a:xfrm>
            <a:off x="5148360" y="3789360"/>
            <a:ext cx="33098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水果</a:t>
            </a: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1</a:t>
            </a: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拳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棒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大小水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壘球大小水果半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躲避球大小水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/6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DSC01732"/>
          <p:cNvPicPr/>
          <p:nvPr/>
        </p:nvPicPr>
        <p:blipFill>
          <a:blip r:embed="rId1"/>
          <a:stretch/>
        </p:blipFill>
        <p:spPr>
          <a:xfrm>
            <a:off x="971640" y="4941720"/>
            <a:ext cx="1917720" cy="1438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rcRect l="9549" t="0" r="10733" b="14994"/>
          <a:stretch/>
        </p:blipFill>
        <p:spPr>
          <a:xfrm>
            <a:off x="3419640" y="4365720"/>
            <a:ext cx="2232000" cy="20811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8028000" y="6308640"/>
            <a:ext cx="806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2" descr="進入標準尺寸的圖片"/>
          <p:cNvPicPr/>
          <p:nvPr/>
        </p:nvPicPr>
        <p:blipFill>
          <a:blip r:embed="rId3"/>
          <a:stretch/>
        </p:blipFill>
        <p:spPr>
          <a:xfrm>
            <a:off x="6084720" y="4292640"/>
            <a:ext cx="223056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水果一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棒球或拳頭大小的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940360" y="2997360"/>
            <a:ext cx="2016360" cy="1546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780000" y="4581360"/>
            <a:ext cx="1655640" cy="1549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940360" y="1197000"/>
            <a:ext cx="2033640" cy="1609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867280" y="4941720"/>
            <a:ext cx="2251080" cy="1703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1332000" y="357336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3635280" y="2924280"/>
            <a:ext cx="214308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水果一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半個壘球大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71640" y="4437000"/>
            <a:ext cx="2303280" cy="1994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419640" y="4149720"/>
            <a:ext cx="2665080" cy="2328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300720" y="3789360"/>
            <a:ext cx="2448000" cy="2808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5076720" y="1700280"/>
            <a:ext cx="2590920" cy="1854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1403280" y="2492280"/>
            <a:ext cx="21337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水果一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/6</a:t>
            </a: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個躲避球大小的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87280" y="3500280"/>
            <a:ext cx="2544840" cy="2163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284720" y="4149720"/>
            <a:ext cx="2592360" cy="2273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156360" y="17733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水果一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半根香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個蓮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2</a:t>
            </a: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個葡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87280" y="4508640"/>
            <a:ext cx="2470320" cy="1768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24360" y="3933720"/>
            <a:ext cx="2066760" cy="2210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156360" y="2060640"/>
            <a:ext cx="19810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2012</a:t>
            </a: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四月美國德州龍捲風肆虐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4049640" cy="3384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2012</a:t>
            </a: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年二月日本雪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87280" y="3068640"/>
            <a:ext cx="247680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11640" y="3645000"/>
            <a:ext cx="4103640" cy="2927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211640" y="1484280"/>
            <a:ext cx="40323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少吃肉為地球降溫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全球溫度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年前上升攝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台灣溫度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年前上升攝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95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度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顯示台灣暖化腳步比全球快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地球暖化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594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冰原融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海平面上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陸地減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農作物減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動物絕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北極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氣候異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乾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暴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雪災日趨嚴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圖片 5" descr="images.jpg"/>
          <p:cNvPicPr/>
          <p:nvPr/>
        </p:nvPicPr>
        <p:blipFill>
          <a:blip r:embed="rId1"/>
          <a:stretch/>
        </p:blipFill>
        <p:spPr>
          <a:xfrm>
            <a:off x="6659640" y="476280"/>
            <a:ext cx="2016000" cy="2744640"/>
          </a:xfrm>
          <a:prstGeom prst="rect">
            <a:avLst/>
          </a:prstGeom>
          <a:ln w="0">
            <a:noFill/>
          </a:ln>
        </p:spPr>
      </p:pic>
      <p:pic>
        <p:nvPicPr>
          <p:cNvPr id="123" name="圖片 6" descr="snow3.jpg"/>
          <p:cNvPicPr/>
          <p:nvPr/>
        </p:nvPicPr>
        <p:blipFill>
          <a:blip r:embed="rId2"/>
          <a:stretch/>
        </p:blipFill>
        <p:spPr>
          <a:xfrm>
            <a:off x="611280" y="4221000"/>
            <a:ext cx="3313080" cy="2376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43280" y="3933720"/>
            <a:ext cx="3600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少吃肉愛地球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天不吃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減少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公斤的二氧化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排放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減緩地球暖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多吃蔬果好健康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膳食纖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維生素及礦物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植物性化學成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03280" y="3933720"/>
            <a:ext cx="1781280" cy="2562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492360" y="4437000"/>
            <a:ext cx="1905120" cy="1863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867280" y="1628640"/>
            <a:ext cx="27370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多吃蔬果好健康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蔬果攝取不足引起的健康問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便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肥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心血管疾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癌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47640" y="4869000"/>
            <a:ext cx="2232360" cy="1731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76720" y="3141720"/>
            <a:ext cx="3413160" cy="3313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516720" y="333360"/>
            <a:ext cx="2376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每日兒童蔬果份量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天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蔬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蔬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水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圖片3"/>
          <p:cNvPicPr/>
          <p:nvPr/>
        </p:nvPicPr>
        <p:blipFill>
          <a:blip r:embed="rId1"/>
          <a:stretch/>
        </p:blipFill>
        <p:spPr>
          <a:xfrm>
            <a:off x="4500720" y="2492280"/>
            <a:ext cx="3919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5:48:05Z</dcterms:created>
  <dc:creator>user</dc:creator>
  <dc:description/>
  <dc:language>en-US</dc:language>
  <cp:lastModifiedBy>user</cp:lastModifiedBy>
  <dcterms:modified xsi:type="dcterms:W3CDTF">2012-05-02T06:40:39Z</dcterms:modified>
  <cp:revision>53</cp:revision>
  <dc:subject/>
  <dc:title>環保蔬食好健康</dc:title>
</cp:coreProperties>
</file>