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FED9-E44C-4EF2-A80B-F0E995BB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E4FB-2A47-4F23-AEB8-DBCC3850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B8E8-01DC-40AD-B4C6-9DFC4FD3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28C0-4DEE-4E92-B91D-ACC636BD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AB4A-A511-4D27-8098-64E9183A3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585A-06C6-4E23-BCB1-B20E3DBD0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6D8A-98C3-4277-B4E1-478193AA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E7E0-A71C-4FA4-AF92-E2428CD0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F31B-8D58-47B3-BDDC-7F987F0D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687-754C-4B6F-8936-B27C9E330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BECC-EDE0-418F-999E-D385968E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2A7-C6B7-4B1A-B484-BC68ABCE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74DE-EA2E-4A97-8BB3-2D5D0A155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1D2-EA25-4FFF-B5B1-C9BE97AC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56B1-3896-481B-B3E2-683259D3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2CE-5886-46D0-9FE9-A4CFE892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178-7266-4518-9703-0CEC1FFE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ECE-CE16-4787-8F65-51AFB098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623-DB0F-4CBB-A9BD-9818B9DB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C1C0-7E81-43F0-A264-B38C4176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0E19-C2F8-4948-B70C-39D04C32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372A-C663-4D92-87DA-7E85FC38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207C-9682-40A8-BE65-A2DB5DE5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0708-6CE5-4CC6-A014-EE08CF5F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BE52-238F-4057-B488-74597203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D2B9-3907-49DF-93C5-200A25FD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653-7030-4172-8C55-D84319C3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0A6E-343E-4F7C-9654-D2CEC03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0B58-7486-49D9-AD8C-DAF4D68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D059-8A47-4FE0-B839-7825076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A6A3-E402-44AA-8242-9C82F9BE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D66D-58A1-464C-95B0-797E5755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E76-18C9-4C7B-8504-25DCE9F2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B52-EB87-48A7-952B-0289B03E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102-8B74-45B0-AFA2-2728034F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D3F-B418-48B5-B6CF-4F606BA1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BFE-373A-450B-B313-32083066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D61-2AA8-42FF-B447-37E89C8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35A-BCD3-4D8E-9CBA-7614F95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EF2-0083-42C4-9E0A-CB10172E9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2073-FA1D-4C98-A805-50B061F82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hyperlink" Target="http://tw.wrs.yahoo.com/_ylt=A3eg8_jWd71MRl8AIBxt1gt.;_ylu=X3oDMTBrZ20xOHVwBHBvcwMxMDQEc2VjA3NyBHZ0aWQD/SIG=1nh2c9vhn/EXP=1287571798/**http%3A//tw.image.search.yahoo.com/images/view%3Fback=http%253A%252F%252Ftw.image.search.yahoo.com%252Fsearch%252Fimages%253Fp%253D%2525E4%2525B8%252580%2525E4%2525BB%2525BD%2525E6%2525B0%2525B4%2525E6%25259E%25259C%2526js%253D1%2526b%253D101%2526ni%253D20%2526ei%253Dutf-8%2526pstart%253D1%2526fr%253Dyfp%26w=600%26h=450%26imgurl=c-photo.i-part.com.tw%252Fn1v1%252F3%252F9%252F1%252F3%252F353193%252Fphoto%252Fbook23%252F124260874212.jpeg%26rurl=http%253A%252F%252Fblog.yam.com%252Fpshge%252Farticle%252F21138486%26size=194k%26name=124260874212%2Bjpe...%26p=%25E4%25B8%2580%25E4%25BB%25BD%25E6%25B0%25B4%25E6%259E%259C%26oid=080050a99b19f734%26fr2=%26no=104%26tt=8541%26b=101%26ni=20%26sigr=11a3ojvl7%26sigi=128d73pdj%26sigb=13ve4fmmm&amp;type=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tw.wrs.yahoo.com/_ylt=A3eg8qkNw59JJYEAXglt1gt./SIG=1g32g8j5d/EXP=1235293325/**http:/tw.info.search.yahoo.com/search/images/view?back=http://tw.info.search.yahoo.com/search/images?p=&#26611;&#19969;&amp;ei=UTF-8&amp;fr=yfp&amp;x=wrt&amp;w=1600&amp;h=1200&amp;imgurl=photo.fhl.net/img/virgit/4.jpg&amp;rurl=http://photo.fhl.net/gb/virgit/virgit4.html&amp;size=363.3kB&amp;name=4.jpg&amp;p=&#26611;&#19969;&amp;type=jpeg&amp;no=6&amp;tt=40,783&amp;oid=b9871f58f1c93998&amp;ei=UTF-8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365shu.com/photography/2080/html/wallpaper94.html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www.365shu.com/photography/2080/html/wallpaper91.html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tw.wrs.yahoo.com/_ylt=A3eg8_mCc71Ml8QAYZ5t1gt.;_ylu=X3oDMTBqM3IzZ25kBHBvcwMzMgRzZWMDc3IEdnRpZAM-/SIG=1rg3ouh2r/EXP=1287570690/**http%3A//tw.image.search.yahoo.com/images/view%3Fback=http%253A%252F%252Ftw.image.search.yahoo.com%252Fsearch%252Fimages%253Fp%253D%2525E7%2525B4%252585%2525E8%252598%2525BF%2525E8%252594%252594%2526b%253D21%2526ni%253D20%2526ei%253DUTF-8%2526pstart%253D1%2526fr%253Dyfp%26w=401%26h=299%26imgurl=fj.sinaimg.cn%252F2009%252F1224%252F20091224104426.jpg%26rurl=http%253A%252F%252Ffj.sina.com.cn%252Fhealth%252Fh%252Fm%252F2009-12-24%252F10481580.html%26size=24k%26name=%25E8%2583%25A1%25E8%2590%259D%25E5%258D%259C%25E6%2598%25AF%25E5%25B9%25B3%25E6%25B0%2591%25E4%25BA%25BA%25E5%258F%2582%2B%25E7%2582%25B8%25E6%25B1%2581%25E7%25A9%25BA%25E8%2585%25B9%25E5%2596%259D%25E8%2590%25A5%25E5%2585%25BB...%26p=%25E7%25B4%2585%25E8%2598%25BF%25E8%2594%2594%26oid=9c157fb57490ac24%26fr2=%26no=32%26tt=93881%26b=21%26ni=20%26sigr=11p6vi2ss%26sigi=11a4ilo3v%26sigb=13gon78po&amp;type=JPG" TargetMode="External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jOTr1MF0UAP25t1gt.;_ylu=X3oDMTBqZjdtb25uBHBvcwMyNgRzZWMDc3IEdnRpZAM-/SIG=1neq0udlv/EXP=1287561294/**http%3A//tw.image.search.yahoo.com/images/view%3Fback=http%253A%252F%252Ftw.image.search.yahoo.com%252Fsearch%252Fimages%253Fp%253D%2525E7%2525B4%2525AB%2525E8%252589%2525B2%2525E8%252594%2525AC%2525E8%25258F%25259C%2526js%253D1%2526b%253D21%2526ni%253D20%2526ei%253Dutf-8%2526pstart%253D1%2526fr%253Dsfp%26w=400%26h=329%26imgurl=www.china12315.com.cn%252FUpFiles%252FnewsPic%252F2009041410384247021.jpg%26rurl=http%253A%252F%252Fwww.china12315.com.cn%252Fhtml%252Fxfz%252F2009%252F0414%252Fn_20090414808550162.shtml%26size=46k%26name=2009041410384247...%26p=%25E7%25B4%25AB%25E8%2589%25B2%25E8%2594%25AC%25E8%258F%259C%26oid=e3eba4606980664c%26fr2=%26no=26%26tt=575%26b=21%26ni=20%26sigr=1298b8bsr%26sigi=11t4nuhec%26sigb=13u9kevtb&amp;type=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tw.wrs.yahoo.com/_ylt=A3eg8_cQTr1M9NEANUZt1gt.;_ylu=X3oDMTBpY2Y5NXNiBHBvcwM2BHNlYwNzcgR2dGlkAw--/SIG=1lpr19oht/EXP=1287561104/**http%3A//tw.image.search.yahoo.com/images/view%3Fback=http%253A%252F%252Ftw.image.search.yahoo.com%252Fsearch%252Fimages%253Fp%253D%2525E7%2525B4%2525AB%2525E8%252589%2525B2%2525E8%252594%2525AC%2525E8%25258F%25259C%2526js%253D1%2526b%253D1%2526ni%253D20%2526ei%253Dutf-8%2526pstart%253D1%2526fr%253Dsfp%26w=420%26h=308%26imgurl=image.39.net%252F085%252F14%252F166596_s_3115.jpg%26rurl=http%253A%252F%252Fwoman.39.net%252Fnxyy%252F085%252F16%252F428524_1.html%26size=16k%26name=166596%2Bs%2B3115%2Bjp...%26p=%25E7%25B4%25AB%25E8%2589%25B2%25E8%2594%25AC%25E8%258F%259C%26oid=31a8dac0c2fc855e%26fr2=%26no=6%26tt=577%26b=1%26ni=20%26sigr=11deo0jpb%26sigi=115mh2efg%26sigb=13t3mptln&amp;type=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tw.wrs.yahoo.com/_ylt=A3eg8qg1v59JQG0BEaVt1gt./SIG=1hhaifokv/EXP=1235292341/**http:/tw.info.search.yahoo.com/search/images/view?back=http://tw.info.search.yahoo.com/search/images?p=&#21152;&#24030;&#26446;&amp;ei=UTF-8&amp;fr=yfp&amp;b=1&amp;w=180&amp;h=127&amp;imgurl=www.homestay.com.tw/images/r-ad/P5161013.jpg&amp;rurl=http://www.homestay.com.tw/R-AD/specially.htm&amp;size=15.6kB&amp;name=P5161013.jpg&amp;p=&#21152;&#24030;&#26446;&amp;type=jpeg&amp;no=4&amp;tt=79&amp;oid=629fc744a0e760d0&amp;ei=UTF-8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lpS71MwbYAz9Bt1gt.;_ylu=X3oDMTBqY2pzbGhoBHBvcwMxMQRzZWMDc3IEdnRpZAM-/SIG=1lmllbq1e/EXP=1287560425/**http%3A//tw.image.search.yahoo.com/images/view%3Fback=http%253A%252F%252Ftw.image.search.yahoo.com%252Fsearch%252Fimages%253Fp%253D%2525E7%252599%2525BD%2525E8%252598%2525BF%2525E8%252594%252594%2526b%253D1%2526ni%253D20%2526ei%253Dutf-8%2526pstart%253D1%2526fr%253Dsfp%26w=350%26h=280%26imgurl=sh.sinaimg.cn%252F2009%252F0611%252F2009611162852.jpg%26rurl=http%253A%252F%252Fwww.labour-daily.cn%252FWeb%252FNewsDetail.aspx%253FIssuanceID%253D147118%26size=33k%26name=%25E7%2599%25BD%25E8%2590%259D%25E5%258D%259C%26p=%25E7%2599%25BD%25E8%2598%25BF%25E8%2594%2594%26oid=f69892804f3facca%26fr2=%26no=11%26tt=39846%26b=1%26ni=20%26sigr=120p7hbd4%26sigi=119apdiu7%26sigb=13ffo0l2o&amp;type=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tw.wrs.yahoo.com/_ylt=A3eg8qtyvZ9JzCYAcX1t1gt./SIG=1neivf6mu/EXP=1235291890/**http:/tw.info.search.yahoo.com/search/images/view?back=http://tw.info.search.yahoo.com/search/images?p=&#26792;&#23376;&amp;ei=UTF-8&amp;pstart=1&amp;fr=yfp&amp;b=1&amp;w=500&amp;h=375&amp;imgurl=static.flickr.com/92/258396840_0e08de22cd.jpg&amp;rurl=http://www.flickr.com/photos/nicole_lee/258396840/&amp;size=57.4kB&amp;name=093045&#22312;CHINATOWN&#35041;&#30340;&#33775;&#20154;&#36229;&#24066;...&amp;p=&#26792;&#23376;&amp;type=jpeg&amp;no=1&amp;tt=20,270&amp;oid=0e5c4c2cfdc0d75a&amp;ei=UTF-8&amp;fusr=Nicole_Daily&amp;hurl=http:/www.flickr.com/photos/nicole_lee/&amp;src=flickr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tw.wrs.yahoo.com/_ylt=A3eg8qb1vZ9JdnEARzVt1gt./SIG=1iul0odej/EXP=1235292021/**http:/tw.info.search.yahoo.com/search/images/view?back=http://tw.info.search.yahoo.com/search/images?p=&#40657;&#26408;&#32819;&amp;ei=UTF-8&amp;pstart=1&amp;fr=yfp&amp;b=341&amp;w=450&amp;h=481&amp;imgurl=www.pclady.com.cn/health/ysjk/0609/pic/182.jpg&amp;rurl=http://www.pclady.com.cn/health/ysjk/0609/114343.html&amp;size=44.4kB&amp;name=182.jpg&amp;p=&#40657;&#26408;&#32819;&amp;type=jpeg&amp;no=341&amp;tt=3,282&amp;oid=8c7f7e90b2235222&amp;ei=UTF-8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99"/>
                </a:solidFill>
                <a:latin typeface="Arial Black"/>
              </a:rPr>
              <a:t>環保蔬食好健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920" y="2204640"/>
            <a:ext cx="62611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rcRect l="9549" t="0" r="10733" b="14994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彩虹蔬果健康多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各色蔬果所含之纖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礦物質及植物性化學成分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圖片3"/>
          <p:cNvPicPr/>
          <p:nvPr/>
        </p:nvPicPr>
        <p:blipFill>
          <a:blip r:embed="rId1"/>
          <a:stretch/>
        </p:blipFill>
        <p:spPr>
          <a:xfrm>
            <a:off x="4859280" y="299736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圖片18"/>
          <p:cNvPicPr/>
          <p:nvPr/>
        </p:nvPicPr>
        <p:blipFill>
          <a:blip r:embed="rId2"/>
          <a:stretch/>
        </p:blipFill>
        <p:spPr>
          <a:xfrm>
            <a:off x="826920" y="4869000"/>
            <a:ext cx="1579680" cy="119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圖片21"/>
          <p:cNvPicPr/>
          <p:nvPr/>
        </p:nvPicPr>
        <p:blipFill>
          <a:blip r:embed="rId3"/>
          <a:stretch/>
        </p:blipFill>
        <p:spPr>
          <a:xfrm>
            <a:off x="2050920" y="3933720"/>
            <a:ext cx="1590840" cy="100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圖片25"/>
          <p:cNvPicPr/>
          <p:nvPr/>
        </p:nvPicPr>
        <p:blipFill>
          <a:blip r:embed="rId4"/>
          <a:stretch/>
        </p:blipFill>
        <p:spPr>
          <a:xfrm>
            <a:off x="2268360" y="4941720"/>
            <a:ext cx="21654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綠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纖維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促進視覺健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強健骨骼牙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每日至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份深綠色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DSC01732"/>
          <p:cNvPicPr/>
          <p:nvPr/>
        </p:nvPicPr>
        <p:blipFill>
          <a:blip r:embed="rId1"/>
          <a:stretch/>
        </p:blipFill>
        <p:spPr>
          <a:xfrm>
            <a:off x="90000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圖片18"/>
          <p:cNvPicPr/>
          <p:nvPr/>
        </p:nvPicPr>
        <p:blipFill>
          <a:blip r:embed="rId2"/>
          <a:stretch/>
        </p:blipFill>
        <p:spPr>
          <a:xfrm>
            <a:off x="2843280" y="5013360"/>
            <a:ext cx="1579320" cy="119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圖片20"/>
          <p:cNvPicPr/>
          <p:nvPr/>
        </p:nvPicPr>
        <p:blipFill>
          <a:blip r:embed="rId3"/>
          <a:stretch/>
        </p:blipFill>
        <p:spPr>
          <a:xfrm>
            <a:off x="4427640" y="5013360"/>
            <a:ext cx="1508040" cy="1141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圖片22"/>
          <p:cNvPicPr/>
          <p:nvPr/>
        </p:nvPicPr>
        <p:blipFill>
          <a:blip r:embed="rId4"/>
          <a:stretch/>
        </p:blipFill>
        <p:spPr>
          <a:xfrm>
            <a:off x="6084720" y="5013360"/>
            <a:ext cx="146700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黃色及橘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3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含豐富抗氧化物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類葫蘿蔔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促進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SC01737"/>
          <p:cNvPicPr/>
          <p:nvPr/>
        </p:nvPicPr>
        <p:blipFill>
          <a:blip r:embed="rId1"/>
          <a:stretch/>
        </p:blipFill>
        <p:spPr>
          <a:xfrm>
            <a:off x="1116000" y="5013360"/>
            <a:ext cx="170172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進入標準尺寸的圖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869000"/>
            <a:ext cx="2519280" cy="156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新鮮蔬菜水果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581360"/>
            <a:ext cx="2448000" cy="179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新鮮蔬菜水果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852640"/>
            <a:ext cx="2125800" cy="131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進入標準尺寸的圖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907920"/>
            <a:ext cx="259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藍色及紫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許多增進健康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抗老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助增強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01336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3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5084640"/>
            <a:ext cx="1728720" cy="102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941720"/>
            <a:ext cx="17794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白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不同量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減少心血管疾病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65300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4724280"/>
            <a:ext cx="215892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365720"/>
            <a:ext cx="1650960" cy="169236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8" descr="白菜_1~1.JPG"/>
          <p:cNvPicPr/>
          <p:nvPr/>
        </p:nvPicPr>
        <p:blipFill>
          <a:blip r:embed="rId7"/>
          <a:stretch/>
        </p:blipFill>
        <p:spPr>
          <a:xfrm>
            <a:off x="6370560" y="692280"/>
            <a:ext cx="2162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紅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含植物性化學成分如茄紅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花青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促進心臟及尿道系統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升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圖片14"/>
          <p:cNvPicPr/>
          <p:nvPr/>
        </p:nvPicPr>
        <p:blipFill>
          <a:blip r:embed="rId1"/>
          <a:stretch/>
        </p:blipFill>
        <p:spPr>
          <a:xfrm>
            <a:off x="971640" y="4724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進入標準尺寸的圖片"/>
          <p:cNvPicPr/>
          <p:nvPr/>
        </p:nvPicPr>
        <p:blipFill>
          <a:blip r:embed="rId2"/>
          <a:stretch/>
        </p:blipFill>
        <p:spPr>
          <a:xfrm>
            <a:off x="3419640" y="4797360"/>
            <a:ext cx="2016000" cy="1514520"/>
          </a:xfrm>
          <a:prstGeom prst="rect">
            <a:avLst/>
          </a:prstGeom>
          <a:ln w="0">
            <a:noFill/>
          </a:ln>
        </p:spPr>
      </p:pic>
      <p:pic>
        <p:nvPicPr>
          <p:cNvPr id="184" name="圖片 8" descr="red1.jpg"/>
          <p:cNvPicPr/>
          <p:nvPr/>
        </p:nvPicPr>
        <p:blipFill>
          <a:blip r:embed="rId3"/>
          <a:stretch/>
        </p:blipFill>
        <p:spPr>
          <a:xfrm>
            <a:off x="6300720" y="299736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85" name="圖片 9" descr="red2.jpg"/>
          <p:cNvPicPr/>
          <p:nvPr/>
        </p:nvPicPr>
        <p:blipFill>
          <a:blip r:embed="rId4"/>
          <a:stretch/>
        </p:blipFill>
        <p:spPr>
          <a:xfrm>
            <a:off x="6156360" y="465300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四月美國德州龍捲風肆虐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404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年二月日本雪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47680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4103640" cy="2927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4032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為地球降溫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全球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台灣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顯示台灣暖化腳步比全球快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user</cp:lastModifiedBy>
  <dcterms:modified xsi:type="dcterms:W3CDTF">2012-05-02T06:14:20Z</dcterms:modified>
  <cp:revision>54</cp:revision>
  <dc:subject/>
  <dc:title>環保蔬食好健康</dc:title>
</cp:coreProperties>
</file>