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3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18FB-483B-45F2-BAD9-5175AB736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5A6E-B37F-48CF-9826-DD11FC71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DED7-45DD-467D-9469-7B144D236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5292-BF7C-49E0-BC41-9D7756B71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5248-CAEF-4CDB-89C9-77FC08062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DA21-0C14-4A48-BB31-5952FDC6B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F573-D702-4337-8884-D77BBE82E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BD8A-F19A-4806-8197-E763CFF8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CFE6-5753-40FE-98CF-EC0544FB2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0C54-B2E9-4BCB-BE62-06CEEA34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63F-F72D-4EC7-A165-B79FD950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1305-2FA0-4447-ABA2-D941EA3D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293C-C596-4A83-AED7-AFB8882D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7D8D-48D6-46A8-AE20-C8D617EC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A1FE-0A6D-4A3C-9C48-D662331A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EDB2-FF49-487E-B9FD-3CC4DDA7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52BA-5A8F-4D40-A071-3CACF715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C215-D26C-438B-9B53-2D65D221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9BFB-071B-41D3-A2E7-EB97C853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808-CB89-49B1-AA44-3593611F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ACAF-F0ED-4B87-B67E-8E5FC9ED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DEE3-1263-4A3D-B49E-DBE21492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5E6E-475E-43C7-A0EA-99E6883E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B911-B229-4FD2-B8EE-8AAC32A33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D719-B057-4500-BBFB-07DDDDCF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CC0-31BF-4529-B016-35C053CB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0D5-11D6-4D34-BDE4-AE254B5A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FFC-5C1E-4444-81C5-15E86F9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19A3-6A35-4D0C-9EB5-E69C1B96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7587-29EC-469C-81B6-79799AB4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CB0-BDBD-474A-996F-BAA36A5B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2AA6-3486-43CB-BAC6-4200E9E1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1074-21E0-42F2-BF02-C165F655C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DF6-1002-4A4A-8A65-C3330D258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99"/>
                </a:solidFill>
                <a:latin typeface="Arial Black"/>
              </a:rPr>
              <a:t>低碳飲食愛地球</a:t>
            </a:r>
            <a:br>
              <a:rPr sz="5400"/>
            </a:br>
            <a:r>
              <a:rPr b="1" lang="zh-TW" sz="5400" spc="-1" strike="noStrike">
                <a:solidFill>
                  <a:srgbClr val="000099"/>
                </a:solidFill>
                <a:latin typeface="Arial Black"/>
              </a:rPr>
              <a:t>蔬果篇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94920" y="2923920"/>
            <a:ext cx="712476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個壘球大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4437000"/>
            <a:ext cx="2303280" cy="1994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419640" y="4149720"/>
            <a:ext cx="2665080" cy="2328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300720" y="378936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076720" y="1700280"/>
            <a:ext cx="2590920" cy="185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1403280" y="2492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躲避球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87280" y="3500280"/>
            <a:ext cx="2544840" cy="2163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284720" y="4149720"/>
            <a:ext cx="2592360" cy="2273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6156360" y="177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根香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蓮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葡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87280" y="4508640"/>
            <a:ext cx="247032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924360" y="393372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6156360" y="2060640"/>
            <a:ext cx="19810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12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rcRect l="9549" t="0" r="10733" b="14994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進入標準尺寸的圖片"/>
          <p:cNvPicPr/>
          <p:nvPr/>
        </p:nvPicPr>
        <p:blipFill>
          <a:blip r:embed="rId3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棒球或拳頭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940360" y="299736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780000" y="4581360"/>
            <a:ext cx="1655640" cy="1549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940360" y="1197000"/>
            <a:ext cx="2033640" cy="1609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5867280" y="4941720"/>
            <a:ext cx="2251080" cy="1703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1332000" y="357336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635280" y="2924280"/>
            <a:ext cx="21430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user</cp:lastModifiedBy>
  <dcterms:modified xsi:type="dcterms:W3CDTF">2013-12-05T05:45:39Z</dcterms:modified>
  <cp:revision>55</cp:revision>
  <dc:subject/>
  <dc:title>環保蔬食好健康</dc:title>
</cp:coreProperties>
</file>