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D89-3646-4C8E-81A2-274C6A98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01D-6013-416D-961A-26E4F026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860-DA71-4C30-A791-13CAD2B4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C59-FE23-48ED-8D4E-69B9E06B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0040-082B-4281-AC14-95FC7ED5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6B91-17D2-49B4-9166-F53CE9CB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71B3-4B6F-44C3-975D-F4E59A1F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B216-8173-4E81-8E53-643AD22D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F442-041F-406C-9FBD-A187034D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F89E-AC7E-4760-BFFF-15A562C8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24C6-DD83-4E55-A930-ACAB3124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5EB-4698-4A59-98C2-FB72A115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1497-818D-4478-8DEE-4170C50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DD8F-1DC0-40DB-9C0F-1DAB87C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CB8C-C16F-46C4-9F8F-2EB30D4A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2C26-3FEC-4E39-8557-B0565BEA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CD76-4451-4B21-857D-44B4FCB5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AD1-ECB2-4351-BD4D-B0E5C2F8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31E-5B72-45FB-8737-3CDFC65E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AB7-061F-4CB2-B48E-F08C50B7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D3E-4AC6-45F7-8D98-3D608926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AA4-6D83-46FA-982B-6892ED42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978-C134-4247-9184-B136EFE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36C-E873-4C1C-9B0F-CE6A1EA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F4C3-8A5D-44BB-BAD0-18A34BC6535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F974-CF47-4C3B-A6D5-3C6C9FBCD17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c3399"/>
                </a:solidFill>
                <a:latin typeface="標楷體"/>
                <a:ea typeface="標楷體"/>
              </a:rPr>
              <a:t>資源回收宣導簡報</a:t>
            </a:r>
            <a:endParaRPr b="0" lang="en-US" sz="7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2349360"/>
            <a:ext cx="7848720" cy="86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一、什麼是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42900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二、為什麼要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450864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三、要如何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867280"/>
            <a:ext cx="2438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興國國小資源回收</a:t>
            </a:r>
            <a:br>
              <a:rPr sz="2000"/>
            </a:b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   宣 導 簡 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29000" y="59436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90" name="doraemon1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鋁箔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181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10688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2720" y="30549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038480" y="3653280"/>
            <a:ext cx="1341000" cy="1615320"/>
            <a:chOff x="4038480" y="3653280"/>
            <a:chExt cx="1341000" cy="1615320"/>
          </a:xfrm>
        </p:grpSpPr>
        <p:sp>
          <p:nvSpPr>
            <p:cNvPr id="187" name=""/>
            <p:cNvSpPr/>
            <p:nvPr/>
          </p:nvSpPr>
          <p:spPr>
            <a:xfrm>
              <a:off x="46504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洗淨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384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202200" y="407808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棄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插圖"/>
          <p:cNvPicPr/>
          <p:nvPr/>
        </p:nvPicPr>
        <p:blipFill>
          <a:blip r:embed="rId2"/>
          <a:stretch/>
        </p:blipFill>
        <p:spPr>
          <a:xfrm>
            <a:off x="4495680" y="1600200"/>
            <a:ext cx="24177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5410080" y="3653280"/>
            <a:ext cx="1341000" cy="1615320"/>
            <a:chOff x="5410080" y="3653280"/>
            <a:chExt cx="1341000" cy="1615320"/>
          </a:xfrm>
        </p:grpSpPr>
        <p:sp>
          <p:nvSpPr>
            <p:cNvPr id="192" name=""/>
            <p:cNvSpPr/>
            <p:nvPr/>
          </p:nvSpPr>
          <p:spPr>
            <a:xfrm>
              <a:off x="60220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doraemon1" descr=""/>
          <p:cNvPicPr/>
          <p:nvPr/>
        </p:nvPicPr>
        <p:blipFill>
          <a:blip r:embed="rId3"/>
          <a:stretch/>
        </p:blipFill>
        <p:spPr>
          <a:xfrm>
            <a:off x="7621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29718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紙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插圖"/>
          <p:cNvPicPr/>
          <p:nvPr/>
        </p:nvPicPr>
        <p:blipFill>
          <a:blip r:embed="rId1"/>
          <a:stretch/>
        </p:blipFill>
        <p:spPr>
          <a:xfrm>
            <a:off x="2971800" y="4800600"/>
            <a:ext cx="1355760" cy="101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插圖"/>
          <p:cNvPicPr/>
          <p:nvPr/>
        </p:nvPicPr>
        <p:blipFill>
          <a:blip r:embed="rId2"/>
          <a:stretch/>
        </p:blipFill>
        <p:spPr>
          <a:xfrm>
            <a:off x="4419720" y="1981080"/>
            <a:ext cx="2547720" cy="1567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1752480"/>
            <a:ext cx="3200400" cy="327672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3276720"/>
              <a:gd name="textAreaBottom" fmla="*/ 3120480 h 3276720"/>
            </a:gdLst>
            <a:ahLst/>
            <a:rect l="textAreaLeft" t="textAreaTop" r="textAreaRight" b="textAreaBottom"/>
            <a:pathLst>
              <a:path w="21600" h="22115">
                <a:moveTo>
                  <a:pt x="3600" y="0"/>
                </a:moveTo>
                <a:arcTo wR="3600" hR="3600" stAng="16200000" swAng="-5400000"/>
                <a:lnTo>
                  <a:pt x="0" y="18515"/>
                </a:lnTo>
                <a:arcTo wR="3600" hR="3600" stAng="10800000" swAng="-5400000"/>
                <a:lnTo>
                  <a:pt x="18000" y="22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Times New Roman"/>
                <a:ea typeface="標楷體"/>
              </a:rPr>
              <a:t>污穢紙張與衛生紙除外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5401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張壓平疊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箱需拆開壓平。紙杯、紙餐盒則洗淨疊整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0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doraemon1" descr=""/>
          <p:cNvPicPr/>
          <p:nvPr/>
        </p:nvPicPr>
        <p:blipFill>
          <a:blip r:embed="rId4"/>
          <a:stretch/>
        </p:blipFill>
        <p:spPr>
          <a:xfrm>
            <a:off x="15238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玻璃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插圖"/>
          <p:cNvPicPr/>
          <p:nvPr/>
        </p:nvPicPr>
        <p:blipFill>
          <a:blip r:embed="rId1"/>
          <a:stretch/>
        </p:blipFill>
        <p:spPr>
          <a:xfrm>
            <a:off x="838080" y="27432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插圖"/>
          <p:cNvPicPr/>
          <p:nvPr/>
        </p:nvPicPr>
        <p:blipFill>
          <a:blip r:embed="rId2"/>
          <a:stretch/>
        </p:blipFill>
        <p:spPr>
          <a:xfrm>
            <a:off x="1600200" y="41148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插圖"/>
          <p:cNvPicPr/>
          <p:nvPr/>
        </p:nvPicPr>
        <p:blipFill>
          <a:blip r:embed="rId3"/>
          <a:stretch/>
        </p:blipFill>
        <p:spPr>
          <a:xfrm>
            <a:off x="4038480" y="3505320"/>
            <a:ext cx="1371600" cy="1766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插圖"/>
          <p:cNvPicPr/>
          <p:nvPr/>
        </p:nvPicPr>
        <p:blipFill>
          <a:blip r:embed="rId4"/>
          <a:stretch/>
        </p:blipFill>
        <p:spPr>
          <a:xfrm>
            <a:off x="2743200" y="1905120"/>
            <a:ext cx="2251080" cy="561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插圖"/>
          <p:cNvPicPr/>
          <p:nvPr/>
        </p:nvPicPr>
        <p:blipFill>
          <a:blip r:embed="rId5"/>
          <a:stretch/>
        </p:blipFill>
        <p:spPr>
          <a:xfrm>
            <a:off x="5791320" y="1905120"/>
            <a:ext cx="1979640" cy="1555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666880" y="2837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倒出內容物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12280" y="5714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去瓶蓋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30640" y="5104800"/>
            <a:ext cx="13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並晾乾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4343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避免混入陶瓷等任何非玻璃容器的物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664000">
            <a:off x="528120" y="5057280"/>
            <a:ext cx="1656000" cy="533520"/>
          </a:xfrm>
          <a:custGeom>
            <a:avLst/>
            <a:gdLst>
              <a:gd name="textAreaLeft" fmla="*/ 289800 w 1656000"/>
              <a:gd name="textAreaRight" fmla="*/ 1200600 w 1656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 flipH="1" rot="8248200">
            <a:off x="2895480" y="4114080"/>
            <a:ext cx="1368720" cy="57636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664000">
            <a:off x="5028840" y="4495680"/>
            <a:ext cx="1655640" cy="53352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429000" y="5867280"/>
            <a:ext cx="4419360" cy="830520"/>
            <a:chOff x="3429000" y="5867280"/>
            <a:chExt cx="4419360" cy="830520"/>
          </a:xfrm>
        </p:grpSpPr>
        <p:sp>
          <p:nvSpPr>
            <p:cNvPr id="221" name=""/>
            <p:cNvSpPr/>
            <p:nvPr/>
          </p:nvSpPr>
          <p:spPr>
            <a:xfrm>
              <a:off x="4481280" y="5867280"/>
              <a:ext cx="3367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3429000" y="5943600"/>
              <a:ext cx="105228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doraemon1" descr=""/>
          <p:cNvPicPr/>
          <p:nvPr/>
        </p:nvPicPr>
        <p:blipFill>
          <a:blip r:embed="rId7"/>
          <a:stretch/>
        </p:blipFill>
        <p:spPr>
          <a:xfrm>
            <a:off x="152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日光燈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插圖"/>
          <p:cNvPicPr/>
          <p:nvPr/>
        </p:nvPicPr>
        <p:blipFill>
          <a:blip r:embed="rId1"/>
          <a:stretch/>
        </p:blipFill>
        <p:spPr>
          <a:xfrm>
            <a:off x="3276720" y="35812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819520"/>
            <a:ext cx="64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千萬別打破！直接送至回收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29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doraemon1" descr=""/>
          <p:cNvPicPr/>
          <p:nvPr/>
        </p:nvPicPr>
        <p:blipFill>
          <a:blip r:embed="rId3"/>
          <a:stretch/>
        </p:blipFill>
        <p:spPr>
          <a:xfrm>
            <a:off x="762120" y="548640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5400" spc="-1" strike="noStrike">
                <a:solidFill>
                  <a:srgbClr val="761e1e"/>
                </a:solidFill>
                <a:latin typeface="Arial Black"/>
                <a:ea typeface="標楷體"/>
              </a:rPr>
              <a:t>大家應該知道的！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噸的廢紙可拯救二十株原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回收廢紙可減少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14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～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2.6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垃圾量，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75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製紙能源及一半的製紙用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支玻璃瓶節省的能量，可點亮一個一○○燭光燈泡四個小時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一個被棄置的保特瓶、鐵鋁罐或塑膠袋，五百年後依然存在地表，甚至千年不化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個鋁罐可節省三小時電視的電力，又可減少污染。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29000" y="5867280"/>
            <a:ext cx="4190760" cy="830520"/>
            <a:chOff x="3429000" y="5867280"/>
            <a:chExt cx="4190760" cy="830520"/>
          </a:xfrm>
        </p:grpSpPr>
        <p:sp>
          <p:nvSpPr>
            <p:cNvPr id="235" name=""/>
            <p:cNvSpPr/>
            <p:nvPr/>
          </p:nvSpPr>
          <p:spPr>
            <a:xfrm>
              <a:off x="4426920" y="5867280"/>
              <a:ext cx="31928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97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doraemon1" descr=""/>
          <p:cNvPicPr/>
          <p:nvPr/>
        </p:nvPicPr>
        <p:blipFill>
          <a:blip r:embed="rId2"/>
          <a:stretch/>
        </p:blipFill>
        <p:spPr>
          <a:xfrm>
            <a:off x="16765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3434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認識回收標誌──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0040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    </a:t>
            </a:r>
            <a:r>
              <a:rPr b="0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這是代表資源循環再利用、萬物生生不息的精神，就好比是人體血液循環般，當心臟跳動將血液分送到身體各器官使用過後，又會循著靜脈再逆流回心臟產生新的血液供人體使用。另外，回收標誌式樣跟中文字之『回』字有異曲同工之妙。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43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057400"/>
            <a:ext cx="77724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少用免洗餐具，減少垃圾產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購物自備購物袋，少用幾個塑膠袋，可減少垃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隨手關掉水龍頭，勿讓自來水任意流失，需用時再開啟。省水即是省電、省資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出門少開車，多坐公共交通工具，或鼓勵共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不要把新聞紙、玻璃瓶或碎片視為垃圾，收集起來回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以身作則做環保，隨時隨地做環保：如節省紙張、隨手關燈、自帶茶杯等等。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876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垃圾減量再利用──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50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doraemon1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什麼是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將人們使用的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妥善收回、加工改造，並加以重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利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把你家的紙張、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子、罐子、保特瓶和其他東西收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起來，拿去循環再製造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94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doraemon1" descr=""/>
          <p:cNvPicPr/>
          <p:nvPr/>
        </p:nvPicPr>
        <p:blipFill>
          <a:blip r:embed="rId2"/>
          <a:stretch/>
        </p:blipFill>
        <p:spPr>
          <a:xfrm>
            <a:off x="8380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153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為什麼要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34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地球只有一個，資源有限，大家做資源回收可以讓地球活的更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可以讓地球資源重覆利用，不浪費自然資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使人與大自然和諧相處，生活品質提升，生態永續發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00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doraemon1" descr=""/>
          <p:cNvPicPr/>
          <p:nvPr/>
        </p:nvPicPr>
        <p:blipFill>
          <a:blip r:embed="rId2"/>
          <a:stretch/>
        </p:blipFill>
        <p:spPr>
          <a:xfrm>
            <a:off x="16002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4560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0000"/>
                </a:solidFill>
                <a:latin typeface="Arial"/>
                <a:ea typeface="標楷體"/>
              </a:rPr>
              <a:t>垃圾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63000">
            <a:off x="3492000" y="2429280"/>
            <a:ext cx="4257720" cy="23799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ff0000"/>
                </a:solidFill>
                <a:latin typeface="Tahoma"/>
                <a:ea typeface="標楷體"/>
              </a:rPr>
              <a:t>分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07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doraemon1" descr=""/>
          <p:cNvPicPr/>
          <p:nvPr/>
        </p:nvPicPr>
        <p:blipFill>
          <a:blip r:embed="rId2"/>
          <a:stretch/>
        </p:blipFill>
        <p:spPr>
          <a:xfrm>
            <a:off x="2438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9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6000"/>
          </a:bodyPr>
          <a:p>
            <a:pPr marL="260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資源回收分類項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905120"/>
            <a:ext cx="936720" cy="3504960"/>
          </a:xfrm>
          <a:custGeom>
            <a:avLst/>
            <a:gdLst>
              <a:gd name="textAreaLeft" fmla="*/ 598680 w 936720"/>
              <a:gd name="textAreaRight" fmla="*/ 937080 w 9367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81080" y="1905120"/>
            <a:ext cx="6781680" cy="3567960"/>
            <a:chOff x="1981080" y="1905120"/>
            <a:chExt cx="6781680" cy="3567960"/>
          </a:xfrm>
        </p:grpSpPr>
        <p:sp>
          <p:nvSpPr>
            <p:cNvPr id="114" name=""/>
            <p:cNvSpPr/>
            <p:nvPr/>
          </p:nvSpPr>
          <p:spPr>
            <a:xfrm>
              <a:off x="441936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紙　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32763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保特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39621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360" y="3276360"/>
              <a:ext cx="396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玻璃瓶、燈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0760" y="2136600"/>
              <a:ext cx="0" cy="3273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9360" y="3962160"/>
              <a:ext cx="434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廢電池、光碟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鐵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7040" y="4647960"/>
              <a:ext cx="201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36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箔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25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doraemon1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16292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注意：鐵罐、鋁罐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  <a:ea typeface="標楷體"/>
              </a:rPr>
              <a:t>要分開回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3840" y="2496600"/>
            <a:ext cx="72900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集中回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7440" y="2184840"/>
            <a:ext cx="3929400" cy="3485160"/>
            <a:chOff x="1297440" y="2184840"/>
            <a:chExt cx="3929400" cy="3485160"/>
          </a:xfrm>
        </p:grpSpPr>
        <p:sp>
          <p:nvSpPr>
            <p:cNvPr id="131" name=""/>
            <p:cNvSpPr/>
            <p:nvPr/>
          </p:nvSpPr>
          <p:spPr>
            <a:xfrm>
              <a:off x="1297440" y="2567880"/>
              <a:ext cx="72900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略為沖洗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1800" y="273420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陰乾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7840" y="2184840"/>
              <a:ext cx="729000" cy="34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罐：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8764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4328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172200" y="37339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39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5183640" y="205452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鐵罐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不須壓扁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oraemon1" descr=""/>
          <p:cNvPicPr/>
          <p:nvPr/>
        </p:nvPicPr>
        <p:blipFill>
          <a:blip r:embed="rId2"/>
          <a:stretch/>
        </p:blipFill>
        <p:spPr>
          <a:xfrm>
            <a:off x="9144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68580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保特瓶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底部有凹槽的瓶罐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插圖"/>
          <p:cNvPicPr/>
          <p:nvPr/>
        </p:nvPicPr>
        <p:blipFill>
          <a:blip r:embed="rId1"/>
          <a:stretch/>
        </p:blipFill>
        <p:spPr>
          <a:xfrm>
            <a:off x="762120" y="3809880"/>
            <a:ext cx="144756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插圖"/>
          <p:cNvPicPr/>
          <p:nvPr/>
        </p:nvPicPr>
        <p:blipFill>
          <a:blip r:embed="rId2"/>
          <a:stretch/>
        </p:blipFill>
        <p:spPr>
          <a:xfrm>
            <a:off x="3809880" y="396252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插圖"/>
          <p:cNvPicPr/>
          <p:nvPr/>
        </p:nvPicPr>
        <p:blipFill>
          <a:blip r:embed="rId3"/>
          <a:stretch/>
        </p:blipFill>
        <p:spPr>
          <a:xfrm>
            <a:off x="5867280" y="3657600"/>
            <a:ext cx="1663920" cy="1731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8984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076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5440" y="5333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分類回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411800">
            <a:off x="2230200" y="4655880"/>
            <a:ext cx="1814400" cy="533160"/>
          </a:xfrm>
          <a:custGeom>
            <a:avLst/>
            <a:gdLst>
              <a:gd name="textAreaLeft" fmla="*/ 317520 w 1814400"/>
              <a:gd name="textAreaRight" fmla="*/ 1315440 w 1814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20166000">
            <a:off x="5181120" y="3124080"/>
            <a:ext cx="1327320" cy="709560"/>
          </a:xfrm>
          <a:custGeom>
            <a:avLst/>
            <a:gdLst>
              <a:gd name="textAreaLeft" fmla="*/ 232200 w 1327320"/>
              <a:gd name="textAreaRight" fmla="*/ 962280 w 1327320"/>
              <a:gd name="textAreaTop" fmla="*/ 95040 h 709560"/>
              <a:gd name="textAreaBottom" fmla="*/ 61452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瓶蓋旋開丟棄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55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doraemon1" descr=""/>
          <p:cNvPicPr/>
          <p:nvPr/>
        </p:nvPicPr>
        <p:blipFill>
          <a:blip r:embed="rId5"/>
          <a:stretch/>
        </p:blipFill>
        <p:spPr>
          <a:xfrm>
            <a:off x="1600200" y="57420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1760" y="198864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塑膠容器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插圖"/>
          <p:cNvPicPr/>
          <p:nvPr/>
        </p:nvPicPr>
        <p:blipFill>
          <a:blip r:embed="rId1"/>
          <a:stretch/>
        </p:blipFill>
        <p:spPr>
          <a:xfrm>
            <a:off x="3733920" y="289548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4799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6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塑膠瓶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底部平整，如優酪乳瓶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養樂多、豆花盒、布丁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等，皆屬此類。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69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15260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3600" y="290664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湯匙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8560" y="365328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洗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5720" y="433224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doraemon1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3:03:51Z</dcterms:created>
  <dc:creator>Utux</dc:creator>
  <dc:description/>
  <dc:language>en-US</dc:language>
  <cp:lastModifiedBy>stanley</cp:lastModifiedBy>
  <dcterms:modified xsi:type="dcterms:W3CDTF">2005-09-21T15:59:00Z</dcterms:modified>
  <cp:revision>68</cp:revision>
  <dc:subject/>
  <dc:title>德武國小 資源回收課程</dc:title>
</cp:coreProperties>
</file>