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2E8-FEAC-445A-B4A0-955A1E8A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F2E-0C52-407E-AEA5-BFE0E675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C08-2C8B-48EE-8448-C953287B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99D-99FF-4272-880E-0DA8901B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9EEE-1C67-424F-900A-3D0DBDB2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B5F4-0F1B-49AB-9371-63E50325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5E30-5125-4336-BBCD-FCFBC51B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4349-AB8B-4311-B149-C0139AA8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404D-C1D4-4274-A435-C60B4672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C4F6-CF92-49FE-A522-87B48BF5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3776-9032-40BE-8D70-357ED86E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F97-7BF9-463E-808F-89AB04A1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7A2D-FBA2-4C1D-A63C-CFCAA486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3C90-4F23-4AA5-A534-AC13E40F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B7F5-181D-4A2E-B466-294B177B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BA4A-7752-413A-A123-12A83629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BCE9-1599-4821-942B-4C8FA759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CB3-924D-444B-A1C4-58BBE0DF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0A4-C355-467B-9C99-483901A0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A6D-2669-4FEB-BAE3-70D77C3A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D88-8BB0-41A5-B0B8-B472994A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053C-D795-4E40-9172-602198CB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059-76F3-410E-ADA5-371866B5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9FE-4FE0-4BB0-BFC8-7920CA3C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7019-CC41-420D-B9C6-F17D2EDC4AF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FD8A-6570-4967-9D4E-E1B55C4D8FE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7596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c3399"/>
                </a:solidFill>
                <a:latin typeface="標楷體"/>
                <a:ea typeface="標楷體"/>
              </a:rPr>
              <a:t>資源回收宣導簡報</a:t>
            </a:r>
            <a:endParaRPr b="0" lang="en-US" sz="7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2349360"/>
            <a:ext cx="7848720" cy="86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一、什麼是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3429000"/>
            <a:ext cx="784872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二、為什麼要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4508640"/>
            <a:ext cx="784872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三、要如何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5867280"/>
            <a:ext cx="2438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9900"/>
                </a:solidFill>
                <a:latin typeface="標楷體"/>
                <a:ea typeface="標楷體"/>
              </a:rPr>
              <a:t>興國國小資源回收</a:t>
            </a:r>
            <a:br>
              <a:rPr sz="2000"/>
            </a:br>
            <a:r>
              <a:rPr b="1" lang="zh-TW" sz="2000" spc="-1" strike="noStrike">
                <a:solidFill>
                  <a:srgbClr val="009900"/>
                </a:solidFill>
                <a:latin typeface="標楷體"/>
                <a:ea typeface="標楷體"/>
              </a:rPr>
              <a:t>   宣 導 簡 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29000" y="5943600"/>
            <a:ext cx="762120" cy="754200"/>
          </a:xfrm>
          <a:prstGeom prst="rect">
            <a:avLst/>
          </a:prstGeom>
          <a:ln w="0">
            <a:noFill/>
          </a:ln>
        </p:spPr>
      </p:pic>
      <p:pic>
        <p:nvPicPr>
          <p:cNvPr id="90" name="doraemon1" descr=""/>
          <p:cNvPicPr/>
          <p:nvPr/>
        </p:nvPicPr>
        <p:blipFill>
          <a:blip r:embed="rId2"/>
          <a:stretch/>
        </p:blipFill>
        <p:spPr>
          <a:xfrm>
            <a:off x="22860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Arial"/>
                <a:ea typeface="標楷體"/>
              </a:rPr>
              <a:t>鋁箔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181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1068840" y="357696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喝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2720" y="305496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取出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038480" y="3653280"/>
            <a:ext cx="1341000" cy="1615320"/>
            <a:chOff x="4038480" y="3653280"/>
            <a:chExt cx="1341000" cy="1615320"/>
          </a:xfrm>
        </p:grpSpPr>
        <p:sp>
          <p:nvSpPr>
            <p:cNvPr id="187" name=""/>
            <p:cNvSpPr/>
            <p:nvPr/>
          </p:nvSpPr>
          <p:spPr>
            <a:xfrm>
              <a:off x="4650480" y="365328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洗淨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38480" y="44197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202200" y="407808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丟棄至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插圖"/>
          <p:cNvPicPr/>
          <p:nvPr/>
        </p:nvPicPr>
        <p:blipFill>
          <a:blip r:embed="rId2"/>
          <a:stretch/>
        </p:blipFill>
        <p:spPr>
          <a:xfrm>
            <a:off x="4495680" y="1600200"/>
            <a:ext cx="24177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5410080" y="3653280"/>
            <a:ext cx="1341000" cy="1615320"/>
            <a:chOff x="5410080" y="3653280"/>
            <a:chExt cx="1341000" cy="1615320"/>
          </a:xfrm>
        </p:grpSpPr>
        <p:sp>
          <p:nvSpPr>
            <p:cNvPr id="192" name=""/>
            <p:cNvSpPr/>
            <p:nvPr/>
          </p:nvSpPr>
          <p:spPr>
            <a:xfrm>
              <a:off x="6022080" y="365328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壓扁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44197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doraemon1" descr=""/>
          <p:cNvPicPr/>
          <p:nvPr/>
        </p:nvPicPr>
        <p:blipFill>
          <a:blip r:embed="rId3"/>
          <a:stretch/>
        </p:blipFill>
        <p:spPr>
          <a:xfrm>
            <a:off x="762120" y="556272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29718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紙類─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插圖"/>
          <p:cNvPicPr/>
          <p:nvPr/>
        </p:nvPicPr>
        <p:blipFill>
          <a:blip r:embed="rId1"/>
          <a:stretch/>
        </p:blipFill>
        <p:spPr>
          <a:xfrm>
            <a:off x="2971800" y="4800600"/>
            <a:ext cx="1355760" cy="101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插圖"/>
          <p:cNvPicPr/>
          <p:nvPr/>
        </p:nvPicPr>
        <p:blipFill>
          <a:blip r:embed="rId2"/>
          <a:stretch/>
        </p:blipFill>
        <p:spPr>
          <a:xfrm>
            <a:off x="4419720" y="1981080"/>
            <a:ext cx="2547720" cy="1567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1752480"/>
            <a:ext cx="3200400" cy="327672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3276720"/>
              <a:gd name="textAreaBottom" fmla="*/ 3120480 h 3276720"/>
            </a:gdLst>
            <a:ahLst/>
            <a:rect l="textAreaLeft" t="textAreaTop" r="textAreaRight" b="textAreaBottom"/>
            <a:pathLst>
              <a:path w="21600" h="22115">
                <a:moveTo>
                  <a:pt x="3600" y="0"/>
                </a:moveTo>
                <a:arcTo wR="3600" hR="3600" stAng="16200000" swAng="-5400000"/>
                <a:lnTo>
                  <a:pt x="0" y="18515"/>
                </a:lnTo>
                <a:arcTo wR="3600" hR="3600" stAng="10800000" swAng="-5400000"/>
                <a:lnTo>
                  <a:pt x="18000" y="22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3581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Times New Roman"/>
                <a:ea typeface="標楷體"/>
              </a:rPr>
              <a:t>污穢紙張與衛生紙除外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5401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紙張壓平疊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紙箱需拆開壓平。紙杯、紙餐盒則洗淨疊整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203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5" name="doraemon1" descr=""/>
          <p:cNvPicPr/>
          <p:nvPr/>
        </p:nvPicPr>
        <p:blipFill>
          <a:blip r:embed="rId4"/>
          <a:stretch/>
        </p:blipFill>
        <p:spPr>
          <a:xfrm>
            <a:off x="15238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29876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玻璃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插圖"/>
          <p:cNvPicPr/>
          <p:nvPr/>
        </p:nvPicPr>
        <p:blipFill>
          <a:blip r:embed="rId1"/>
          <a:stretch/>
        </p:blipFill>
        <p:spPr>
          <a:xfrm>
            <a:off x="838080" y="27432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插圖"/>
          <p:cNvPicPr/>
          <p:nvPr/>
        </p:nvPicPr>
        <p:blipFill>
          <a:blip r:embed="rId2"/>
          <a:stretch/>
        </p:blipFill>
        <p:spPr>
          <a:xfrm>
            <a:off x="1600200" y="41148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插圖"/>
          <p:cNvPicPr/>
          <p:nvPr/>
        </p:nvPicPr>
        <p:blipFill>
          <a:blip r:embed="rId3"/>
          <a:stretch/>
        </p:blipFill>
        <p:spPr>
          <a:xfrm>
            <a:off x="4038480" y="3505320"/>
            <a:ext cx="1371600" cy="1766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插圖"/>
          <p:cNvPicPr/>
          <p:nvPr/>
        </p:nvPicPr>
        <p:blipFill>
          <a:blip r:embed="rId4"/>
          <a:stretch/>
        </p:blipFill>
        <p:spPr>
          <a:xfrm>
            <a:off x="2743200" y="1905120"/>
            <a:ext cx="2251080" cy="561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插圖"/>
          <p:cNvPicPr/>
          <p:nvPr/>
        </p:nvPicPr>
        <p:blipFill>
          <a:blip r:embed="rId5"/>
          <a:stretch/>
        </p:blipFill>
        <p:spPr>
          <a:xfrm>
            <a:off x="5791320" y="1905120"/>
            <a:ext cx="1979640" cy="1555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666880" y="2837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倒出內容物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12280" y="57142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去瓶蓋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30640" y="5104800"/>
            <a:ext cx="13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沖洗並晾乾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4343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避免混入陶瓷等任何非玻璃容器的物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664000">
            <a:off x="528120" y="5057280"/>
            <a:ext cx="1656000" cy="533520"/>
          </a:xfrm>
          <a:custGeom>
            <a:avLst/>
            <a:gdLst>
              <a:gd name="textAreaLeft" fmla="*/ 289800 w 1656000"/>
              <a:gd name="textAreaRight" fmla="*/ 1200600 w 1656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 flipH="1" rot="8248200">
            <a:off x="2895480" y="4114080"/>
            <a:ext cx="1368720" cy="576360"/>
          </a:xfrm>
          <a:custGeom>
            <a:avLst/>
            <a:gdLst>
              <a:gd name="textAreaLeft" fmla="*/ 239400 w 1368720"/>
              <a:gd name="textAreaRight" fmla="*/ 992520 w 13687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664000">
            <a:off x="5028840" y="4495680"/>
            <a:ext cx="1655640" cy="53352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429000" y="5867280"/>
            <a:ext cx="4419360" cy="830520"/>
            <a:chOff x="3429000" y="5867280"/>
            <a:chExt cx="4419360" cy="830520"/>
          </a:xfrm>
        </p:grpSpPr>
        <p:sp>
          <p:nvSpPr>
            <p:cNvPr id="221" name=""/>
            <p:cNvSpPr/>
            <p:nvPr/>
          </p:nvSpPr>
          <p:spPr>
            <a:xfrm>
              <a:off x="4481280" y="5867280"/>
              <a:ext cx="3367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3429000" y="5943600"/>
              <a:ext cx="105228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doraemon1" descr=""/>
          <p:cNvPicPr/>
          <p:nvPr/>
        </p:nvPicPr>
        <p:blipFill>
          <a:blip r:embed="rId7"/>
          <a:stretch/>
        </p:blipFill>
        <p:spPr>
          <a:xfrm>
            <a:off x="152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29876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日光燈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插圖"/>
          <p:cNvPicPr/>
          <p:nvPr/>
        </p:nvPicPr>
        <p:blipFill>
          <a:blip r:embed="rId1"/>
          <a:stretch/>
        </p:blipFill>
        <p:spPr>
          <a:xfrm>
            <a:off x="3276720" y="3581280"/>
            <a:ext cx="2133360" cy="19814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819520"/>
            <a:ext cx="64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千萬別打破！直接送至回收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229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doraemon1" descr=""/>
          <p:cNvPicPr/>
          <p:nvPr/>
        </p:nvPicPr>
        <p:blipFill>
          <a:blip r:embed="rId3"/>
          <a:stretch/>
        </p:blipFill>
        <p:spPr>
          <a:xfrm>
            <a:off x="762120" y="548640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5400" spc="-1" strike="noStrike">
                <a:solidFill>
                  <a:srgbClr val="761e1e"/>
                </a:solidFill>
                <a:latin typeface="Arial Black"/>
                <a:ea typeface="標楷體"/>
              </a:rPr>
              <a:t>大家應該知道的！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噸的廢紙可拯救二十株原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回收廢紙可減少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14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～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22.6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％的垃圾量，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75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％的製紙能源及一半的製紙用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支玻璃瓶節省的能量，可點亮一個一○○燭光燈泡四個小時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一個被棄置的保特瓶、鐵鋁罐或塑膠袋，五百年後依然存在地表，甚至千年不化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個鋁罐可節省三小時電視的電力，又可減少污染。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429000" y="5867280"/>
            <a:ext cx="4190760" cy="830520"/>
            <a:chOff x="3429000" y="5867280"/>
            <a:chExt cx="4190760" cy="830520"/>
          </a:xfrm>
        </p:grpSpPr>
        <p:sp>
          <p:nvSpPr>
            <p:cNvPr id="235" name=""/>
            <p:cNvSpPr/>
            <p:nvPr/>
          </p:nvSpPr>
          <p:spPr>
            <a:xfrm>
              <a:off x="4426920" y="5867280"/>
              <a:ext cx="31928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97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doraemon1" descr=""/>
          <p:cNvPicPr/>
          <p:nvPr/>
        </p:nvPicPr>
        <p:blipFill>
          <a:blip r:embed="rId2"/>
          <a:stretch/>
        </p:blipFill>
        <p:spPr>
          <a:xfrm>
            <a:off x="1676520" y="556272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5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重要的環保觀念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3434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認識回收標誌──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1981080" cy="1752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00400" y="18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　    </a:t>
            </a:r>
            <a:r>
              <a:rPr b="0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這是代表資源循環再利用、萬物生生不息的精神，就好比是人體血液循環般，當心臟跳動將血液分送到身體各器官使用過後，又會循著靜脈再逆流回心臟產生新的血液供人體使用。另外，回收標誌式樣跟中文字之『回』字有異曲同工之妙。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243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doraemon1" descr=""/>
          <p:cNvPicPr/>
          <p:nvPr/>
        </p:nvPicPr>
        <p:blipFill>
          <a:blip r:embed="rId3"/>
          <a:stretch/>
        </p:blipFill>
        <p:spPr>
          <a:xfrm>
            <a:off x="2438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重要的環保觀念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057400"/>
            <a:ext cx="777240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少用免洗餐具，減少垃圾產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購物自備購物袋，少用幾個塑膠袋，可減少垃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隨手關掉水龍頭，勿讓自來水任意流失，需用時再開啟。省水即是省電、省資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出門少開車，多坐公共交通工具，或鼓勵共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不要把新聞紙、玻璃瓶或碎片視為垃圾，收集起來回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以身作則做環保，隨時隨地做環保：如節省紙張、隨手關燈、自帶茶杯等等。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876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垃圾減量再利用──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250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doraemon1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8985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什麼是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源回收，就是將人們使用的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妥善收回、加工改造，並加以重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利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源回收，就是把你家的紙張、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子、罐子、保特瓶和其他東西收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起來，拿去循環再製造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94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doraemon1" descr=""/>
          <p:cNvPicPr/>
          <p:nvPr/>
        </p:nvPicPr>
        <p:blipFill>
          <a:blip r:embed="rId2"/>
          <a:stretch/>
        </p:blipFill>
        <p:spPr>
          <a:xfrm>
            <a:off x="8380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153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為什麼要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34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地球只有一個，資源有限，大家做資源回收可以讓地球活的更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可以讓地球資源重覆利用，不浪費自然資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使人與大自然和諧相處，生活品質提升，生態永續發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00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doraemon1" descr=""/>
          <p:cNvPicPr/>
          <p:nvPr/>
        </p:nvPicPr>
        <p:blipFill>
          <a:blip r:embed="rId2"/>
          <a:stretch/>
        </p:blipFill>
        <p:spPr>
          <a:xfrm>
            <a:off x="160020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4560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0000"/>
                </a:solidFill>
                <a:latin typeface="Arial"/>
                <a:ea typeface="標楷體"/>
              </a:rPr>
              <a:t>垃圾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63000">
            <a:off x="3492000" y="2429280"/>
            <a:ext cx="4257720" cy="23799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ff0000"/>
                </a:solidFill>
                <a:latin typeface="Tahoma"/>
                <a:ea typeface="標楷體"/>
              </a:rPr>
              <a:t>分類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29000" y="5867280"/>
            <a:ext cx="4038120" cy="830520"/>
            <a:chOff x="3429000" y="5867280"/>
            <a:chExt cx="4038120" cy="830520"/>
          </a:xfrm>
        </p:grpSpPr>
        <p:sp>
          <p:nvSpPr>
            <p:cNvPr id="107" name=""/>
            <p:cNvSpPr/>
            <p:nvPr/>
          </p:nvSpPr>
          <p:spPr>
            <a:xfrm>
              <a:off x="4390560" y="5867280"/>
              <a:ext cx="30765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61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doraemon1" descr=""/>
          <p:cNvPicPr/>
          <p:nvPr/>
        </p:nvPicPr>
        <p:blipFill>
          <a:blip r:embed="rId2"/>
          <a:stretch/>
        </p:blipFill>
        <p:spPr>
          <a:xfrm>
            <a:off x="24382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9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6000"/>
          </a:bodyPr>
          <a:p>
            <a:pPr marL="260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資源回收分類項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905120"/>
            <a:ext cx="936720" cy="3504960"/>
          </a:xfrm>
          <a:custGeom>
            <a:avLst/>
            <a:gdLst>
              <a:gd name="textAreaLeft" fmla="*/ 598680 w 936720"/>
              <a:gd name="textAreaRight" fmla="*/ 937080 w 9367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81080" y="1905120"/>
            <a:ext cx="6781680" cy="3567960"/>
            <a:chOff x="1981080" y="1905120"/>
            <a:chExt cx="6781680" cy="3567960"/>
          </a:xfrm>
        </p:grpSpPr>
        <p:sp>
          <p:nvSpPr>
            <p:cNvPr id="114" name=""/>
            <p:cNvSpPr/>
            <p:nvPr/>
          </p:nvSpPr>
          <p:spPr>
            <a:xfrm>
              <a:off x="4419360" y="25905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紙　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32763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保特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39621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塑膠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9360" y="3276360"/>
              <a:ext cx="396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玻璃瓶、燈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0760" y="2136600"/>
              <a:ext cx="0" cy="3273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9360" y="3962160"/>
              <a:ext cx="434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廢電池、光碟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190512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鐵   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7040" y="4647960"/>
              <a:ext cx="201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塑膠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9360" y="190512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箔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25905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   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125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doraemon1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898560" cy="10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716292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注意：鐵罐、鋁罐</a:t>
            </a:r>
            <a:r>
              <a:rPr b="0" lang="zh-TW" sz="4000" spc="-1" strike="noStrike">
                <a:solidFill>
                  <a:srgbClr val="ff0000"/>
                </a:solidFill>
                <a:latin typeface="Tahoma"/>
                <a:ea typeface="標楷體"/>
              </a:rPr>
              <a:t>要分開回收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3840" y="2496600"/>
            <a:ext cx="72900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集中回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97440" y="2184840"/>
            <a:ext cx="3929400" cy="3485160"/>
            <a:chOff x="1297440" y="2184840"/>
            <a:chExt cx="3929400" cy="3485160"/>
          </a:xfrm>
        </p:grpSpPr>
        <p:sp>
          <p:nvSpPr>
            <p:cNvPr id="131" name=""/>
            <p:cNvSpPr/>
            <p:nvPr/>
          </p:nvSpPr>
          <p:spPr>
            <a:xfrm>
              <a:off x="1297440" y="2567880"/>
              <a:ext cx="72900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略為沖洗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1800" y="273420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陰乾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7840" y="2184840"/>
              <a:ext cx="729000" cy="34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罐：壓扁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87640" y="3687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43280" y="3687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172200" y="37339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39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5183640" y="205452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鐵罐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不須壓扁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oraemon1" descr=""/>
          <p:cNvPicPr/>
          <p:nvPr/>
        </p:nvPicPr>
        <p:blipFill>
          <a:blip r:embed="rId2"/>
          <a:stretch/>
        </p:blipFill>
        <p:spPr>
          <a:xfrm>
            <a:off x="91440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68580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保特瓶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底部有凹槽的瓶罐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插圖"/>
          <p:cNvPicPr/>
          <p:nvPr/>
        </p:nvPicPr>
        <p:blipFill>
          <a:blip r:embed="rId1"/>
          <a:stretch/>
        </p:blipFill>
        <p:spPr>
          <a:xfrm>
            <a:off x="762120" y="3809880"/>
            <a:ext cx="144756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插圖"/>
          <p:cNvPicPr/>
          <p:nvPr/>
        </p:nvPicPr>
        <p:blipFill>
          <a:blip r:embed="rId2"/>
          <a:stretch/>
        </p:blipFill>
        <p:spPr>
          <a:xfrm>
            <a:off x="3809880" y="396252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插圖"/>
          <p:cNvPicPr/>
          <p:nvPr/>
        </p:nvPicPr>
        <p:blipFill>
          <a:blip r:embed="rId3"/>
          <a:stretch/>
        </p:blipFill>
        <p:spPr>
          <a:xfrm>
            <a:off x="5867280" y="3657600"/>
            <a:ext cx="1663920" cy="1731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89840" y="533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沖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0760" y="533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壓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5440" y="5333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分類回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411800">
            <a:off x="2230200" y="4655880"/>
            <a:ext cx="1814400" cy="533160"/>
          </a:xfrm>
          <a:custGeom>
            <a:avLst/>
            <a:gdLst>
              <a:gd name="textAreaLeft" fmla="*/ 317520 w 1814400"/>
              <a:gd name="textAreaRight" fmla="*/ 1315440 w 18144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20166000">
            <a:off x="5181120" y="3124080"/>
            <a:ext cx="1327320" cy="709560"/>
          </a:xfrm>
          <a:custGeom>
            <a:avLst/>
            <a:gdLst>
              <a:gd name="textAreaLeft" fmla="*/ 232200 w 1327320"/>
              <a:gd name="textAreaRight" fmla="*/ 962280 w 1327320"/>
              <a:gd name="textAreaTop" fmla="*/ 95040 h 709560"/>
              <a:gd name="textAreaBottom" fmla="*/ 61452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瓶蓋旋開丟棄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55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doraemon1" descr=""/>
          <p:cNvPicPr/>
          <p:nvPr/>
        </p:nvPicPr>
        <p:blipFill>
          <a:blip r:embed="rId5"/>
          <a:stretch/>
        </p:blipFill>
        <p:spPr>
          <a:xfrm>
            <a:off x="1600200" y="57420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61760" y="1988640"/>
            <a:ext cx="5715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塑膠容器類─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插圖"/>
          <p:cNvPicPr/>
          <p:nvPr/>
        </p:nvPicPr>
        <p:blipFill>
          <a:blip r:embed="rId1"/>
          <a:stretch/>
        </p:blipFill>
        <p:spPr>
          <a:xfrm>
            <a:off x="3733920" y="2895480"/>
            <a:ext cx="1752480" cy="18288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4799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壓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163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doraemon1" descr=""/>
          <p:cNvPicPr/>
          <p:nvPr/>
        </p:nvPicPr>
        <p:blipFill>
          <a:blip r:embed="rId3"/>
          <a:stretch/>
        </p:blipFill>
        <p:spPr>
          <a:xfrm>
            <a:off x="2438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Arial"/>
                <a:ea typeface="標楷體"/>
              </a:rPr>
              <a:t>塑膠瓶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底部平整，如優酪乳瓶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養樂多、豆花盒、布丁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等，皆屬此類。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429000" y="5867280"/>
            <a:ext cx="4038120" cy="830520"/>
            <a:chOff x="3429000" y="5867280"/>
            <a:chExt cx="4038120" cy="830520"/>
          </a:xfrm>
        </p:grpSpPr>
        <p:sp>
          <p:nvSpPr>
            <p:cNvPr id="169" name=""/>
            <p:cNvSpPr/>
            <p:nvPr/>
          </p:nvSpPr>
          <p:spPr>
            <a:xfrm>
              <a:off x="4390560" y="5867280"/>
              <a:ext cx="30765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6156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1526040" y="357696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喝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3600" y="290664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取出湯匙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8560" y="365328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洗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5720" y="433224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丟至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doraemon1" descr=""/>
          <p:cNvPicPr/>
          <p:nvPr/>
        </p:nvPicPr>
        <p:blipFill>
          <a:blip r:embed="rId2"/>
          <a:stretch/>
        </p:blipFill>
        <p:spPr>
          <a:xfrm>
            <a:off x="1522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3:03:51Z</dcterms:created>
  <dc:creator>Utux</dc:creator>
  <dc:description/>
  <dc:language>en-US</dc:language>
  <cp:lastModifiedBy>stanley</cp:lastModifiedBy>
  <dcterms:modified xsi:type="dcterms:W3CDTF">2005-09-21T15:59:00Z</dcterms:modified>
  <cp:revision>68</cp:revision>
  <dc:subject/>
  <dc:title>德武國小 資源回收課程</dc:title>
</cp:coreProperties>
</file>