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1.jpeg" ContentType="image/jpeg"/>
  <Override PartName="/ppt/media/image45.jpeg" ContentType="image/jpeg"/>
  <Override PartName="/ppt/media/image42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8078-F71D-43E2-AAD0-987D35205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C5B1-9627-4A01-A342-DB33EA0D4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EE1A-2CDA-4E74-929D-BD940B3AE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F689-99FD-43B5-B37E-8EB58AFA5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10B6-B9AB-4116-AF9C-7BCDE90C3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E2BB-A863-4AC8-9301-C11548B78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F5B0-F3F1-4DD6-9749-7776BC220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700D-665C-4F95-B1BA-AD1B96072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42FC-85B2-4B14-8E1F-7DAFCE9F3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8EDD-0481-482D-A374-F473BA07A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E221-03AE-4721-8630-8E6470DFB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2DBB-AD6C-46D7-852E-55D70CF2B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E901-E300-44A3-9C3C-3D3147D31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1562-27DA-4244-B409-2DE34381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4334-33B0-4B19-98E1-743163B8B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99B-83C5-43B4-8194-A65A6C1B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AA5-26D3-4BC2-A199-BC12F659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0CD-3145-4B12-8E1D-E37E9D43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366-55B7-495A-8F17-34357752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D83E-7CCD-4367-B7AA-E54B60E5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C0B3-385B-4ED4-AED7-D3D4CB15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1C6B-52BC-441D-A2A3-C9E5E1B6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6F94-19A1-4D25-846C-FF73E9C0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EEE5-29B9-407B-8A75-E91BA50A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A0F5-AB03-461C-B453-759C109F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EB4E-0206-43D8-80FC-2C1E5882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9D8-D4E2-40ED-8746-756D2BB1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EB8E-31E7-4DD6-8C61-B2FF4F56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336C-DF7A-4E70-BB72-821E032A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514A-81D1-4B3E-AD47-76C3CE1F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7076-6F4C-4BC8-B072-E3EDED07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2043-95C6-40DC-9A63-B89C5A2C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647-4418-4AB8-A78B-1B0C923A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D5F-C9C7-4F0E-9693-3FF8DB25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DD7-018B-4373-93B5-C3F71B7E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AB7-2595-4DD7-8A03-EB40BD0F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12B-28E1-439F-98B8-EE1D00B9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06F-CC92-4663-B340-605D495D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305-5B63-41FC-B937-ED76391A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1A9C-1D1E-4E44-9B98-D7F3B2E95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2210-1A1D-47A1-835E-224E59DB2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hyperlink" Target="http://tw.wrs.yahoo.com/_ylt=A3eg8_jWd71MRl8AIBxt1gt.;_ylu=X3oDMTBrZ20xOHVwBHBvcwMxMDQEc2VjA3NyBHZ0aWQD/SIG=1nh2c9vhn/EXP=1287571798/**http%3A//tw.image.search.yahoo.com/images/view%3Fback=http%253A%252F%252Ftw.image.search.yahoo.com%252Fsearch%252Fimages%253Fp%253D%2525E4%2525B8%252580%2525E4%2525BB%2525BD%2525E6%2525B0%2525B4%2525E6%25259E%25259C%2526js%253D1%2526b%253D101%2526ni%253D20%2526ei%253Dutf-8%2526pstart%253D1%2526fr%253Dyfp%26w=600%26h=450%26imgurl=c-photo.i-part.com.tw%252Fn1v1%252F3%252F9%252F1%252F3%252F353193%252Fphoto%252Fbook23%252F124260874212.jpeg%26rurl=http%253A%252F%252Fblog.yam.com%252Fpshge%252Farticle%252F21138486%26size=194k%26name=124260874212%2Bjpe...%26p=%25E4%25B8%2580%25E4%25BB%25BD%25E6%25B0%25B4%25E6%259E%259C%26oid=080050a99b19f734%26fr2=%26no=104%26tt=8541%26b=101%26ni=20%26sigr=11a3ojvl7%26sigi=128d73pdj%26sigb=13ve4fmmm&amp;type=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tw.wrs.yahoo.com/_ylt=A3eg8qkNw59JJYEAXglt1gt./SIG=1g32g8j5d/EXP=1235293325/**http:/tw.info.search.yahoo.com/search/images/view?back=http://tw.info.search.yahoo.com/search/images?p=&#26611;&#19969;&amp;ei=UTF-8&amp;fr=yfp&amp;x=wrt&amp;w=1600&amp;h=1200&amp;imgurl=photo.fhl.net/img/virgit/4.jpg&amp;rurl=http://photo.fhl.net/gb/virgit/virgit4.html&amp;size=363.3kB&amp;name=4.jpg&amp;p=&#26611;&#19969;&amp;type=jpeg&amp;no=6&amp;tt=40,783&amp;oid=b9871f58f1c93998&amp;ei=UTF-8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www.365shu.com/photography/2080/html/wallpaper94.html" TargetMode="External"/><Relationship Id="rId5" Type="http://schemas.openxmlformats.org/officeDocument/2006/relationships/image" Target="../media/image32.jpeg"/><Relationship Id="rId6" Type="http://schemas.openxmlformats.org/officeDocument/2006/relationships/hyperlink" Target="http://www.365shu.com/photography/2080/html/wallpaper91.html" TargetMode="External"/><Relationship Id="rId7" Type="http://schemas.openxmlformats.org/officeDocument/2006/relationships/image" Target="../media/image33.jpeg"/><Relationship Id="rId8" Type="http://schemas.openxmlformats.org/officeDocument/2006/relationships/hyperlink" Target="http://tw.wrs.yahoo.com/_ylt=A3eg8_mCc71Ml8QAYZ5t1gt.;_ylu=X3oDMTBqM3IzZ25kBHBvcwMzMgRzZWMDc3IEdnRpZAM-/SIG=1rg3ouh2r/EXP=1287570690/**http%3A//tw.image.search.yahoo.com/images/view%3Fback=http%253A%252F%252Ftw.image.search.yahoo.com%252Fsearch%252Fimages%253Fp%253D%2525E7%2525B4%252585%2525E8%252598%2525BF%2525E8%252594%252594%2526b%253D21%2526ni%253D20%2526ei%253DUTF-8%2526pstart%253D1%2526fr%253Dyfp%26w=401%26h=299%26imgurl=fj.sinaimg.cn%252F2009%252F1224%252F20091224104426.jpg%26rurl=http%253A%252F%252Ffj.sina.com.cn%252Fhealth%252Fh%252Fm%252F2009-12-24%252F10481580.html%26size=24k%26name=%25E8%2583%25A1%25E8%2590%259D%25E5%258D%259C%25E6%2598%25AF%25E5%25B9%25B3%25E6%25B0%2591%25E4%25BA%25BA%25E5%258F%2582%2B%25E7%2582%25B8%25E6%25B1%2581%25E7%25A9%25BA%25E8%2585%25B9%25E5%2596%259D%25E8%2590%25A5%25E5%2585%25BB...%26p=%25E7%25B4%2585%25E8%2598%25BF%25E8%2594%2594%26oid=9c157fb57490ac24%26fr2=%26no=32%26tt=93881%26b=21%26ni=20%26sigr=11p6vi2ss%26sigi=11a4ilo3v%26sigb=13gon78po&amp;type=JPG" TargetMode="External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w.wrs.yahoo.com/_ylt=A3eg8_jOTr1MF0UAP25t1gt.;_ylu=X3oDMTBqZjdtb25uBHBvcwMyNgRzZWMDc3IEdnRpZAM-/SIG=1neq0udlv/EXP=1287561294/**http%3A//tw.image.search.yahoo.com/images/view%3Fback=http%253A%252F%252Ftw.image.search.yahoo.com%252Fsearch%252Fimages%253Fp%253D%2525E7%2525B4%2525AB%2525E8%252589%2525B2%2525E8%252594%2525AC%2525E8%25258F%25259C%2526js%253D1%2526b%253D21%2526ni%253D20%2526ei%253Dutf-8%2526pstart%253D1%2526fr%253Dsfp%26w=400%26h=329%26imgurl=www.china12315.com.cn%252FUpFiles%252FnewsPic%252F2009041410384247021.jpg%26rurl=http%253A%252F%252Fwww.china12315.com.cn%252Fhtml%252Fxfz%252F2009%252F0414%252Fn_20090414808550162.shtml%26size=46k%26name=2009041410384247...%26p=%25E7%25B4%25AB%25E8%2589%25B2%25E8%2594%25AC%25E8%258F%259C%26oid=e3eba4606980664c%26fr2=%26no=26%26tt=575%26b=21%26ni=20%26sigr=1298b8bsr%26sigi=11t4nuhec%26sigb=13u9kevtb&amp;type=JPG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tw.wrs.yahoo.com/_ylt=A3eg8_cQTr1M9NEANUZt1gt.;_ylu=X3oDMTBpY2Y5NXNiBHBvcwM2BHNlYwNzcgR2dGlkAw--/SIG=1lpr19oht/EXP=1287561104/**http%3A//tw.image.search.yahoo.com/images/view%3Fback=http%253A%252F%252Ftw.image.search.yahoo.com%252Fsearch%252Fimages%253Fp%253D%2525E7%2525B4%2525AB%2525E8%252589%2525B2%2525E8%252594%2525AC%2525E8%25258F%25259C%2526js%253D1%2526b%253D1%2526ni%253D20%2526ei%253Dutf-8%2526pstart%253D1%2526fr%253Dsfp%26w=420%26h=308%26imgurl=image.39.net%252F085%252F14%252F166596_s_3115.jpg%26rurl=http%253A%252F%252Fwoman.39.net%252Fnxyy%252F085%252F16%252F428524_1.html%26size=16k%26name=166596%2Bs%2B3115%2Bjp...%26p=%25E7%25B4%25AB%25E8%2589%25B2%25E8%2594%25AC%25E8%258F%259C%26oid=31a8dac0c2fc855e%26fr2=%26no=6%26tt=577%26b=1%26ni=20%26sigr=11deo0jpb%26sigi=115mh2efg%26sigb=13t3mptln&amp;type=JPG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://tw.wrs.yahoo.com/_ylt=A3eg8qg1v59JQG0BEaVt1gt./SIG=1hhaifokv/EXP=1235292341/**http:/tw.info.search.yahoo.com/search/images/view?back=http://tw.info.search.yahoo.com/search/images?p=&#21152;&#24030;&#26446;&amp;ei=UTF-8&amp;fr=yfp&amp;b=1&amp;w=180&amp;h=127&amp;imgurl=www.homestay.com.tw/images/r-ad/P5161013.jpg&amp;rurl=http://www.homestay.com.tw/R-AD/specially.htm&amp;size=15.6kB&amp;name=P5161013.jpg&amp;p=&#21152;&#24030;&#26446;&amp;type=jpeg&amp;no=4&amp;tt=79&amp;oid=629fc744a0e760d0&amp;ei=UTF-8" TargetMode="External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tw.wrs.yahoo.com/_ylt=A3eg8_lpS71MwbYAz9Bt1gt.;_ylu=X3oDMTBqY2pzbGhoBHBvcwMxMQRzZWMDc3IEdnRpZAM-/SIG=1lmllbq1e/EXP=1287560425/**http%3A//tw.image.search.yahoo.com/images/view%3Fback=http%253A%252F%252Ftw.image.search.yahoo.com%252Fsearch%252Fimages%253Fp%253D%2525E7%252599%2525BD%2525E8%252598%2525BF%2525E8%252594%252594%2526b%253D1%2526ni%253D20%2526ei%253Dutf-8%2526pstart%253D1%2526fr%253Dsfp%26w=350%26h=280%26imgurl=sh.sinaimg.cn%252F2009%252F0611%252F2009611162852.jpg%26rurl=http%253A%252F%252Fwww.labour-daily.cn%252FWeb%252FNewsDetail.aspx%253FIssuanceID%253D147118%26size=33k%26name=%25E7%2599%25BD%25E8%2590%259D%25E5%258D%259C%26p=%25E7%2599%25BD%25E8%2598%25BF%25E8%2594%2594%26oid=f69892804f3facca%26fr2=%26no=11%26tt=39846%26b=1%26ni=20%26sigr=120p7hbd4%26sigi=119apdiu7%26sigb=13ffo0l2o&amp;type=JPG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tw.wrs.yahoo.com/_ylt=A3eg8qtyvZ9JzCYAcX1t1gt./SIG=1neivf6mu/EXP=1235291890/**http:/tw.info.search.yahoo.com/search/images/view?back=http://tw.info.search.yahoo.com/search/images?p=&#26792;&#23376;&amp;ei=UTF-8&amp;pstart=1&amp;fr=yfp&amp;b=1&amp;w=500&amp;h=375&amp;imgurl=static.flickr.com/92/258396840_0e08de22cd.jpg&amp;rurl=http://www.flickr.com/photos/nicole_lee/258396840/&amp;size=57.4kB&amp;name=093045&#22312;CHINATOWN&#35041;&#30340;&#33775;&#20154;&#36229;&#24066;...&amp;p=&#26792;&#23376;&amp;type=jpeg&amp;no=1&amp;tt=20,270&amp;oid=0e5c4c2cfdc0d75a&amp;ei=UTF-8&amp;fusr=Nicole_Daily&amp;hurl=http:/www.flickr.com/photos/nicole_lee/&amp;src=flickr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tw.wrs.yahoo.com/_ylt=A3eg8qb1vZ9JdnEARzVt1gt./SIG=1iul0odej/EXP=1235292021/**http:/tw.info.search.yahoo.com/search/images/view?back=http://tw.info.search.yahoo.com/search/images?p=&#40657;&#26408;&#32819;&amp;ei=UTF-8&amp;pstart=1&amp;fr=yfp&amp;b=341&amp;w=450&amp;h=481&amp;imgurl=www.pclady.com.cn/health/ysjk/0609/pic/182.jpg&amp;rurl=http://www.pclady.com.cn/health/ysjk/0609/114343.html&amp;size=44.4kB&amp;name=182.jpg&amp;p=&#40657;&#26408;&#32819;&amp;type=jpeg&amp;no=341&amp;tt=3,282&amp;oid=8c7f7e90b2235222&amp;ei=UTF-8" TargetMode="External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6160" y="907920"/>
            <a:ext cx="836784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99"/>
                </a:solidFill>
                <a:latin typeface="Arial Black"/>
              </a:rPr>
              <a:t>環保蔬食好健康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58920" y="2204640"/>
            <a:ext cx="626112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興國國小營養師梁春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"/>
          <p:cNvPicPr/>
          <p:nvPr/>
        </p:nvPicPr>
        <p:blipFill>
          <a:blip r:embed="rId1"/>
          <a:stretch/>
        </p:blipFill>
        <p:spPr>
          <a:xfrm>
            <a:off x="4859280" y="2997360"/>
            <a:ext cx="3527640" cy="31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1261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蔬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生青菜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公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煮熟青菜半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圖片1"/>
          <p:cNvPicPr/>
          <p:nvPr/>
        </p:nvPicPr>
        <p:blipFill>
          <a:blip r:embed="rId1"/>
          <a:stretch/>
        </p:blipFill>
        <p:spPr>
          <a:xfrm>
            <a:off x="1547640" y="3789360"/>
            <a:ext cx="317052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圖片2"/>
          <p:cNvPicPr/>
          <p:nvPr/>
        </p:nvPicPr>
        <p:blipFill>
          <a:blip r:embed="rId2"/>
          <a:stretch/>
        </p:blipFill>
        <p:spPr>
          <a:xfrm>
            <a:off x="5148360" y="3789360"/>
            <a:ext cx="33098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水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拳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棒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壘球大小水果半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躲避球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DSC01732"/>
          <p:cNvPicPr/>
          <p:nvPr/>
        </p:nvPicPr>
        <p:blipFill>
          <a:blip r:embed="rId1"/>
          <a:stretch/>
        </p:blipFill>
        <p:spPr>
          <a:xfrm>
            <a:off x="971640" y="4941720"/>
            <a:ext cx="1917720" cy="143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3419640" y="4365720"/>
            <a:ext cx="2232000" cy="2081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8028000" y="6308640"/>
            <a:ext cx="806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2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4292640"/>
            <a:ext cx="22305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彩虹蔬果健康多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各色蔬果所含之纖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礦物質及植物性化學成分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圖片3"/>
          <p:cNvPicPr/>
          <p:nvPr/>
        </p:nvPicPr>
        <p:blipFill>
          <a:blip r:embed="rId1"/>
          <a:stretch/>
        </p:blipFill>
        <p:spPr>
          <a:xfrm>
            <a:off x="4859280" y="2997360"/>
            <a:ext cx="3600360" cy="338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圖片18"/>
          <p:cNvPicPr/>
          <p:nvPr/>
        </p:nvPicPr>
        <p:blipFill>
          <a:blip r:embed="rId2"/>
          <a:stretch/>
        </p:blipFill>
        <p:spPr>
          <a:xfrm>
            <a:off x="826920" y="4869000"/>
            <a:ext cx="1579680" cy="1191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圖片21"/>
          <p:cNvPicPr/>
          <p:nvPr/>
        </p:nvPicPr>
        <p:blipFill>
          <a:blip r:embed="rId3"/>
          <a:stretch/>
        </p:blipFill>
        <p:spPr>
          <a:xfrm>
            <a:off x="2050920" y="3933720"/>
            <a:ext cx="1590840" cy="1006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圖片25"/>
          <p:cNvPicPr/>
          <p:nvPr/>
        </p:nvPicPr>
        <p:blipFill>
          <a:blip r:embed="rId4"/>
          <a:stretch/>
        </p:blipFill>
        <p:spPr>
          <a:xfrm>
            <a:off x="2268360" y="4941720"/>
            <a:ext cx="2165400" cy="11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綠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纖維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促進視覺健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強健骨骼牙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每日至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份深綠色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DSC01732"/>
          <p:cNvPicPr/>
          <p:nvPr/>
        </p:nvPicPr>
        <p:blipFill>
          <a:blip r:embed="rId1"/>
          <a:stretch/>
        </p:blipFill>
        <p:spPr>
          <a:xfrm>
            <a:off x="90000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圖片18"/>
          <p:cNvPicPr/>
          <p:nvPr/>
        </p:nvPicPr>
        <p:blipFill>
          <a:blip r:embed="rId2"/>
          <a:stretch/>
        </p:blipFill>
        <p:spPr>
          <a:xfrm>
            <a:off x="2843280" y="5013360"/>
            <a:ext cx="1579320" cy="119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圖片20"/>
          <p:cNvPicPr/>
          <p:nvPr/>
        </p:nvPicPr>
        <p:blipFill>
          <a:blip r:embed="rId3"/>
          <a:stretch/>
        </p:blipFill>
        <p:spPr>
          <a:xfrm>
            <a:off x="4427640" y="5013360"/>
            <a:ext cx="1508040" cy="1141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圖片22"/>
          <p:cNvPicPr/>
          <p:nvPr/>
        </p:nvPicPr>
        <p:blipFill>
          <a:blip r:embed="rId4"/>
          <a:stretch/>
        </p:blipFill>
        <p:spPr>
          <a:xfrm>
            <a:off x="6084720" y="5013360"/>
            <a:ext cx="146700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黃色及橘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38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含豐富抗氧化物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類葫蘿蔔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促進健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DSC01737"/>
          <p:cNvPicPr/>
          <p:nvPr/>
        </p:nvPicPr>
        <p:blipFill>
          <a:blip r:embed="rId1"/>
          <a:stretch/>
        </p:blipFill>
        <p:spPr>
          <a:xfrm>
            <a:off x="1116000" y="5013360"/>
            <a:ext cx="170172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進入標準尺寸的圖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869000"/>
            <a:ext cx="2519280" cy="1563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新鮮蔬菜水果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4581360"/>
            <a:ext cx="2448000" cy="179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新鮮蔬菜水果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2852640"/>
            <a:ext cx="2125800" cy="1311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6" descr="進入標準尺寸的圖片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6000" y="907920"/>
            <a:ext cx="2590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藍色及紫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含許多增進健康之植物性化學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抗老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助增強記憶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5" descr="進入標準尺寸的圖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501336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3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5084640"/>
            <a:ext cx="1728720" cy="1028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進入標準尺寸的圖片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00360" y="4941720"/>
            <a:ext cx="17794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白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含不同量之植物性化學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減少心血管疾病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4" descr="進入標準尺寸的圖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4653000"/>
            <a:ext cx="2303640" cy="1511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4724280"/>
            <a:ext cx="2158920" cy="1371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進入標準尺寸的圖片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4365720"/>
            <a:ext cx="1650960" cy="1692360"/>
          </a:xfrm>
          <a:prstGeom prst="rect">
            <a:avLst/>
          </a:prstGeom>
          <a:ln w="0">
            <a:noFill/>
          </a:ln>
        </p:spPr>
      </p:pic>
      <p:pic>
        <p:nvPicPr>
          <p:cNvPr id="179" name="圖片 8" descr="白菜_1~1.JPG"/>
          <p:cNvPicPr/>
          <p:nvPr/>
        </p:nvPicPr>
        <p:blipFill>
          <a:blip r:embed="rId7"/>
          <a:stretch/>
        </p:blipFill>
        <p:spPr>
          <a:xfrm>
            <a:off x="6370560" y="692280"/>
            <a:ext cx="2162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紅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含植物性化學成分如茄紅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花青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促進心臟及尿道系統健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升記憶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圖片14"/>
          <p:cNvPicPr/>
          <p:nvPr/>
        </p:nvPicPr>
        <p:blipFill>
          <a:blip r:embed="rId1"/>
          <a:stretch/>
        </p:blipFill>
        <p:spPr>
          <a:xfrm>
            <a:off x="971640" y="4724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進入標準尺寸的圖片"/>
          <p:cNvPicPr/>
          <p:nvPr/>
        </p:nvPicPr>
        <p:blipFill>
          <a:blip r:embed="rId2"/>
          <a:stretch/>
        </p:blipFill>
        <p:spPr>
          <a:xfrm>
            <a:off x="3419640" y="4797360"/>
            <a:ext cx="2016000" cy="1514520"/>
          </a:xfrm>
          <a:prstGeom prst="rect">
            <a:avLst/>
          </a:prstGeom>
          <a:ln w="0">
            <a:noFill/>
          </a:ln>
        </p:spPr>
      </p:pic>
      <p:pic>
        <p:nvPicPr>
          <p:cNvPr id="184" name="圖片 8" descr="red1.jpg"/>
          <p:cNvPicPr/>
          <p:nvPr/>
        </p:nvPicPr>
        <p:blipFill>
          <a:blip r:embed="rId3"/>
          <a:stretch/>
        </p:blipFill>
        <p:spPr>
          <a:xfrm>
            <a:off x="6300720" y="299736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185" name="圖片 9" descr="red2.jpg"/>
          <p:cNvPicPr/>
          <p:nvPr/>
        </p:nvPicPr>
        <p:blipFill>
          <a:blip r:embed="rId4"/>
          <a:stretch/>
        </p:blipFill>
        <p:spPr>
          <a:xfrm>
            <a:off x="6156360" y="4653000"/>
            <a:ext cx="2303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12</a:t>
            </a: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四月美國德州龍捲風肆虐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德州龍捲風"/>
          <p:cNvPicPr/>
          <p:nvPr/>
        </p:nvPicPr>
        <p:blipFill>
          <a:blip r:embed="rId1"/>
          <a:stretch/>
        </p:blipFill>
        <p:spPr>
          <a:xfrm>
            <a:off x="755640" y="2492280"/>
            <a:ext cx="4049640" cy="3384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龍捲風2"/>
          <p:cNvPicPr/>
          <p:nvPr/>
        </p:nvPicPr>
        <p:blipFill>
          <a:blip r:embed="rId2"/>
          <a:stretch/>
        </p:blipFill>
        <p:spPr>
          <a:xfrm>
            <a:off x="5364000" y="256536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12</a:t>
            </a: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年二月日本雪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201202日本雪災"/>
          <p:cNvPicPr/>
          <p:nvPr/>
        </p:nvPicPr>
        <p:blipFill>
          <a:blip r:embed="rId1"/>
          <a:stretch/>
        </p:blipFill>
        <p:spPr>
          <a:xfrm>
            <a:off x="1187280" y="3068640"/>
            <a:ext cx="247680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20120202"/>
          <p:cNvPicPr/>
          <p:nvPr/>
        </p:nvPicPr>
        <p:blipFill>
          <a:blip r:embed="rId2"/>
          <a:stretch/>
        </p:blipFill>
        <p:spPr>
          <a:xfrm>
            <a:off x="4211640" y="3645000"/>
            <a:ext cx="4103640" cy="2927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20120202日本雪災1"/>
          <p:cNvPicPr/>
          <p:nvPr/>
        </p:nvPicPr>
        <p:blipFill>
          <a:blip r:embed="rId3"/>
          <a:stretch/>
        </p:blipFill>
        <p:spPr>
          <a:xfrm>
            <a:off x="4246560" y="1484280"/>
            <a:ext cx="40323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為地球降溫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全球溫度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年前上升攝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台灣溫度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年前上升攝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9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顯示台灣暖化腳步比全球快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地球暖化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594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冰原融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海平面上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陸地減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農作物減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動物絕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北極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氣候異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乾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暴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雪災日趨嚴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圖片 5" descr="images.jpg"/>
          <p:cNvPicPr/>
          <p:nvPr/>
        </p:nvPicPr>
        <p:blipFill>
          <a:blip r:embed="rId1"/>
          <a:stretch/>
        </p:blipFill>
        <p:spPr>
          <a:xfrm>
            <a:off x="6659640" y="476280"/>
            <a:ext cx="2016000" cy="2744640"/>
          </a:xfrm>
          <a:prstGeom prst="rect">
            <a:avLst/>
          </a:prstGeom>
          <a:ln w="0">
            <a:noFill/>
          </a:ln>
        </p:spPr>
      </p:pic>
      <p:pic>
        <p:nvPicPr>
          <p:cNvPr id="123" name="圖片 6" descr="snow3.jpg"/>
          <p:cNvPicPr/>
          <p:nvPr/>
        </p:nvPicPr>
        <p:blipFill>
          <a:blip r:embed="rId2"/>
          <a:stretch/>
        </p:blipFill>
        <p:spPr>
          <a:xfrm>
            <a:off x="611280" y="4221000"/>
            <a:ext cx="3313080" cy="237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洪水2"/>
          <p:cNvPicPr/>
          <p:nvPr/>
        </p:nvPicPr>
        <p:blipFill>
          <a:blip r:embed="rId3"/>
          <a:stretch/>
        </p:blipFill>
        <p:spPr>
          <a:xfrm>
            <a:off x="4643280" y="3933720"/>
            <a:ext cx="3600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愛地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天不吃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公斤的二氧化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排放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緩地球暖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膳食纖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維生素及礦物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植物性化學成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長高"/>
          <p:cNvPicPr/>
          <p:nvPr/>
        </p:nvPicPr>
        <p:blipFill>
          <a:blip r:embed="rId1"/>
          <a:stretch/>
        </p:blipFill>
        <p:spPr>
          <a:xfrm>
            <a:off x="1403280" y="393372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牙"/>
          <p:cNvPicPr/>
          <p:nvPr/>
        </p:nvPicPr>
        <p:blipFill>
          <a:blip r:embed="rId2"/>
          <a:stretch/>
        </p:blipFill>
        <p:spPr>
          <a:xfrm>
            <a:off x="3492360" y="4437000"/>
            <a:ext cx="1905120" cy="186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水噹噹"/>
          <p:cNvPicPr/>
          <p:nvPr/>
        </p:nvPicPr>
        <p:blipFill>
          <a:blip r:embed="rId3"/>
          <a:stretch/>
        </p:blipFill>
        <p:spPr>
          <a:xfrm>
            <a:off x="5867280" y="1628640"/>
            <a:ext cx="2737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蔬果攝取不足引起的健康問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便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肥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心血管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癌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便秘"/>
          <p:cNvPicPr/>
          <p:nvPr/>
        </p:nvPicPr>
        <p:blipFill>
          <a:blip r:embed="rId1"/>
          <a:stretch/>
        </p:blipFill>
        <p:spPr>
          <a:xfrm>
            <a:off x="1547640" y="4869000"/>
            <a:ext cx="2232360" cy="173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肥胖心"/>
          <p:cNvPicPr/>
          <p:nvPr/>
        </p:nvPicPr>
        <p:blipFill>
          <a:blip r:embed="rId2"/>
          <a:stretch/>
        </p:blipFill>
        <p:spPr>
          <a:xfrm>
            <a:off x="5076720" y="3141720"/>
            <a:ext cx="3413160" cy="3313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癌"/>
          <p:cNvPicPr/>
          <p:nvPr/>
        </p:nvPicPr>
        <p:blipFill>
          <a:blip r:embed="rId3"/>
          <a:stretch/>
        </p:blipFill>
        <p:spPr>
          <a:xfrm>
            <a:off x="6516720" y="33336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每日兒童蔬果份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天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圖片3"/>
          <p:cNvPicPr/>
          <p:nvPr/>
        </p:nvPicPr>
        <p:blipFill>
          <a:blip r:embed="rId1"/>
          <a:stretch/>
        </p:blipFill>
        <p:spPr>
          <a:xfrm>
            <a:off x="4500720" y="2492280"/>
            <a:ext cx="3919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5:48:05Z</dcterms:created>
  <dc:creator>user</dc:creator>
  <dc:description/>
  <dc:language>en-US</dc:language>
  <cp:lastModifiedBy>po</cp:lastModifiedBy>
  <dcterms:modified xsi:type="dcterms:W3CDTF">2015-01-13T08:53:02Z</dcterms:modified>
  <cp:revision>55</cp:revision>
  <dc:subject/>
  <dc:title>環保蔬食好健康</dc:title>
</cp:coreProperties>
</file>