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41.jpeg" ContentType="image/jpeg"/>
  <Override PartName="/ppt/media/image45.jpeg" ContentType="image/jpeg"/>
  <Override PartName="/ppt/media/image42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9247-D4DA-4639-87F8-4122F0009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565D1-2571-4036-B79B-E95EDF32B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B31C-AE3C-4B50-B285-496D8D0AC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CFF9-0889-46E2-B9DF-12F593631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6F10-2649-4469-AED6-FC3C64A5B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DCDFC-F5D5-4525-925B-DA70F654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E153-B83A-4934-AB26-15A02EF1A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DB7B-4315-47F2-858A-BCB9BEB58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2B5CF-1777-4CEA-A140-18714074C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0A1F-2795-47CE-8131-529AFC70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85C9-9DED-4FB8-8806-3920C5ED2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E2B-6999-44AD-A0EF-BC48DC61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0140-30E7-4F42-B10D-A1F6C8E28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14F-43D2-427E-8F21-A9A3662B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D05D4-B659-4892-B30E-D050C85F6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72C8-8FBB-4D3E-BE4A-98947C90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027E-1637-4BD6-8224-E4847E67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E635-BE80-47C8-B369-8F6CDEB6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975-F26B-4A96-90B5-7E19DFDC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45EF0-2A92-4586-B057-374832FFF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A0E8-8C3E-44D7-A227-C903685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F953-5272-48D6-8BB5-7ACE239F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8DC1-4EAD-4A4D-BF36-03CA5A7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82D8E-2F7A-466E-AA58-20E3838F8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3BA93-CC1C-4622-93AB-41DA2FD3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60D4B-3FAB-40DB-8611-268FE3E5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A24A-4EE8-4438-8F88-A3878C0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22C7-4FE1-4194-9988-82667082A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C279D-9E1C-4F6D-9952-2F0C320E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74CFD-5485-4E61-95FC-24D3D381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C1637-E990-4CFC-A5DC-D4A349B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CCB-F347-4071-BB7F-037A3B7D6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3F64-58D1-467A-BAF0-82A56AA82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6C36-3A11-4C38-9BC8-7B1FE6E74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EE9E-A548-4177-BF61-D4D05723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6387-7A62-4BF8-8F83-4C28C3CF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1DC1-61E1-4157-A717-70598238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135-BF28-4DCF-B506-A296BDD5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65B5-7C07-4B17-9C01-197D1C51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D44DA-F77D-46A6-94BA-FF6DB189D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4F2B-95D8-46F4-8D23-893CFC1BE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hyperlink" Target="http://tw.wrs.yahoo.com/_ylt=A3eg8_jWd71MRl8AIBxt1gt.;_ylu=X3oDMTBrZ20xOHVwBHBvcwMxMDQEc2VjA3NyBHZ0aWQD/SIG=1nh2c9vhn/EXP=1287571798/**http%3A//tw.image.search.yahoo.com/images/view%3Fback=http%253A%252F%252Ftw.image.search.yahoo.com%252Fsearch%252Fimages%253Fp%253D%2525E4%2525B8%252580%2525E4%2525BB%2525BD%2525E6%2525B0%2525B4%2525E6%25259E%25259C%2526js%253D1%2526b%253D101%2526ni%253D20%2526ei%253Dutf-8%2526pstart%253D1%2526fr%253Dyfp%26w=600%26h=450%26imgurl=c-photo.i-part.com.tw%252Fn1v1%252F3%252F9%252F1%252F3%252F353193%252Fphoto%252Fbook23%252F124260874212.jpeg%26rurl=http%253A%252F%252Fblog.yam.com%252Fpshge%252Farticle%252F21138486%26size=194k%26name=124260874212%2Bjpe...%26p=%25E4%25B8%2580%25E4%25BB%25BD%25E6%25B0%25B4%25E6%259E%259C%26oid=080050a99b19f734%26fr2=%26no=104%26tt=8541%26b=101%26ni=20%26sigr=11a3ojvl7%26sigi=128d73pdj%26sigb=13ve4fmmm&amp;type=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tw.wrs.yahoo.com/_ylt=A3eg8qkNw59JJYEAXglt1gt./SIG=1g32g8j5d/EXP=1235293325/**http:/tw.info.search.yahoo.com/search/images/view?back=http://tw.info.search.yahoo.com/search/images?p=&#26611;&#19969;&amp;ei=UTF-8&amp;fr=yfp&amp;x=wrt&amp;w=1600&amp;h=1200&amp;imgurl=photo.fhl.net/img/virgit/4.jpg&amp;rurl=http://photo.fhl.net/gb/virgit/virgit4.html&amp;size=363.3kB&amp;name=4.jpg&amp;p=&#26611;&#19969;&amp;type=jpeg&amp;no=6&amp;tt=40,783&amp;oid=b9871f58f1c93998&amp;ei=UTF-8" TargetMode="External"/><Relationship Id="rId3" Type="http://schemas.openxmlformats.org/officeDocument/2006/relationships/image" Target="../media/image31.jpeg"/><Relationship Id="rId4" Type="http://schemas.openxmlformats.org/officeDocument/2006/relationships/hyperlink" Target="http://www.365shu.com/photography/2080/html/wallpaper94.html" TargetMode="External"/><Relationship Id="rId5" Type="http://schemas.openxmlformats.org/officeDocument/2006/relationships/image" Target="../media/image32.jpeg"/><Relationship Id="rId6" Type="http://schemas.openxmlformats.org/officeDocument/2006/relationships/hyperlink" Target="http://www.365shu.com/photography/2080/html/wallpaper91.html" TargetMode="External"/><Relationship Id="rId7" Type="http://schemas.openxmlformats.org/officeDocument/2006/relationships/image" Target="../media/image33.jpeg"/><Relationship Id="rId8" Type="http://schemas.openxmlformats.org/officeDocument/2006/relationships/hyperlink" Target="http://tw.wrs.yahoo.com/_ylt=A3eg8_mCc71Ml8QAYZ5t1gt.;_ylu=X3oDMTBqM3IzZ25kBHBvcwMzMgRzZWMDc3IEdnRpZAM-/SIG=1rg3ouh2r/EXP=1287570690/**http%3A//tw.image.search.yahoo.com/images/view%3Fback=http%253A%252F%252Ftw.image.search.yahoo.com%252Fsearch%252Fimages%253Fp%253D%2525E7%2525B4%252585%2525E8%252598%2525BF%2525E8%252594%252594%2526b%253D21%2526ni%253D20%2526ei%253DUTF-8%2526pstart%253D1%2526fr%253Dyfp%26w=401%26h=299%26imgurl=fj.sinaimg.cn%252F2009%252F1224%252F20091224104426.jpg%26rurl=http%253A%252F%252Ffj.sina.com.cn%252Fhealth%252Fh%252Fm%252F2009-12-24%252F10481580.html%26size=24k%26name=%25E8%2583%25A1%25E8%2590%259D%25E5%258D%259C%25E6%2598%25AF%25E5%25B9%25B3%25E6%25B0%2591%25E4%25BA%25BA%25E5%258F%2582%2B%25E7%2582%25B8%25E6%25B1%2581%25E7%25A9%25BA%25E8%2585%25B9%25E5%2596%259D%25E8%2590%25A5%25E5%2585%25BB...%26p=%25E7%25B4%2585%25E8%2598%25BF%25E8%2594%2594%26oid=9c157fb57490ac24%26fr2=%26no=32%26tt=93881%26b=21%26ni=20%26sigr=11p6vi2ss%26sigi=11a4ilo3v%26sigb=13gon78po&amp;type=JPG" TargetMode="External"/><Relationship Id="rId9" Type="http://schemas.openxmlformats.org/officeDocument/2006/relationships/image" Target="../media/image3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jOTr1MF0UAP25t1gt.;_ylu=X3oDMTBqZjdtb25uBHBvcwMyNgRzZWMDc3IEdnRpZAM-/SIG=1neq0udlv/EXP=1287561294/**http%3A//tw.image.search.yahoo.com/images/view%3Fback=http%253A%252F%252Ftw.image.search.yahoo.com%252Fsearch%252Fimages%253Fp%253D%2525E7%2525B4%2525AB%2525E8%252589%2525B2%2525E8%252594%2525AC%2525E8%25258F%25259C%2526js%253D1%2526b%253D21%2526ni%253D20%2526ei%253Dutf-8%2526pstart%253D1%2526fr%253Dsfp%26w=400%26h=329%26imgurl=www.china12315.com.cn%252FUpFiles%252FnewsPic%252F2009041410384247021.jpg%26rurl=http%253A%252F%252Fwww.china12315.com.cn%252Fhtml%252Fxfz%252F2009%252F0414%252Fn_20090414808550162.shtml%26size=46k%26name=2009041410384247...%26p=%25E7%25B4%25AB%25E8%2589%25B2%25E8%2594%25AC%25E8%258F%259C%26oid=e3eba4606980664c%26fr2=%26no=26%26tt=575%26b=21%26ni=20%26sigr=1298b8bsr%26sigi=11t4nuhec%26sigb=13u9kevtb&amp;type=JPG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://tw.wrs.yahoo.com/_ylt=A3eg8_cQTr1M9NEANUZt1gt.;_ylu=X3oDMTBpY2Y5NXNiBHBvcwM2BHNlYwNzcgR2dGlkAw--/SIG=1lpr19oht/EXP=1287561104/**http%3A//tw.image.search.yahoo.com/images/view%3Fback=http%253A%252F%252Ftw.image.search.yahoo.com%252Fsearch%252Fimages%253Fp%253D%2525E7%2525B4%2525AB%2525E8%252589%2525B2%2525E8%252594%2525AC%2525E8%25258F%25259C%2526js%253D1%2526b%253D1%2526ni%253D20%2526ei%253Dutf-8%2526pstart%253D1%2526fr%253Dsfp%26w=420%26h=308%26imgurl=image.39.net%252F085%252F14%252F166596_s_3115.jpg%26rurl=http%253A%252F%252Fwoman.39.net%252Fnxyy%252F085%252F16%252F428524_1.html%26size=16k%26name=166596%2Bs%2B3115%2Bjp...%26p=%25E7%25B4%25AB%25E8%2589%25B2%25E8%2594%25AC%25E8%258F%259C%26oid=31a8dac0c2fc855e%26fr2=%26no=6%26tt=577%26b=1%26ni=20%26sigr=11deo0jpb%26sigi=115mh2efg%26sigb=13t3mptln&amp;type=JPG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://tw.wrs.yahoo.com/_ylt=A3eg8qg1v59JQG0BEaVt1gt./SIG=1hhaifokv/EXP=1235292341/**http:/tw.info.search.yahoo.com/search/images/view?back=http://tw.info.search.yahoo.com/search/images?p=&#21152;&#24030;&#26446;&amp;ei=UTF-8&amp;fr=yfp&amp;b=1&amp;w=180&amp;h=127&amp;imgurl=www.homestay.com.tw/images/r-ad/P5161013.jpg&amp;rurl=http://www.homestay.com.tw/R-AD/specially.htm&amp;size=15.6kB&amp;name=P5161013.jpg&amp;p=&#21152;&#24030;&#26446;&amp;type=jpeg&amp;no=4&amp;tt=79&amp;oid=629fc744a0e760d0&amp;ei=UTF-8" TargetMode="External"/><Relationship Id="rId6" Type="http://schemas.openxmlformats.org/officeDocument/2006/relationships/image" Target="../media/image3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tw.wrs.yahoo.com/_ylt=A3eg8_lpS71MwbYAz9Bt1gt.;_ylu=X3oDMTBqY2pzbGhoBHBvcwMxMQRzZWMDc3IEdnRpZAM-/SIG=1lmllbq1e/EXP=1287560425/**http%3A//tw.image.search.yahoo.com/images/view%3Fback=http%253A%252F%252Ftw.image.search.yahoo.com%252Fsearch%252Fimages%253Fp%253D%2525E7%252599%2525BD%2525E8%252598%2525BF%2525E8%252594%252594%2526b%253D1%2526ni%253D20%2526ei%253Dutf-8%2526pstart%253D1%2526fr%253Dsfp%26w=350%26h=280%26imgurl=sh.sinaimg.cn%252F2009%252F0611%252F2009611162852.jpg%26rurl=http%253A%252F%252Fwww.labour-daily.cn%252FWeb%252FNewsDetail.aspx%253FIssuanceID%253D147118%26size=33k%26name=%25E7%2599%25BD%25E8%2590%259D%25E5%258D%259C%26p=%25E7%2599%25BD%25E8%2598%25BF%25E8%2594%2594%26oid=f69892804f3facca%26fr2=%26no=11%26tt=39846%26b=1%26ni=20%26sigr=120p7hbd4%26sigi=119apdiu7%26sigb=13ffo0l2o&amp;type=JPG" TargetMode="External"/><Relationship Id="rId2" Type="http://schemas.openxmlformats.org/officeDocument/2006/relationships/image" Target="../media/image38.jpeg"/><Relationship Id="rId3" Type="http://schemas.openxmlformats.org/officeDocument/2006/relationships/hyperlink" Target="http://tw.wrs.yahoo.com/_ylt=A3eg8qtyvZ9JzCYAcX1t1gt./SIG=1neivf6mu/EXP=1235291890/**http:/tw.info.search.yahoo.com/search/images/view?back=http://tw.info.search.yahoo.com/search/images?p=&#26792;&#23376;&amp;ei=UTF-8&amp;pstart=1&amp;fr=yfp&amp;b=1&amp;w=500&amp;h=375&amp;imgurl=static.flickr.com/92/258396840_0e08de22cd.jpg&amp;rurl=http://www.flickr.com/photos/nicole_lee/258396840/&amp;size=57.4kB&amp;name=093045&#22312;CHINATOWN&#35041;&#30340;&#33775;&#20154;&#36229;&#24066;...&amp;p=&#26792;&#23376;&amp;type=jpeg&amp;no=1&amp;tt=20,270&amp;oid=0e5c4c2cfdc0d75a&amp;ei=UTF-8&amp;fusr=Nicole_Daily&amp;hurl=http:/www.flickr.com/photos/nicole_lee/&amp;src=flickr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tw.wrs.yahoo.com/_ylt=A3eg8qb1vZ9JdnEARzVt1gt./SIG=1iul0odej/EXP=1235292021/**http:/tw.info.search.yahoo.com/search/images/view?back=http://tw.info.search.yahoo.com/search/images?p=&#40657;&#26408;&#32819;&amp;ei=UTF-8&amp;pstart=1&amp;fr=yfp&amp;b=341&amp;w=450&amp;h=481&amp;imgurl=www.pclady.com.cn/health/ysjk/0609/pic/182.jpg&amp;rurl=http://www.pclady.com.cn/health/ysjk/0609/114343.html&amp;size=44.4kB&amp;name=182.jpg&amp;p=&#40657;&#26408;&#32819;&amp;type=jpeg&amp;no=341&amp;tt=3,282&amp;oid=8c7f7e90b2235222&amp;ei=UTF-8" TargetMode="External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彩虹蔬果健康多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647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各色蔬果所含之纖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礦物質及植物性化學成分不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圖片3"/>
          <p:cNvPicPr/>
          <p:nvPr/>
        </p:nvPicPr>
        <p:blipFill>
          <a:blip r:embed="rId1"/>
          <a:stretch/>
        </p:blipFill>
        <p:spPr>
          <a:xfrm>
            <a:off x="4859280" y="2997360"/>
            <a:ext cx="3600360" cy="3384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圖片18"/>
          <p:cNvPicPr/>
          <p:nvPr/>
        </p:nvPicPr>
        <p:blipFill>
          <a:blip r:embed="rId2"/>
          <a:stretch/>
        </p:blipFill>
        <p:spPr>
          <a:xfrm>
            <a:off x="826920" y="4869000"/>
            <a:ext cx="1579680" cy="1191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圖片21"/>
          <p:cNvPicPr/>
          <p:nvPr/>
        </p:nvPicPr>
        <p:blipFill>
          <a:blip r:embed="rId3"/>
          <a:stretch/>
        </p:blipFill>
        <p:spPr>
          <a:xfrm>
            <a:off x="2050920" y="3933720"/>
            <a:ext cx="1590840" cy="1006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圖片25"/>
          <p:cNvPicPr/>
          <p:nvPr/>
        </p:nvPicPr>
        <p:blipFill>
          <a:blip r:embed="rId4"/>
          <a:stretch/>
        </p:blipFill>
        <p:spPr>
          <a:xfrm>
            <a:off x="2268360" y="4941720"/>
            <a:ext cx="2165400" cy="11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綠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纖維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促進視覺健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強健骨骼牙齒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每日至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份深綠色蔬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DSC01732"/>
          <p:cNvPicPr/>
          <p:nvPr/>
        </p:nvPicPr>
        <p:blipFill>
          <a:blip r:embed="rId1"/>
          <a:stretch/>
        </p:blipFill>
        <p:spPr>
          <a:xfrm>
            <a:off x="900000" y="4941720"/>
            <a:ext cx="1800360" cy="1351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圖片18"/>
          <p:cNvPicPr/>
          <p:nvPr/>
        </p:nvPicPr>
        <p:blipFill>
          <a:blip r:embed="rId2"/>
          <a:stretch/>
        </p:blipFill>
        <p:spPr>
          <a:xfrm>
            <a:off x="2843280" y="5013360"/>
            <a:ext cx="1579320" cy="119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圖片20"/>
          <p:cNvPicPr/>
          <p:nvPr/>
        </p:nvPicPr>
        <p:blipFill>
          <a:blip r:embed="rId3"/>
          <a:stretch/>
        </p:blipFill>
        <p:spPr>
          <a:xfrm>
            <a:off x="4427640" y="5013360"/>
            <a:ext cx="1508040" cy="1141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圖片22"/>
          <p:cNvPicPr/>
          <p:nvPr/>
        </p:nvPicPr>
        <p:blipFill>
          <a:blip r:embed="rId4"/>
          <a:stretch/>
        </p:blipFill>
        <p:spPr>
          <a:xfrm>
            <a:off x="6084720" y="5013360"/>
            <a:ext cx="1467000" cy="110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黃色及橘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5389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含豐富抗氧化物質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維生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類葫蘿蔔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促進健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DSC01737"/>
          <p:cNvPicPr/>
          <p:nvPr/>
        </p:nvPicPr>
        <p:blipFill>
          <a:blip r:embed="rId1"/>
          <a:stretch/>
        </p:blipFill>
        <p:spPr>
          <a:xfrm>
            <a:off x="1116000" y="5013360"/>
            <a:ext cx="1701720" cy="1295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進入標準尺寸的圖片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869000"/>
            <a:ext cx="2519280" cy="1563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新鮮蔬菜水果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4581360"/>
            <a:ext cx="2448000" cy="1798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新鮮蔬菜水果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940360" y="2852640"/>
            <a:ext cx="2125800" cy="1311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6" descr="進入標準尺寸的圖片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796000" y="907920"/>
            <a:ext cx="25909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藍色及紫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許多增進健康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抗老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助增強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5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5013360"/>
            <a:ext cx="1728720" cy="1224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3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659640" y="5084640"/>
            <a:ext cx="1728720" cy="1028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700360" y="4941720"/>
            <a:ext cx="1779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白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含不同量之植物性化學成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減少心血管疾病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4" descr="進入標準尺寸的圖片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03280" y="4653000"/>
            <a:ext cx="2303640" cy="1511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進入標準尺寸的圖片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95640" y="4724280"/>
            <a:ext cx="2158920" cy="1371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4" descr="進入標準尺寸的圖片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372360" y="4365720"/>
            <a:ext cx="1650960" cy="1692360"/>
          </a:xfrm>
          <a:prstGeom prst="rect">
            <a:avLst/>
          </a:prstGeom>
          <a:ln w="0">
            <a:noFill/>
          </a:ln>
        </p:spPr>
      </p:pic>
      <p:pic>
        <p:nvPicPr>
          <p:cNvPr id="179" name="圖片 8" descr="白菜_1~1.JPG"/>
          <p:cNvPicPr/>
          <p:nvPr/>
        </p:nvPicPr>
        <p:blipFill>
          <a:blip r:embed="rId7"/>
          <a:stretch/>
        </p:blipFill>
        <p:spPr>
          <a:xfrm>
            <a:off x="6370560" y="692280"/>
            <a:ext cx="21621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紅色蔬果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含植物性化學成分如茄紅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花青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降低癌症發生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促進心臟及尿道系統健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提升記憶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圖片14"/>
          <p:cNvPicPr/>
          <p:nvPr/>
        </p:nvPicPr>
        <p:blipFill>
          <a:blip r:embed="rId1"/>
          <a:stretch/>
        </p:blipFill>
        <p:spPr>
          <a:xfrm>
            <a:off x="971640" y="4724280"/>
            <a:ext cx="1871640" cy="1606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8" descr="進入標準尺寸的圖片"/>
          <p:cNvPicPr/>
          <p:nvPr/>
        </p:nvPicPr>
        <p:blipFill>
          <a:blip r:embed="rId2"/>
          <a:stretch/>
        </p:blipFill>
        <p:spPr>
          <a:xfrm>
            <a:off x="3419640" y="4797360"/>
            <a:ext cx="2016000" cy="1514520"/>
          </a:xfrm>
          <a:prstGeom prst="rect">
            <a:avLst/>
          </a:prstGeom>
          <a:ln w="0">
            <a:noFill/>
          </a:ln>
        </p:spPr>
      </p:pic>
      <p:pic>
        <p:nvPicPr>
          <p:cNvPr id="184" name="圖片 8" descr="red1.jpg"/>
          <p:cNvPicPr/>
          <p:nvPr/>
        </p:nvPicPr>
        <p:blipFill>
          <a:blip r:embed="rId3"/>
          <a:stretch/>
        </p:blipFill>
        <p:spPr>
          <a:xfrm>
            <a:off x="6300720" y="2997360"/>
            <a:ext cx="1800360" cy="1368360"/>
          </a:xfrm>
          <a:prstGeom prst="rect">
            <a:avLst/>
          </a:prstGeom>
          <a:ln w="0">
            <a:noFill/>
          </a:ln>
        </p:spPr>
      </p:pic>
      <p:pic>
        <p:nvPicPr>
          <p:cNvPr id="185" name="圖片 9" descr="red2.jpg"/>
          <p:cNvPicPr/>
          <p:nvPr/>
        </p:nvPicPr>
        <p:blipFill>
          <a:blip r:embed="rId4"/>
          <a:stretch/>
        </p:blipFill>
        <p:spPr>
          <a:xfrm>
            <a:off x="6156360" y="4653000"/>
            <a:ext cx="2303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德州龍捲風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龍捲風2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1202日本雪災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120202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20202日本雪災1"/>
          <p:cNvPicPr/>
          <p:nvPr/>
        </p:nvPicPr>
        <p:blipFill>
          <a:blip r:embed="rId3"/>
          <a:stretch/>
        </p:blipFill>
        <p:spPr>
          <a:xfrm>
            <a:off x="424656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洪水2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長高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牙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水噹噹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便秘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肥胖心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癌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po</cp:lastModifiedBy>
  <dcterms:modified xsi:type="dcterms:W3CDTF">2015-01-13T08:53:02Z</dcterms:modified>
  <cp:revision>55</cp:revision>
  <dc:subject/>
  <dc:title>環保蔬食好健康</dc:title>
</cp:coreProperties>
</file>