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879E-77CB-49C1-ABB4-D5643BA97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D0C7-C56F-49E9-96F0-3980C746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C950-F3E3-4071-97EA-8809A0881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E8C6-4055-42AB-8FA0-E2D17D27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F52B-7249-4530-880E-0C97A1E8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DEC2-55D9-44CE-9916-7E41F210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8B15-957B-4BFB-8FBF-4C4B341E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5081-F32B-4D93-8276-20FEE084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FDD6-EB82-434C-9D70-8465BC0F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05B0-1E2B-4732-8C91-C40D1DDC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D9BC-C28D-43D6-806F-A31C4CFE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C994-7912-4C1A-AD4D-0D290885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C41B-84C0-451E-8339-CA0489DD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8AEB-0B4C-420B-BA07-F82AF915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6131-528C-466E-991C-D31A03CA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F541-7AEA-445F-8D12-5169E594C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22AE-2080-4A43-A1B7-5E3444143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1F42-2BAE-4AD8-98B5-CA07966A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3CB0-5417-4FBF-A9A3-C15B2B3A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93CB-0F9E-4612-AA6F-4583B991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1C89-A4F6-4FA7-8677-4FB13B41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8922-BFD6-46F0-B2D4-03C2F274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AA34-2767-451B-8D7B-F6500E04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EEC3-89F1-4B52-B5CB-BD4FD4BA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6C88-AC13-4037-A968-C2AB443D0F5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925E-4AD8-465E-9262-0F4ED60B1581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2.pn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7596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cc3399"/>
                </a:solidFill>
                <a:latin typeface="標楷體"/>
                <a:ea typeface="標楷體"/>
              </a:rPr>
              <a:t>資源回收宣導簡報</a:t>
            </a:r>
            <a:endParaRPr b="0" lang="en-US" sz="7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640" y="2349360"/>
            <a:ext cx="7848720" cy="86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>
                  <a:alpha val="49019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761e1e"/>
                </a:solidFill>
                <a:latin typeface="Arial"/>
                <a:ea typeface="標楷體"/>
              </a:rPr>
              <a:t>一、什麼是資源回收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3429000"/>
            <a:ext cx="7848720" cy="86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>
                  <a:alpha val="4901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761e1e"/>
                </a:solidFill>
                <a:latin typeface="Arial"/>
                <a:ea typeface="標楷體"/>
              </a:rPr>
              <a:t>二、為什麼要資源回收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4508640"/>
            <a:ext cx="7848720" cy="86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>
                  <a:alpha val="4901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761e1e"/>
                </a:solidFill>
                <a:latin typeface="Arial"/>
                <a:ea typeface="標楷體"/>
              </a:rPr>
              <a:t>三、要如何資源回收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5867280"/>
            <a:ext cx="2438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9900"/>
                </a:solidFill>
                <a:latin typeface="標楷體"/>
                <a:ea typeface="標楷體"/>
              </a:rPr>
              <a:t>興國國小資源回收</a:t>
            </a:r>
            <a:br>
              <a:rPr sz="2000"/>
            </a:br>
            <a:r>
              <a:rPr b="1" lang="zh-TW" sz="2000" spc="-1" strike="noStrike">
                <a:solidFill>
                  <a:srgbClr val="009900"/>
                </a:solidFill>
                <a:latin typeface="標楷體"/>
                <a:ea typeface="標楷體"/>
              </a:rPr>
              <a:t>   宣 導 簡 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429000" y="5943600"/>
            <a:ext cx="762120" cy="754200"/>
          </a:xfrm>
          <a:prstGeom prst="rect">
            <a:avLst/>
          </a:prstGeom>
          <a:ln w="0">
            <a:noFill/>
          </a:ln>
        </p:spPr>
      </p:pic>
      <p:pic>
        <p:nvPicPr>
          <p:cNvPr id="90" name="doraemon1" descr=""/>
          <p:cNvPicPr/>
          <p:nvPr/>
        </p:nvPicPr>
        <p:blipFill>
          <a:blip r:embed="rId2"/>
          <a:stretch/>
        </p:blipFill>
        <p:spPr>
          <a:xfrm>
            <a:off x="228600" y="548640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533160" y="1828440"/>
            <a:ext cx="2057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0000"/>
                </a:solidFill>
                <a:latin typeface="Arial"/>
                <a:ea typeface="標楷體"/>
              </a:rPr>
              <a:t>鋁箔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429000" y="5867280"/>
            <a:ext cx="4266720" cy="830520"/>
            <a:chOff x="3429000" y="5867280"/>
            <a:chExt cx="4266720" cy="830520"/>
          </a:xfrm>
        </p:grpSpPr>
        <p:sp>
          <p:nvSpPr>
            <p:cNvPr id="181" name=""/>
            <p:cNvSpPr/>
            <p:nvPr/>
          </p:nvSpPr>
          <p:spPr>
            <a:xfrm>
              <a:off x="4444920" y="5867280"/>
              <a:ext cx="32508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1015920" cy="7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"/>
          <p:cNvSpPr/>
          <p:nvPr/>
        </p:nvSpPr>
        <p:spPr>
          <a:xfrm>
            <a:off x="1068840" y="3576960"/>
            <a:ext cx="72900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喝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92720" y="305496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取出吸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441972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038480" y="3653280"/>
            <a:ext cx="1341000" cy="1615320"/>
            <a:chOff x="4038480" y="3653280"/>
            <a:chExt cx="1341000" cy="1615320"/>
          </a:xfrm>
        </p:grpSpPr>
        <p:sp>
          <p:nvSpPr>
            <p:cNvPr id="187" name=""/>
            <p:cNvSpPr/>
            <p:nvPr/>
          </p:nvSpPr>
          <p:spPr>
            <a:xfrm>
              <a:off x="4650480" y="3653280"/>
              <a:ext cx="729000" cy="16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洗淨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38480" y="4419720"/>
              <a:ext cx="505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202200" y="4078080"/>
            <a:ext cx="667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丟棄至一般垃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插圖"/>
          <p:cNvPicPr/>
          <p:nvPr/>
        </p:nvPicPr>
        <p:blipFill>
          <a:blip r:embed="rId2"/>
          <a:stretch/>
        </p:blipFill>
        <p:spPr>
          <a:xfrm>
            <a:off x="4495680" y="1600200"/>
            <a:ext cx="241776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5410080" y="3653280"/>
            <a:ext cx="1341000" cy="1615320"/>
            <a:chOff x="5410080" y="3653280"/>
            <a:chExt cx="1341000" cy="1615320"/>
          </a:xfrm>
        </p:grpSpPr>
        <p:sp>
          <p:nvSpPr>
            <p:cNvPr id="192" name=""/>
            <p:cNvSpPr/>
            <p:nvPr/>
          </p:nvSpPr>
          <p:spPr>
            <a:xfrm>
              <a:off x="6022080" y="3653280"/>
              <a:ext cx="729000" cy="16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壓扁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10080" y="4419720"/>
              <a:ext cx="505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doraemon1" descr=""/>
          <p:cNvPicPr/>
          <p:nvPr/>
        </p:nvPicPr>
        <p:blipFill>
          <a:blip r:embed="rId3"/>
          <a:stretch/>
        </p:blipFill>
        <p:spPr>
          <a:xfrm>
            <a:off x="762120" y="5562720"/>
            <a:ext cx="96336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09120" y="1828440"/>
            <a:ext cx="29718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0000"/>
                </a:solidFill>
                <a:latin typeface="Arial"/>
                <a:ea typeface="標楷體"/>
              </a:rPr>
              <a:t>紙類─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插圖"/>
          <p:cNvPicPr/>
          <p:nvPr/>
        </p:nvPicPr>
        <p:blipFill>
          <a:blip r:embed="rId1"/>
          <a:stretch/>
        </p:blipFill>
        <p:spPr>
          <a:xfrm>
            <a:off x="2971800" y="4800600"/>
            <a:ext cx="1355760" cy="10159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插圖"/>
          <p:cNvPicPr/>
          <p:nvPr/>
        </p:nvPicPr>
        <p:blipFill>
          <a:blip r:embed="rId2"/>
          <a:stretch/>
        </p:blipFill>
        <p:spPr>
          <a:xfrm>
            <a:off x="4419720" y="1981080"/>
            <a:ext cx="2547720" cy="15670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1752480"/>
            <a:ext cx="3200400" cy="3276720"/>
          </a:xfrm>
          <a:custGeom>
            <a:avLst/>
            <a:gdLst>
              <a:gd name="textAreaLeft" fmla="*/ 156240 w 3200400"/>
              <a:gd name="textAreaRight" fmla="*/ 3044160 w 3200400"/>
              <a:gd name="textAreaTop" fmla="*/ 156240 h 3276720"/>
              <a:gd name="textAreaBottom" fmla="*/ 3120480 h 3276720"/>
            </a:gdLst>
            <a:ahLst/>
            <a:rect l="textAreaLeft" t="textAreaTop" r="textAreaRight" b="textAreaBottom"/>
            <a:pathLst>
              <a:path w="21600" h="22115">
                <a:moveTo>
                  <a:pt x="3600" y="0"/>
                </a:moveTo>
                <a:arcTo wR="3600" hR="3600" stAng="16200000" swAng="-5400000"/>
                <a:lnTo>
                  <a:pt x="0" y="18515"/>
                </a:lnTo>
                <a:arcTo wR="3600" hR="3600" stAng="10800000" swAng="-5400000"/>
                <a:lnTo>
                  <a:pt x="18000" y="22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35812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99"/>
                </a:solidFill>
                <a:latin typeface="Times New Roman"/>
                <a:ea typeface="標楷體"/>
              </a:rPr>
              <a:t>污穢紙張與衛生紙除外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254016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紙張壓平疊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紙箱需拆開壓平。紙杯、紙餐盒則洗淨疊整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429000" y="5867280"/>
            <a:ext cx="4114080" cy="830520"/>
            <a:chOff x="3429000" y="5867280"/>
            <a:chExt cx="4114080" cy="830520"/>
          </a:xfrm>
        </p:grpSpPr>
        <p:sp>
          <p:nvSpPr>
            <p:cNvPr id="203" name=""/>
            <p:cNvSpPr/>
            <p:nvPr/>
          </p:nvSpPr>
          <p:spPr>
            <a:xfrm>
              <a:off x="4408560" y="5867280"/>
              <a:ext cx="313452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3"/>
            <a:stretch/>
          </p:blipFill>
          <p:spPr>
            <a:xfrm>
              <a:off x="3429000" y="5943600"/>
              <a:ext cx="979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5" name="doraemon1" descr=""/>
          <p:cNvPicPr/>
          <p:nvPr/>
        </p:nvPicPr>
        <p:blipFill>
          <a:blip r:embed="rId4"/>
          <a:stretch/>
        </p:blipFill>
        <p:spPr>
          <a:xfrm>
            <a:off x="1523880" y="556272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33160" y="1828440"/>
            <a:ext cx="298764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0000"/>
                </a:solidFill>
                <a:latin typeface="Arial"/>
                <a:ea typeface="標楷體"/>
              </a:rPr>
              <a:t>玻璃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插圖"/>
          <p:cNvPicPr/>
          <p:nvPr/>
        </p:nvPicPr>
        <p:blipFill>
          <a:blip r:embed="rId1"/>
          <a:stretch/>
        </p:blipFill>
        <p:spPr>
          <a:xfrm>
            <a:off x="838080" y="2743200"/>
            <a:ext cx="1766880" cy="1766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插圖"/>
          <p:cNvPicPr/>
          <p:nvPr/>
        </p:nvPicPr>
        <p:blipFill>
          <a:blip r:embed="rId2"/>
          <a:stretch/>
        </p:blipFill>
        <p:spPr>
          <a:xfrm>
            <a:off x="1600200" y="4114800"/>
            <a:ext cx="1766880" cy="1766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插圖"/>
          <p:cNvPicPr/>
          <p:nvPr/>
        </p:nvPicPr>
        <p:blipFill>
          <a:blip r:embed="rId3"/>
          <a:stretch/>
        </p:blipFill>
        <p:spPr>
          <a:xfrm>
            <a:off x="4038480" y="3505320"/>
            <a:ext cx="1371600" cy="17668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插圖"/>
          <p:cNvPicPr/>
          <p:nvPr/>
        </p:nvPicPr>
        <p:blipFill>
          <a:blip r:embed="rId4"/>
          <a:stretch/>
        </p:blipFill>
        <p:spPr>
          <a:xfrm>
            <a:off x="2743200" y="1905120"/>
            <a:ext cx="2251080" cy="561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插圖"/>
          <p:cNvPicPr/>
          <p:nvPr/>
        </p:nvPicPr>
        <p:blipFill>
          <a:blip r:embed="rId5"/>
          <a:stretch/>
        </p:blipFill>
        <p:spPr>
          <a:xfrm>
            <a:off x="5791320" y="1905120"/>
            <a:ext cx="1979640" cy="15555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666880" y="2837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倒出內容物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  <a:ea typeface="標楷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312280" y="571428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去瓶蓋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  <a:ea typeface="標楷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30640" y="5104800"/>
            <a:ext cx="139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沖洗並晾乾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  <a:ea typeface="標楷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77120" y="43434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避免混入陶瓷等任何非玻璃容器的物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2664000">
            <a:off x="528120" y="5057280"/>
            <a:ext cx="1656000" cy="533520"/>
          </a:xfrm>
          <a:custGeom>
            <a:avLst/>
            <a:gdLst>
              <a:gd name="textAreaLeft" fmla="*/ 289800 w 1656000"/>
              <a:gd name="textAreaRight" fmla="*/ 1200600 w 16560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8" name=""/>
          <p:cNvSpPr/>
          <p:nvPr/>
        </p:nvSpPr>
        <p:spPr>
          <a:xfrm flipH="1" rot="8248200">
            <a:off x="2895480" y="4114080"/>
            <a:ext cx="1368720" cy="576360"/>
          </a:xfrm>
          <a:custGeom>
            <a:avLst/>
            <a:gdLst>
              <a:gd name="textAreaLeft" fmla="*/ 239400 w 1368720"/>
              <a:gd name="textAreaRight" fmla="*/ 992520 w 136872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2664000">
            <a:off x="5028840" y="4495680"/>
            <a:ext cx="1655640" cy="533520"/>
          </a:xfrm>
          <a:custGeom>
            <a:avLst/>
            <a:gdLst>
              <a:gd name="textAreaLeft" fmla="*/ 289800 w 1655640"/>
              <a:gd name="textAreaRight" fmla="*/ 1200600 w 165564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429000" y="5867280"/>
            <a:ext cx="4419360" cy="830520"/>
            <a:chOff x="3429000" y="5867280"/>
            <a:chExt cx="4419360" cy="830520"/>
          </a:xfrm>
        </p:grpSpPr>
        <p:sp>
          <p:nvSpPr>
            <p:cNvPr id="221" name=""/>
            <p:cNvSpPr/>
            <p:nvPr/>
          </p:nvSpPr>
          <p:spPr>
            <a:xfrm>
              <a:off x="4481280" y="5867280"/>
              <a:ext cx="33670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6"/>
            <a:stretch/>
          </p:blipFill>
          <p:spPr>
            <a:xfrm>
              <a:off x="3429000" y="5943600"/>
              <a:ext cx="105228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3" name="doraemon1" descr=""/>
          <p:cNvPicPr/>
          <p:nvPr/>
        </p:nvPicPr>
        <p:blipFill>
          <a:blip r:embed="rId7"/>
          <a:stretch/>
        </p:blipFill>
        <p:spPr>
          <a:xfrm>
            <a:off x="152280" y="556272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51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298764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0000"/>
                </a:solidFill>
                <a:latin typeface="Arial"/>
                <a:ea typeface="標楷體"/>
              </a:rPr>
              <a:t>日光燈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插圖"/>
          <p:cNvPicPr/>
          <p:nvPr/>
        </p:nvPicPr>
        <p:blipFill>
          <a:blip r:embed="rId1"/>
          <a:stretch/>
        </p:blipFill>
        <p:spPr>
          <a:xfrm>
            <a:off x="3276720" y="3581280"/>
            <a:ext cx="2133360" cy="198144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2819520"/>
            <a:ext cx="640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→ 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千萬別打破！直接送至回收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429000" y="5867280"/>
            <a:ext cx="4114080" cy="830520"/>
            <a:chOff x="3429000" y="5867280"/>
            <a:chExt cx="4114080" cy="830520"/>
          </a:xfrm>
        </p:grpSpPr>
        <p:sp>
          <p:nvSpPr>
            <p:cNvPr id="229" name=""/>
            <p:cNvSpPr/>
            <p:nvPr/>
          </p:nvSpPr>
          <p:spPr>
            <a:xfrm>
              <a:off x="4408560" y="5867280"/>
              <a:ext cx="313452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2"/>
            <a:stretch/>
          </p:blipFill>
          <p:spPr>
            <a:xfrm>
              <a:off x="3429000" y="5943600"/>
              <a:ext cx="979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1" name="doraemon1" descr=""/>
          <p:cNvPicPr/>
          <p:nvPr/>
        </p:nvPicPr>
        <p:blipFill>
          <a:blip r:embed="rId3"/>
          <a:stretch/>
        </p:blipFill>
        <p:spPr>
          <a:xfrm>
            <a:off x="762120" y="5486400"/>
            <a:ext cx="96336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5400" spc="-1" strike="noStrike">
                <a:solidFill>
                  <a:srgbClr val="761e1e"/>
                </a:solidFill>
                <a:latin typeface="Arial Black"/>
                <a:ea typeface="標楷體"/>
              </a:rPr>
              <a:t>大家應該知道的！</a:t>
            </a:r>
            <a:endParaRPr b="0" lang="en-US" sz="5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7086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9900"/>
                </a:solidFill>
                <a:latin typeface="標楷體"/>
                <a:ea typeface="標楷體"/>
              </a:rPr>
              <a:t>回收一噸的廢紙可拯救二十株原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回收廢紙可減少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14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～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22.6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％的垃圾量，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75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％的製紙能源及一半的製紙用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9900"/>
                </a:solidFill>
                <a:latin typeface="標楷體"/>
                <a:ea typeface="標楷體"/>
              </a:rPr>
              <a:t>回收一支玻璃瓶節省的能量，可點亮一個一○○燭光燈泡四個小時。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一個被棄置的保特瓶、鐵鋁罐或塑膠袋，五百年後依然存在地表，甚至千年不化。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9900"/>
                </a:solidFill>
                <a:latin typeface="標楷體"/>
                <a:ea typeface="標楷體"/>
              </a:rPr>
              <a:t>回收一個鋁罐可節省三小時電視的電力，又可減少污染。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429000" y="5867280"/>
            <a:ext cx="4190760" cy="830520"/>
            <a:chOff x="3429000" y="5867280"/>
            <a:chExt cx="4190760" cy="830520"/>
          </a:xfrm>
        </p:grpSpPr>
        <p:sp>
          <p:nvSpPr>
            <p:cNvPr id="235" name=""/>
            <p:cNvSpPr/>
            <p:nvPr/>
          </p:nvSpPr>
          <p:spPr>
            <a:xfrm>
              <a:off x="4426920" y="5867280"/>
              <a:ext cx="319284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99792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7" name="doraemon1" descr=""/>
          <p:cNvPicPr/>
          <p:nvPr/>
        </p:nvPicPr>
        <p:blipFill>
          <a:blip r:embed="rId2"/>
          <a:stretch/>
        </p:blipFill>
        <p:spPr>
          <a:xfrm>
            <a:off x="1676520" y="5562720"/>
            <a:ext cx="9633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7" dur="2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77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3" dur="77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5" dur="77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7" dur="77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重要的環保觀念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34340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認識回收標誌──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1981080" cy="17524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200400" y="18288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　　    </a:t>
            </a:r>
            <a:r>
              <a:rPr b="0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這是代表資源循環再利用、萬物生生不息的精神，就好比是人體血液循環般，當心臟跳動將血液分送到身體各器官使用過後，又會循著靜脈再逆流回心臟產生新的血液供人體使用。另外，回收標誌式樣跟中文字之『回』字有異曲同工之妙。</a:t>
            </a:r>
            <a:r>
              <a:rPr b="0" lang="zh-TW" sz="2000" spc="-1" strike="noStrike">
                <a:solidFill>
                  <a:srgbClr val="000099"/>
                </a:solidFill>
                <a:latin typeface="標楷體"/>
                <a:ea typeface="標楷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429000" y="5867280"/>
            <a:ext cx="4266720" cy="830520"/>
            <a:chOff x="3429000" y="5867280"/>
            <a:chExt cx="4266720" cy="830520"/>
          </a:xfrm>
        </p:grpSpPr>
        <p:sp>
          <p:nvSpPr>
            <p:cNvPr id="243" name=""/>
            <p:cNvSpPr/>
            <p:nvPr/>
          </p:nvSpPr>
          <p:spPr>
            <a:xfrm>
              <a:off x="4444920" y="5867280"/>
              <a:ext cx="32508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3429000" y="5943600"/>
              <a:ext cx="101592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5" name="doraemon1" descr=""/>
          <p:cNvPicPr/>
          <p:nvPr/>
        </p:nvPicPr>
        <p:blipFill>
          <a:blip r:embed="rId3"/>
          <a:stretch/>
        </p:blipFill>
        <p:spPr>
          <a:xfrm>
            <a:off x="2438280" y="556272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4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4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重要的環保觀念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2057400"/>
            <a:ext cx="7772400" cy="23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99"/>
                </a:solidFill>
                <a:latin typeface="Tahoma"/>
                <a:ea typeface="標楷體"/>
              </a:rPr>
              <a:t>少用免洗餐具，減少垃圾產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99"/>
                </a:solidFill>
                <a:latin typeface="Tahoma"/>
                <a:ea typeface="標楷體"/>
              </a:rPr>
              <a:t>購物自備購物袋，少用幾個塑膠袋，可減少垃圾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99"/>
                </a:solidFill>
                <a:latin typeface="Tahoma"/>
                <a:ea typeface="標楷體"/>
              </a:rPr>
              <a:t>隨手關掉水龍頭，勿讓自來水任意流失，需用時再開啟。省水即是省電、省資源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99"/>
                </a:solidFill>
                <a:latin typeface="Tahoma"/>
                <a:ea typeface="標楷體"/>
              </a:rPr>
              <a:t>出門少開車，多坐公共交通工具，或鼓勵共乘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99"/>
                </a:solidFill>
                <a:latin typeface="Tahoma"/>
                <a:ea typeface="標楷體"/>
              </a:rPr>
              <a:t>不要把新聞紙、玻璃瓶或碎片視為垃圾，收集起來回收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99"/>
                </a:solidFill>
                <a:latin typeface="Tahoma"/>
                <a:ea typeface="標楷體"/>
              </a:rPr>
              <a:t>以身作則做環保，隨時隨地做環保：如節省紙張、隨手關燈、自帶茶杯等等。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876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垃圾減量再利用──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429000" y="5867280"/>
            <a:ext cx="4266720" cy="830520"/>
            <a:chOff x="3429000" y="5867280"/>
            <a:chExt cx="4266720" cy="830520"/>
          </a:xfrm>
        </p:grpSpPr>
        <p:sp>
          <p:nvSpPr>
            <p:cNvPr id="250" name=""/>
            <p:cNvSpPr/>
            <p:nvPr/>
          </p:nvSpPr>
          <p:spPr>
            <a:xfrm>
              <a:off x="4444920" y="5867280"/>
              <a:ext cx="32508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101592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2" name="doraemon1" descr=""/>
          <p:cNvPicPr/>
          <p:nvPr/>
        </p:nvPicPr>
        <p:blipFill>
          <a:blip r:embed="rId2"/>
          <a:stretch/>
        </p:blipFill>
        <p:spPr>
          <a:xfrm>
            <a:off x="228600" y="5638680"/>
            <a:ext cx="8985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什麼是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→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資源回收，就是將人們使用的器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妥善收回、加工改造，並加以重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利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→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資源回收，就是把你家的紙張、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子、罐子、保特瓶和其他東西收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起來，拿去循環再製造。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429000" y="5867280"/>
            <a:ext cx="3962160" cy="830520"/>
            <a:chOff x="3429000" y="5867280"/>
            <a:chExt cx="3962160" cy="830520"/>
          </a:xfrm>
        </p:grpSpPr>
        <p:sp>
          <p:nvSpPr>
            <p:cNvPr id="94" name=""/>
            <p:cNvSpPr/>
            <p:nvPr/>
          </p:nvSpPr>
          <p:spPr>
            <a:xfrm>
              <a:off x="4372560" y="5867280"/>
              <a:ext cx="30186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943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6" name="doraemon1" descr=""/>
          <p:cNvPicPr/>
          <p:nvPr/>
        </p:nvPicPr>
        <p:blipFill>
          <a:blip r:embed="rId2"/>
          <a:stretch/>
        </p:blipFill>
        <p:spPr>
          <a:xfrm>
            <a:off x="838080" y="548640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1532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為什麼要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69343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→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地球只有一個，資源有限，大家做資源回收可以讓地球活的更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→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可以讓地球資源重覆利用，不浪費自然資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→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使人與大自然和諧相處，生活品質提升，生態永續發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429000" y="5867280"/>
            <a:ext cx="3962160" cy="830520"/>
            <a:chOff x="3429000" y="5867280"/>
            <a:chExt cx="3962160" cy="830520"/>
          </a:xfrm>
        </p:grpSpPr>
        <p:sp>
          <p:nvSpPr>
            <p:cNvPr id="100" name=""/>
            <p:cNvSpPr/>
            <p:nvPr/>
          </p:nvSpPr>
          <p:spPr>
            <a:xfrm>
              <a:off x="4372560" y="5867280"/>
              <a:ext cx="30186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943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doraemon1" descr=""/>
          <p:cNvPicPr/>
          <p:nvPr/>
        </p:nvPicPr>
        <p:blipFill>
          <a:blip r:embed="rId2"/>
          <a:stretch/>
        </p:blipFill>
        <p:spPr>
          <a:xfrm>
            <a:off x="1600200" y="556272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4560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000000"/>
                </a:solidFill>
                <a:latin typeface="Arial"/>
                <a:ea typeface="標楷體"/>
              </a:rPr>
              <a:t>垃圾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863000">
            <a:off x="3492000" y="2429280"/>
            <a:ext cx="4257720" cy="23799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0" spc="-1" strike="noStrike">
                <a:solidFill>
                  <a:srgbClr val="ff0000"/>
                </a:solidFill>
                <a:latin typeface="Tahoma"/>
                <a:ea typeface="標楷體"/>
              </a:rPr>
              <a:t>分類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429000" y="5867280"/>
            <a:ext cx="4038120" cy="830520"/>
            <a:chOff x="3429000" y="5867280"/>
            <a:chExt cx="4038120" cy="830520"/>
          </a:xfrm>
        </p:grpSpPr>
        <p:sp>
          <p:nvSpPr>
            <p:cNvPr id="107" name=""/>
            <p:cNvSpPr/>
            <p:nvPr/>
          </p:nvSpPr>
          <p:spPr>
            <a:xfrm>
              <a:off x="4390560" y="5867280"/>
              <a:ext cx="307656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961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" name="doraemon1" descr=""/>
          <p:cNvPicPr/>
          <p:nvPr/>
        </p:nvPicPr>
        <p:blipFill>
          <a:blip r:embed="rId2"/>
          <a:stretch/>
        </p:blipFill>
        <p:spPr>
          <a:xfrm>
            <a:off x="2438280" y="548640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92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76000"/>
          </a:bodyPr>
          <a:p>
            <a:pPr marL="260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資源回收分類項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1905120"/>
            <a:ext cx="936720" cy="3504960"/>
          </a:xfrm>
          <a:custGeom>
            <a:avLst/>
            <a:gdLst>
              <a:gd name="textAreaLeft" fmla="*/ 598680 w 936720"/>
              <a:gd name="textAreaRight" fmla="*/ 937080 w 936720"/>
              <a:gd name="textAreaTop" fmla="*/ 91080 h 3504960"/>
              <a:gd name="textAreaBottom" fmla="*/ 341388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981080" y="1905120"/>
            <a:ext cx="6781680" cy="3567960"/>
            <a:chOff x="1981080" y="1905120"/>
            <a:chExt cx="6781680" cy="3567960"/>
          </a:xfrm>
        </p:grpSpPr>
        <p:sp>
          <p:nvSpPr>
            <p:cNvPr id="114" name=""/>
            <p:cNvSpPr/>
            <p:nvPr/>
          </p:nvSpPr>
          <p:spPr>
            <a:xfrm>
              <a:off x="4419360" y="2590560"/>
              <a:ext cx="201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紙　類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3276360"/>
              <a:ext cx="201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保特瓶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81080" y="3962160"/>
              <a:ext cx="201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塑膠類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19360" y="3276360"/>
              <a:ext cx="3962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玻璃瓶、燈管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90760" y="2136600"/>
              <a:ext cx="0" cy="32731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19360" y="3962160"/>
              <a:ext cx="4343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廢電池、光碟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81080" y="1905120"/>
              <a:ext cx="201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鐵   罐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57040" y="4647960"/>
              <a:ext cx="2016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塑膠瓶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19360" y="1905120"/>
              <a:ext cx="201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鋁箔包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81080" y="2590560"/>
              <a:ext cx="201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8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鋁   罐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429000" y="5867280"/>
            <a:ext cx="4114080" cy="830520"/>
            <a:chOff x="3429000" y="5867280"/>
            <a:chExt cx="4114080" cy="830520"/>
          </a:xfrm>
        </p:grpSpPr>
        <p:sp>
          <p:nvSpPr>
            <p:cNvPr id="125" name=""/>
            <p:cNvSpPr/>
            <p:nvPr/>
          </p:nvSpPr>
          <p:spPr>
            <a:xfrm>
              <a:off x="4408560" y="5867280"/>
              <a:ext cx="313452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979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" name="doraemon1" descr=""/>
          <p:cNvPicPr/>
          <p:nvPr/>
        </p:nvPicPr>
        <p:blipFill>
          <a:blip r:embed="rId2"/>
          <a:stretch/>
        </p:blipFill>
        <p:spPr>
          <a:xfrm>
            <a:off x="152280" y="5638680"/>
            <a:ext cx="898560" cy="104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440" y="1905120"/>
            <a:ext cx="716292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注意：鐵罐、鋁罐</a:t>
            </a:r>
            <a:r>
              <a:rPr b="0" lang="zh-TW" sz="4000" spc="-1" strike="noStrike">
                <a:solidFill>
                  <a:srgbClr val="ff0000"/>
                </a:solidFill>
                <a:latin typeface="Tahoma"/>
                <a:ea typeface="標楷體"/>
              </a:rPr>
              <a:t>要分開回收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83840" y="2496600"/>
            <a:ext cx="72900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集中回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297440" y="2184840"/>
            <a:ext cx="3929400" cy="3485160"/>
            <a:chOff x="1297440" y="2184840"/>
            <a:chExt cx="3929400" cy="3485160"/>
          </a:xfrm>
        </p:grpSpPr>
        <p:sp>
          <p:nvSpPr>
            <p:cNvPr id="131" name=""/>
            <p:cNvSpPr/>
            <p:nvPr/>
          </p:nvSpPr>
          <p:spPr>
            <a:xfrm>
              <a:off x="1297440" y="2567880"/>
              <a:ext cx="72900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略為沖洗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81800" y="2734200"/>
              <a:ext cx="729000" cy="16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陰乾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97840" y="2184840"/>
              <a:ext cx="729000" cy="348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鋁罐：壓扁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87640" y="368784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43280" y="368784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172200" y="373392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429000" y="5867280"/>
            <a:ext cx="3962160" cy="830520"/>
            <a:chOff x="3429000" y="5867280"/>
            <a:chExt cx="3962160" cy="830520"/>
          </a:xfrm>
        </p:grpSpPr>
        <p:sp>
          <p:nvSpPr>
            <p:cNvPr id="139" name=""/>
            <p:cNvSpPr/>
            <p:nvPr/>
          </p:nvSpPr>
          <p:spPr>
            <a:xfrm>
              <a:off x="4372560" y="5867280"/>
              <a:ext cx="30186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943560" cy="7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"/>
          <p:cNvSpPr/>
          <p:nvPr/>
        </p:nvSpPr>
        <p:spPr>
          <a:xfrm>
            <a:off x="5183640" y="2054520"/>
            <a:ext cx="7290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鐵罐：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不須壓扁</a:t>
            </a: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doraemon1" descr=""/>
          <p:cNvPicPr/>
          <p:nvPr/>
        </p:nvPicPr>
        <p:blipFill>
          <a:blip r:embed="rId2"/>
          <a:stretch/>
        </p:blipFill>
        <p:spPr>
          <a:xfrm>
            <a:off x="914400" y="556272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68580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0000"/>
                </a:solidFill>
                <a:latin typeface="Arial"/>
                <a:ea typeface="標楷體"/>
              </a:rPr>
              <a:t>保特瓶</a:t>
            </a:r>
            <a:r>
              <a:rPr b="0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(</a:t>
            </a:r>
            <a:r>
              <a:rPr b="0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底部有凹槽的瓶罐</a:t>
            </a:r>
            <a:r>
              <a:rPr b="0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插圖"/>
          <p:cNvPicPr/>
          <p:nvPr/>
        </p:nvPicPr>
        <p:blipFill>
          <a:blip r:embed="rId1"/>
          <a:stretch/>
        </p:blipFill>
        <p:spPr>
          <a:xfrm>
            <a:off x="762120" y="3809880"/>
            <a:ext cx="1447560" cy="1600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插圖"/>
          <p:cNvPicPr/>
          <p:nvPr/>
        </p:nvPicPr>
        <p:blipFill>
          <a:blip r:embed="rId2"/>
          <a:stretch/>
        </p:blipFill>
        <p:spPr>
          <a:xfrm>
            <a:off x="3809880" y="3962520"/>
            <a:ext cx="1524240" cy="1447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插圖"/>
          <p:cNvPicPr/>
          <p:nvPr/>
        </p:nvPicPr>
        <p:blipFill>
          <a:blip r:embed="rId3"/>
          <a:stretch/>
        </p:blipFill>
        <p:spPr>
          <a:xfrm>
            <a:off x="5867280" y="3657600"/>
            <a:ext cx="1663920" cy="17319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689840" y="5333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沖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80760" y="5333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壓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75440" y="53334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分類回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411800">
            <a:off x="2230200" y="4655880"/>
            <a:ext cx="1814400" cy="533160"/>
          </a:xfrm>
          <a:custGeom>
            <a:avLst/>
            <a:gdLst>
              <a:gd name="textAreaLeft" fmla="*/ 317520 w 1814400"/>
              <a:gd name="textAreaRight" fmla="*/ 1315440 w 18144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 rot="20166000">
            <a:off x="5181120" y="3124080"/>
            <a:ext cx="1327320" cy="709560"/>
          </a:xfrm>
          <a:custGeom>
            <a:avLst/>
            <a:gdLst>
              <a:gd name="textAreaLeft" fmla="*/ 232200 w 1327320"/>
              <a:gd name="textAreaRight" fmla="*/ 962280 w 1327320"/>
              <a:gd name="textAreaTop" fmla="*/ 95040 h 709560"/>
              <a:gd name="textAreaBottom" fmla="*/ 614520 h 70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7432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瓶蓋旋開丟棄一般垃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429000" y="5867280"/>
            <a:ext cx="3962160" cy="830520"/>
            <a:chOff x="3429000" y="5867280"/>
            <a:chExt cx="3962160" cy="830520"/>
          </a:xfrm>
        </p:grpSpPr>
        <p:sp>
          <p:nvSpPr>
            <p:cNvPr id="155" name=""/>
            <p:cNvSpPr/>
            <p:nvPr/>
          </p:nvSpPr>
          <p:spPr>
            <a:xfrm>
              <a:off x="4372560" y="5867280"/>
              <a:ext cx="301860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3429000" y="5943600"/>
              <a:ext cx="943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7" name="doraemon1" descr=""/>
          <p:cNvPicPr/>
          <p:nvPr/>
        </p:nvPicPr>
        <p:blipFill>
          <a:blip r:embed="rId5"/>
          <a:stretch/>
        </p:blipFill>
        <p:spPr>
          <a:xfrm>
            <a:off x="1600200" y="574200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77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5" dur="770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7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9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61760" y="1988640"/>
            <a:ext cx="57150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0000"/>
                </a:solidFill>
                <a:latin typeface="Arial"/>
                <a:ea typeface="標楷體"/>
              </a:rPr>
              <a:t>塑膠容器類─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插圖"/>
          <p:cNvPicPr/>
          <p:nvPr/>
        </p:nvPicPr>
        <p:blipFill>
          <a:blip r:embed="rId1"/>
          <a:stretch/>
        </p:blipFill>
        <p:spPr>
          <a:xfrm>
            <a:off x="3733920" y="2895480"/>
            <a:ext cx="1752480" cy="18288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4267080" y="47998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壓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429000" y="5867280"/>
            <a:ext cx="4114080" cy="830520"/>
            <a:chOff x="3429000" y="5867280"/>
            <a:chExt cx="4114080" cy="830520"/>
          </a:xfrm>
        </p:grpSpPr>
        <p:sp>
          <p:nvSpPr>
            <p:cNvPr id="163" name=""/>
            <p:cNvSpPr/>
            <p:nvPr/>
          </p:nvSpPr>
          <p:spPr>
            <a:xfrm>
              <a:off x="4408560" y="5867280"/>
              <a:ext cx="313452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3429000" y="5943600"/>
              <a:ext cx="979560" cy="7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5" name="doraemon1" descr=""/>
          <p:cNvPicPr/>
          <p:nvPr/>
        </p:nvPicPr>
        <p:blipFill>
          <a:blip r:embed="rId3"/>
          <a:stretch/>
        </p:blipFill>
        <p:spPr>
          <a:xfrm>
            <a:off x="2438280" y="556272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67816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0000"/>
                </a:solidFill>
                <a:latin typeface="Arial"/>
                <a:ea typeface="標楷體"/>
              </a:rPr>
              <a:t>塑膠瓶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(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底部平整，如優酪乳瓶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                  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養樂多、豆花盒、布丁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                  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等，皆屬此類。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◆ </a:t>
            </a:r>
            <a:r>
              <a:rPr b="1" lang="zh-TW" sz="6000" spc="-1" strike="noStrike">
                <a:solidFill>
                  <a:srgbClr val="761e1e"/>
                </a:solidFill>
                <a:latin typeface="標楷體"/>
                <a:ea typeface="標楷體"/>
              </a:rPr>
              <a:t>要如何資源回收？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429000" y="5867280"/>
            <a:ext cx="4038120" cy="830520"/>
            <a:chOff x="3429000" y="5867280"/>
            <a:chExt cx="4038120" cy="830520"/>
          </a:xfrm>
        </p:grpSpPr>
        <p:sp>
          <p:nvSpPr>
            <p:cNvPr id="169" name=""/>
            <p:cNvSpPr/>
            <p:nvPr/>
          </p:nvSpPr>
          <p:spPr>
            <a:xfrm>
              <a:off x="4390560" y="5867280"/>
              <a:ext cx="307656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興國國小衛生組資源回收</a:t>
              </a:r>
              <a:br>
                <a:rPr sz="2000"/>
              </a:br>
              <a:r>
                <a:rPr b="1" lang="zh-TW" sz="2000" spc="-1" strike="noStrike">
                  <a:solidFill>
                    <a:srgbClr val="009900"/>
                  </a:solidFill>
                  <a:latin typeface="標楷體"/>
                  <a:ea typeface="標楷體"/>
                </a:rPr>
                <a:t>   宣 導 簡 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3429000" y="5943600"/>
              <a:ext cx="961560" cy="7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"/>
          <p:cNvSpPr/>
          <p:nvPr/>
        </p:nvSpPr>
        <p:spPr>
          <a:xfrm>
            <a:off x="1526040" y="3576960"/>
            <a:ext cx="72900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喝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73600" y="2906640"/>
            <a:ext cx="66780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取出湯匙吸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88560" y="3653280"/>
            <a:ext cx="72900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洗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0" y="441972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8320" y="441972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35720" y="4332240"/>
            <a:ext cx="667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丟至一般垃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doraemon1" descr=""/>
          <p:cNvPicPr/>
          <p:nvPr/>
        </p:nvPicPr>
        <p:blipFill>
          <a:blip r:embed="rId2"/>
          <a:stretch/>
        </p:blipFill>
        <p:spPr>
          <a:xfrm>
            <a:off x="152280" y="5486400"/>
            <a:ext cx="9637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1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13:03:51Z</dcterms:created>
  <dc:creator>Utux</dc:creator>
  <dc:description/>
  <dc:language>en-US</dc:language>
  <cp:lastModifiedBy>stanley</cp:lastModifiedBy>
  <dcterms:modified xsi:type="dcterms:W3CDTF">2005-09-21T15:59:00Z</dcterms:modified>
  <cp:revision>68</cp:revision>
  <dc:subject/>
  <dc:title>德武國小 資源回收課程</dc:title>
</cp:coreProperties>
</file>